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E67-03EB-4B24-B72D-153B35CD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375-9350-44D3-B420-698DBE7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A6D-1B3F-43C8-A474-6101E835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756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740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756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740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A2C-2FE8-41FB-9762-5806D4F7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D2E9-44D9-400D-A5B1-E678374D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B4C3-5E2F-4CF5-94DB-71FFDDA7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5C8-42A4-4534-A096-C674CD9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D277-EC40-4121-8AC1-37D98B0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B5A0-5F43-4D5E-AFA8-28C425B1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9250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D35E-77AE-4CAF-8ABB-9EFAF5A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B48E-97A7-4F3D-B6CB-241F43C5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273-BF15-48AD-A513-70A24309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5CC-D922-4A1F-9726-3DB8910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5B5-28E3-491A-8259-D87AA10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3EC4-58D7-4C24-B14E-AB9BCB00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CD14-0790-46E4-BB95-A3553750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756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7400" y="18284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756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7400" y="41371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9F0-E7BA-4E8E-B880-319EC05B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1F6-F6F4-4B68-AD16-630E6440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20D-B27F-4A7C-B152-CE82599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08F-43EA-4AB8-BEA2-4FAB519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92504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1C0-750C-41E7-B6DA-06DC8F0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889-6BE8-4BA7-9F99-EC1B6350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41371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328-A958-4256-B4B7-2AE0A745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8284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965-480A-4A32-B6F7-FA0A1FA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0"/>
            <a:ext cx="609840" cy="6858000"/>
          </a:xfrm>
          <a:custGeom>
            <a:avLst/>
            <a:gdLst/>
            <a:ahLst/>
            <a:rect l="l" t="t" r="r" b="b"/>
            <a:pathLst>
              <a:path w="491" h="4305">
                <a:moveTo>
                  <a:pt x="0" y="0"/>
                </a:moveTo>
                <a:lnTo>
                  <a:pt x="0" y="4304"/>
                </a:lnTo>
                <a:lnTo>
                  <a:pt x="163" y="4304"/>
                </a:lnTo>
                <a:lnTo>
                  <a:pt x="163" y="0"/>
                </a:lnTo>
                <a:lnTo>
                  <a:pt x="327" y="0"/>
                </a:lnTo>
                <a:lnTo>
                  <a:pt x="327" y="4304"/>
                </a:lnTo>
                <a:lnTo>
                  <a:pt x="490" y="4304"/>
                </a:lnTo>
                <a:lnTo>
                  <a:pt x="490" y="0"/>
                </a:lnTo>
                <a:lnTo>
                  <a:pt x="490" y="148"/>
                </a:lnTo>
                <a:lnTo>
                  <a:pt x="0" y="148"/>
                </a:lnTo>
                <a:lnTo>
                  <a:pt x="0" y="297"/>
                </a:lnTo>
                <a:lnTo>
                  <a:pt x="490" y="297"/>
                </a:lnTo>
                <a:lnTo>
                  <a:pt x="490" y="445"/>
                </a:lnTo>
                <a:lnTo>
                  <a:pt x="0" y="445"/>
                </a:lnTo>
                <a:lnTo>
                  <a:pt x="0" y="594"/>
                </a:lnTo>
                <a:lnTo>
                  <a:pt x="490" y="594"/>
                </a:lnTo>
                <a:lnTo>
                  <a:pt x="490" y="742"/>
                </a:lnTo>
                <a:lnTo>
                  <a:pt x="0" y="742"/>
                </a:lnTo>
                <a:lnTo>
                  <a:pt x="0" y="890"/>
                </a:lnTo>
                <a:lnTo>
                  <a:pt x="490" y="890"/>
                </a:lnTo>
                <a:lnTo>
                  <a:pt x="490" y="1039"/>
                </a:lnTo>
                <a:lnTo>
                  <a:pt x="0" y="1039"/>
                </a:lnTo>
                <a:lnTo>
                  <a:pt x="0" y="1187"/>
                </a:lnTo>
                <a:lnTo>
                  <a:pt x="490" y="1187"/>
                </a:lnTo>
                <a:lnTo>
                  <a:pt x="490" y="1336"/>
                </a:lnTo>
                <a:lnTo>
                  <a:pt x="0" y="1336"/>
                </a:lnTo>
                <a:lnTo>
                  <a:pt x="0" y="1484"/>
                </a:lnTo>
                <a:lnTo>
                  <a:pt x="490" y="1484"/>
                </a:lnTo>
                <a:lnTo>
                  <a:pt x="490" y="1633"/>
                </a:lnTo>
                <a:lnTo>
                  <a:pt x="0" y="1633"/>
                </a:lnTo>
                <a:lnTo>
                  <a:pt x="0" y="1781"/>
                </a:lnTo>
                <a:lnTo>
                  <a:pt x="490" y="1781"/>
                </a:lnTo>
                <a:lnTo>
                  <a:pt x="490" y="1929"/>
                </a:lnTo>
                <a:lnTo>
                  <a:pt x="0" y="1929"/>
                </a:lnTo>
                <a:lnTo>
                  <a:pt x="0" y="2078"/>
                </a:lnTo>
                <a:lnTo>
                  <a:pt x="490" y="2078"/>
                </a:lnTo>
                <a:lnTo>
                  <a:pt x="490" y="2226"/>
                </a:lnTo>
                <a:lnTo>
                  <a:pt x="0" y="2226"/>
                </a:lnTo>
                <a:lnTo>
                  <a:pt x="0" y="2375"/>
                </a:lnTo>
                <a:lnTo>
                  <a:pt x="490" y="2375"/>
                </a:lnTo>
                <a:lnTo>
                  <a:pt x="490" y="2523"/>
                </a:lnTo>
                <a:lnTo>
                  <a:pt x="0" y="2523"/>
                </a:lnTo>
                <a:lnTo>
                  <a:pt x="0" y="2671"/>
                </a:lnTo>
                <a:lnTo>
                  <a:pt x="490" y="2671"/>
                </a:lnTo>
                <a:lnTo>
                  <a:pt x="490" y="2820"/>
                </a:lnTo>
                <a:lnTo>
                  <a:pt x="0" y="2820"/>
                </a:lnTo>
                <a:lnTo>
                  <a:pt x="0" y="2968"/>
                </a:lnTo>
                <a:lnTo>
                  <a:pt x="490" y="2968"/>
                </a:lnTo>
                <a:lnTo>
                  <a:pt x="490" y="3117"/>
                </a:lnTo>
                <a:lnTo>
                  <a:pt x="0" y="3117"/>
                </a:lnTo>
                <a:lnTo>
                  <a:pt x="0" y="3265"/>
                </a:lnTo>
                <a:lnTo>
                  <a:pt x="490" y="3265"/>
                </a:lnTo>
                <a:lnTo>
                  <a:pt x="490" y="3414"/>
                </a:lnTo>
                <a:lnTo>
                  <a:pt x="0" y="3414"/>
                </a:lnTo>
                <a:lnTo>
                  <a:pt x="0" y="3562"/>
                </a:lnTo>
                <a:lnTo>
                  <a:pt x="490" y="3562"/>
                </a:lnTo>
                <a:lnTo>
                  <a:pt x="490" y="3710"/>
                </a:lnTo>
                <a:lnTo>
                  <a:pt x="0" y="3710"/>
                </a:lnTo>
                <a:lnTo>
                  <a:pt x="0" y="3859"/>
                </a:lnTo>
                <a:lnTo>
                  <a:pt x="490" y="3859"/>
                </a:lnTo>
                <a:lnTo>
                  <a:pt x="490" y="4007"/>
                </a:lnTo>
                <a:lnTo>
                  <a:pt x="0" y="4007"/>
                </a:lnTo>
                <a:lnTo>
                  <a:pt x="0" y="4156"/>
                </a:lnTo>
                <a:lnTo>
                  <a:pt x="490" y="4156"/>
                </a:lnTo>
                <a:lnTo>
                  <a:pt x="490" y="4304"/>
                </a:lnTo>
                <a:lnTo>
                  <a:pt x="0" y="4304"/>
                </a:lnTo>
                <a:lnTo>
                  <a:pt x="0" y="4304"/>
                </a:lnTo>
                <a:lnTo>
                  <a:pt x="490" y="4304"/>
                </a:lnTo>
                <a:lnTo>
                  <a:pt x="49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0"/>
            <a:ext cx="609840" cy="6834240"/>
          </a:xfrm>
          <a:custGeom>
            <a:avLst/>
            <a:gdLst/>
            <a:ahLst/>
            <a:rect l="l" t="t" r="r" b="b"/>
            <a:pathLst>
              <a:path w="491" h="4305">
                <a:moveTo>
                  <a:pt x="0" y="0"/>
                </a:moveTo>
                <a:lnTo>
                  <a:pt x="0" y="4304"/>
                </a:lnTo>
                <a:lnTo>
                  <a:pt x="163" y="4304"/>
                </a:lnTo>
                <a:lnTo>
                  <a:pt x="163" y="0"/>
                </a:lnTo>
                <a:lnTo>
                  <a:pt x="327" y="0"/>
                </a:lnTo>
                <a:lnTo>
                  <a:pt x="327" y="4304"/>
                </a:lnTo>
                <a:lnTo>
                  <a:pt x="490" y="4304"/>
                </a:lnTo>
                <a:lnTo>
                  <a:pt x="490" y="0"/>
                </a:lnTo>
                <a:lnTo>
                  <a:pt x="490" y="148"/>
                </a:lnTo>
                <a:lnTo>
                  <a:pt x="0" y="148"/>
                </a:lnTo>
                <a:lnTo>
                  <a:pt x="0" y="297"/>
                </a:lnTo>
                <a:lnTo>
                  <a:pt x="490" y="297"/>
                </a:lnTo>
                <a:lnTo>
                  <a:pt x="490" y="445"/>
                </a:lnTo>
                <a:lnTo>
                  <a:pt x="0" y="445"/>
                </a:lnTo>
                <a:lnTo>
                  <a:pt x="0" y="594"/>
                </a:lnTo>
                <a:lnTo>
                  <a:pt x="490" y="594"/>
                </a:lnTo>
                <a:lnTo>
                  <a:pt x="490" y="742"/>
                </a:lnTo>
                <a:lnTo>
                  <a:pt x="0" y="742"/>
                </a:lnTo>
                <a:lnTo>
                  <a:pt x="0" y="890"/>
                </a:lnTo>
                <a:lnTo>
                  <a:pt x="490" y="890"/>
                </a:lnTo>
                <a:lnTo>
                  <a:pt x="490" y="1039"/>
                </a:lnTo>
                <a:lnTo>
                  <a:pt x="0" y="1039"/>
                </a:lnTo>
                <a:lnTo>
                  <a:pt x="0" y="1187"/>
                </a:lnTo>
                <a:lnTo>
                  <a:pt x="490" y="1187"/>
                </a:lnTo>
                <a:lnTo>
                  <a:pt x="490" y="1336"/>
                </a:lnTo>
                <a:lnTo>
                  <a:pt x="0" y="1336"/>
                </a:lnTo>
                <a:lnTo>
                  <a:pt x="0" y="1484"/>
                </a:lnTo>
                <a:lnTo>
                  <a:pt x="490" y="1484"/>
                </a:lnTo>
                <a:lnTo>
                  <a:pt x="490" y="1633"/>
                </a:lnTo>
                <a:lnTo>
                  <a:pt x="0" y="1633"/>
                </a:lnTo>
                <a:lnTo>
                  <a:pt x="0" y="1781"/>
                </a:lnTo>
                <a:lnTo>
                  <a:pt x="490" y="1781"/>
                </a:lnTo>
                <a:lnTo>
                  <a:pt x="490" y="1929"/>
                </a:lnTo>
                <a:lnTo>
                  <a:pt x="0" y="1929"/>
                </a:lnTo>
                <a:lnTo>
                  <a:pt x="0" y="2078"/>
                </a:lnTo>
                <a:lnTo>
                  <a:pt x="490" y="2078"/>
                </a:lnTo>
                <a:lnTo>
                  <a:pt x="490" y="2226"/>
                </a:lnTo>
                <a:lnTo>
                  <a:pt x="0" y="2226"/>
                </a:lnTo>
                <a:lnTo>
                  <a:pt x="0" y="2375"/>
                </a:lnTo>
                <a:lnTo>
                  <a:pt x="490" y="2375"/>
                </a:lnTo>
                <a:lnTo>
                  <a:pt x="490" y="2523"/>
                </a:lnTo>
                <a:lnTo>
                  <a:pt x="0" y="2523"/>
                </a:lnTo>
                <a:lnTo>
                  <a:pt x="0" y="2671"/>
                </a:lnTo>
                <a:lnTo>
                  <a:pt x="490" y="2671"/>
                </a:lnTo>
                <a:lnTo>
                  <a:pt x="490" y="2820"/>
                </a:lnTo>
                <a:lnTo>
                  <a:pt x="0" y="2820"/>
                </a:lnTo>
                <a:lnTo>
                  <a:pt x="0" y="2968"/>
                </a:lnTo>
                <a:lnTo>
                  <a:pt x="490" y="2968"/>
                </a:lnTo>
                <a:lnTo>
                  <a:pt x="490" y="3117"/>
                </a:lnTo>
                <a:lnTo>
                  <a:pt x="0" y="3117"/>
                </a:lnTo>
                <a:lnTo>
                  <a:pt x="0" y="3265"/>
                </a:lnTo>
                <a:lnTo>
                  <a:pt x="490" y="3265"/>
                </a:lnTo>
                <a:lnTo>
                  <a:pt x="490" y="3414"/>
                </a:lnTo>
                <a:lnTo>
                  <a:pt x="0" y="3414"/>
                </a:lnTo>
                <a:lnTo>
                  <a:pt x="0" y="3562"/>
                </a:lnTo>
                <a:lnTo>
                  <a:pt x="490" y="3562"/>
                </a:lnTo>
                <a:lnTo>
                  <a:pt x="490" y="3710"/>
                </a:lnTo>
                <a:lnTo>
                  <a:pt x="0" y="3710"/>
                </a:lnTo>
                <a:lnTo>
                  <a:pt x="0" y="3859"/>
                </a:lnTo>
                <a:lnTo>
                  <a:pt x="490" y="3859"/>
                </a:lnTo>
                <a:lnTo>
                  <a:pt x="490" y="4007"/>
                </a:lnTo>
                <a:lnTo>
                  <a:pt x="0" y="4007"/>
                </a:lnTo>
                <a:lnTo>
                  <a:pt x="0" y="4156"/>
                </a:lnTo>
                <a:lnTo>
                  <a:pt x="490" y="4156"/>
                </a:lnTo>
                <a:lnTo>
                  <a:pt x="490" y="4304"/>
                </a:lnTo>
                <a:lnTo>
                  <a:pt x="0" y="4304"/>
                </a:lnTo>
                <a:lnTo>
                  <a:pt x="0" y="4304"/>
                </a:lnTo>
                <a:lnTo>
                  <a:pt x="490" y="4304"/>
                </a:lnTo>
                <a:lnTo>
                  <a:pt x="49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 the Cost of Fault-Tolerant Consensu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here are no Fa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it Keidar &amp; Sergio Rajsba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rs in SIGACT News; I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C9C8-9A36-4A04-9067-3EE0C0F91B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Appro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ll-behav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s arrive within known tim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in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n algorithms decide in 2 rounds of communication in well-behaved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ime when maximum delay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xos [Lam98]; atomic commit [KD98]; failure detectors [Sch97,MR97]; atomic broadcast [KD96];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2CE-7757-42A3-87DA-8740B392AF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are there no 1-Round Algorithm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show a lower bound of 2 communication rou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s from similar boun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iform Consens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synchronou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EE7-56BA-434A-B88D-39E3750550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for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iform agre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wo processes that decide, decide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l: with consensus, onl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cesses have to ag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hronous lower bound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ounds [CBS00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pposed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cons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FEF-935C-4B48-946C-FF40403186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m Consensu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Uniform 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artial synchrony model, any algorith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consensus solves uniform consensus [Gue95, Gue98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by contradiction th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 not solve uniform cons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ome run, p,q decide differently, p f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may be non-faulty, and may wake up after q dec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990-1343-4183-B29F-74B8384FCD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ing the Low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now show a synchronous 2 round lower bound for uniform consensus in runs with no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es 2 round lower bound for well-behaved executions in partial synchron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algorithm for consensus solves uniform consensus (previous sl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6B7-43B6-459D-956E-0C18FA5648A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orem: Uniform Consensu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lure-Free Low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&gt;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&gt;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here is a failure-free run in which not all processes decide after one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D44-026C-4AA3-B6A4-7169717349D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c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determined by initial values and adversary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ures, message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lobal) state = list of values in processes’ local states (data structu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EB7-02A4-4A9F-BEDC-9A8252316E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nectiv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, x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milar, </a:t>
            </a: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x~x’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y look the same to all but at most one correc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, set of initial states of consensus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uition: in connected states there cannot be different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66880" y="4191120"/>
            <a:ext cx="3962520" cy="380880"/>
            <a:chOff x="2666880" y="4191120"/>
            <a:chExt cx="3962520" cy="380880"/>
          </a:xfrm>
        </p:grpSpPr>
        <p:sp>
          <p:nvSpPr>
            <p:cNvPr id="122" name=""/>
            <p:cNvSpPr/>
            <p:nvPr/>
          </p:nvSpPr>
          <p:spPr>
            <a:xfrm>
              <a:off x="2666880" y="4191120"/>
              <a:ext cx="76212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4191120"/>
              <a:ext cx="76176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00</a:t>
              </a: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4191120"/>
              <a:ext cx="76212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91120"/>
              <a:ext cx="76212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0080" y="4191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84160" y="4191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3800" y="41911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3BA-2D98-44D3-9434-BDC49039C14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potencial decisions state can lead to [FLP85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decision of correct processes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ilure-f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tens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33D-589A-4A5D-BAE7-D05B0935C1E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orem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434340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, by contradiction, in failure-free run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, x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ll decide in 1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28800" y="2438280"/>
            <a:ext cx="5562720" cy="1676520"/>
            <a:chOff x="1828800" y="2438280"/>
            <a:chExt cx="5562720" cy="1676520"/>
          </a:xfrm>
        </p:grpSpPr>
        <p:sp>
          <p:nvSpPr>
            <p:cNvPr id="134" name=""/>
            <p:cNvSpPr/>
            <p:nvPr/>
          </p:nvSpPr>
          <p:spPr>
            <a:xfrm>
              <a:off x="4800600" y="2514600"/>
              <a:ext cx="762120" cy="380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2514600"/>
              <a:ext cx="762120" cy="380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2680" y="3200400"/>
              <a:ext cx="3733920" cy="914400"/>
            </a:xfrm>
            <a:prstGeom prst="wedgeEllipseCallout">
              <a:avLst>
                <a:gd name="adj1" fmla="val -17986"/>
                <a:gd name="adj2" fmla="val -885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ffer only in state of some correct 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2514600"/>
              <a:ext cx="762120" cy="380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2514600"/>
              <a:ext cx="762120" cy="3808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20960" y="2438280"/>
              <a:ext cx="90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~…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8800" y="243828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243828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64160" y="2438280"/>
              <a:ext cx="90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~…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62920" y="243828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84240" y="150804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ph of initial st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2514600"/>
            <a:ext cx="8077320" cy="1600200"/>
            <a:chOff x="914400" y="2514600"/>
            <a:chExt cx="8077320" cy="1600200"/>
          </a:xfrm>
        </p:grpSpPr>
        <p:sp>
          <p:nvSpPr>
            <p:cNvPr id="146" name=""/>
            <p:cNvSpPr/>
            <p:nvPr/>
          </p:nvSpPr>
          <p:spPr>
            <a:xfrm>
              <a:off x="990720" y="2514600"/>
              <a:ext cx="761760" cy="3808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…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2514600"/>
              <a:ext cx="762120" cy="380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..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3276720"/>
              <a:ext cx="1752480" cy="761760"/>
            </a:xfrm>
            <a:prstGeom prst="wedgeEllipseCallout">
              <a:avLst>
                <a:gd name="adj1" fmla="val -33425"/>
                <a:gd name="adj2" fmla="val -10125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y validity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al=</a:t>
              </a:r>
              <a:r>
                <a:rPr b="1" lang="en-US" sz="2000" spc="-1" strike="noStrike">
                  <a:solidFill>
                    <a:srgbClr val="66ff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3352680"/>
              <a:ext cx="1752840" cy="762120"/>
            </a:xfrm>
            <a:prstGeom prst="wedgeEllipseCallout">
              <a:avLst>
                <a:gd name="adj1" fmla="val -16032"/>
                <a:gd name="adj2" fmla="val -10125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y validity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al=</a:t>
              </a:r>
              <a:r>
                <a:rPr b="1" lang="en-US" sz="2000" spc="-1" strike="noStrike">
                  <a:solidFill>
                    <a:srgbClr val="ff00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D78-7AF3-4543-8FA7-258528C80695}" type="slidenum">
              <a:t>19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process has input, outputs de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gre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w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cesses that decide, decide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lid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ecision is input of on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rmin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ventually all correct processes dec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ary consensus - values 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D2D-DAE5-4638-95E9-FB381D931C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llustrating the Contradic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34120" y="3505320"/>
            <a:ext cx="3276360" cy="1143000"/>
            <a:chOff x="5334120" y="3505320"/>
            <a:chExt cx="3276360" cy="1143000"/>
          </a:xfrm>
        </p:grpSpPr>
        <p:sp>
          <p:nvSpPr>
            <p:cNvPr id="154" name=""/>
            <p:cNvSpPr/>
            <p:nvPr/>
          </p:nvSpPr>
          <p:spPr>
            <a:xfrm flipH="1">
              <a:off x="8152920" y="3505320"/>
              <a:ext cx="22860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248160" y="3505320"/>
              <a:ext cx="15228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41911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2720" y="42670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42670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72200" y="426708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41911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42670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48720" y="42670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3280" y="426708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19720" y="5257800"/>
            <a:ext cx="2394000" cy="457200"/>
            <a:chOff x="4419720" y="5257800"/>
            <a:chExt cx="2394000" cy="457200"/>
          </a:xfrm>
        </p:grpSpPr>
        <p:sp>
          <p:nvSpPr>
            <p:cNvPr id="165" name=""/>
            <p:cNvSpPr/>
            <p:nvPr/>
          </p:nvSpPr>
          <p:spPr>
            <a:xfrm>
              <a:off x="4419720" y="5257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5257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050560" y="601992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contradiction to uniform agreeme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523880" y="2514600"/>
            <a:ext cx="3276720" cy="1066680"/>
            <a:chOff x="1523880" y="2514600"/>
            <a:chExt cx="3276720" cy="1066680"/>
          </a:xfrm>
        </p:grpSpPr>
        <p:sp>
          <p:nvSpPr>
            <p:cNvPr id="171" name=""/>
            <p:cNvSpPr/>
            <p:nvPr/>
          </p:nvSpPr>
          <p:spPr>
            <a:xfrm>
              <a:off x="15238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5740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512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392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4340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62120" y="4419720"/>
            <a:ext cx="3124080" cy="990360"/>
          </a:xfrm>
          <a:prstGeom prst="wedgeRoundRectCallout">
            <a:avLst>
              <a:gd name="adj1" fmla="val 5638"/>
              <a:gd name="adj2" fmla="val -131569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al(x)=</a:t>
            </a: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ads to decision </a:t>
            </a: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one failure-free 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5257800"/>
            <a:ext cx="4114800" cy="457200"/>
          </a:xfrm>
          <a:prstGeom prst="wedgeRoundRectCallout">
            <a:avLst>
              <a:gd name="adj1" fmla="val 12152"/>
              <a:gd name="adj2" fmla="val -218402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the same to proces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33720" y="3581280"/>
            <a:ext cx="3124080" cy="1219320"/>
            <a:chOff x="2133720" y="3581280"/>
            <a:chExt cx="3124080" cy="1219320"/>
          </a:xfrm>
        </p:grpSpPr>
        <p:sp>
          <p:nvSpPr>
            <p:cNvPr id="186" name=""/>
            <p:cNvSpPr/>
            <p:nvPr/>
          </p:nvSpPr>
          <p:spPr>
            <a:xfrm>
              <a:off x="2133720" y="4343400"/>
              <a:ext cx="3124080" cy="457200"/>
            </a:xfrm>
            <a:prstGeom prst="wedgeRoundRectCallout">
              <a:avLst>
                <a:gd name="adj1" fmla="val 53504"/>
                <a:gd name="adj2" fmla="val -262152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ok the same to process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0920" y="3581280"/>
              <a:ext cx="9903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90920" y="3581280"/>
              <a:ext cx="38088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20400" y="1676520"/>
            <a:ext cx="3756600" cy="916920"/>
            <a:chOff x="1220400" y="1676520"/>
            <a:chExt cx="3756600" cy="916920"/>
          </a:xfrm>
        </p:grpSpPr>
        <p:sp>
          <p:nvSpPr>
            <p:cNvPr id="190" name=""/>
            <p:cNvSpPr/>
            <p:nvPr/>
          </p:nvSpPr>
          <p:spPr>
            <a:xfrm>
              <a:off x="1523880" y="2133720"/>
              <a:ext cx="1295640" cy="4572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2480" y="2209680"/>
              <a:ext cx="228600" cy="304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2133720"/>
              <a:ext cx="1295280" cy="4572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33920" y="2209680"/>
              <a:ext cx="22860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204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1480" y="2057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8320" y="1676520"/>
              <a:ext cx="356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ffer only in state of process j=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06600" y="2133720"/>
            <a:ext cx="3580200" cy="1447560"/>
            <a:chOff x="5106600" y="2133720"/>
            <a:chExt cx="3580200" cy="1447560"/>
          </a:xfrm>
        </p:grpSpPr>
        <p:sp>
          <p:nvSpPr>
            <p:cNvPr id="202" name=""/>
            <p:cNvSpPr/>
            <p:nvPr/>
          </p:nvSpPr>
          <p:spPr>
            <a:xfrm>
              <a:off x="54100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3600" y="320040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52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1320" y="2514600"/>
              <a:ext cx="759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2400" y="2514600"/>
              <a:ext cx="7632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66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11360" y="2209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012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4680" y="320040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2960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24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10080" y="2133720"/>
              <a:ext cx="1295640" cy="457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8680" y="2209680"/>
              <a:ext cx="228600" cy="3049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52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2133720"/>
              <a:ext cx="1295280" cy="4572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0120" y="2209680"/>
              <a:ext cx="228600" cy="3049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2468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9600" y="220968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91120" y="3581280"/>
            <a:ext cx="3124080" cy="1219320"/>
            <a:chOff x="4191120" y="3581280"/>
            <a:chExt cx="3124080" cy="1219320"/>
          </a:xfrm>
        </p:grpSpPr>
        <p:sp>
          <p:nvSpPr>
            <p:cNvPr id="225" name=""/>
            <p:cNvSpPr/>
            <p:nvPr/>
          </p:nvSpPr>
          <p:spPr>
            <a:xfrm>
              <a:off x="4191120" y="4343400"/>
              <a:ext cx="3124080" cy="457200"/>
            </a:xfrm>
            <a:prstGeom prst="wedgeRoundRectCallout">
              <a:avLst>
                <a:gd name="adj1" fmla="val 53504"/>
                <a:gd name="adj2" fmla="val -262152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ok the same to process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48320" y="3581280"/>
              <a:ext cx="9903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8320" y="3581280"/>
              <a:ext cx="38088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33E-D164-4101-82D6-6E0BD5F042D1}" type="slidenum">
              <a:t>20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General Low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ounds in run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851B-8D25-46F3-8A31-91E9606EB5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es (Configurations)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lobal) state = list of values in processes’ local states (data structur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a fixed deterministic algorithm,     state of run can be denoted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. E1. E2. E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 state, Ei environment (adversary)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5FD-828C-4612-BE9F-3AB434A60D70}" type="slidenum">
              <a:t>22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Prove Lower Bou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 to look at subset of runs,  (limited advers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ed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ies pro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B61-B9D1-4390-BD41-49DF9C4F49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idered Environment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i, [k]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il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s to process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{1,…,k}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t (if s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] empty set - no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ble 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on-failed and &lt;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0, [0]) 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il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applic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most one process fails in one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 messages lost by prefix of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4B2-0C52-42AD-A7D0-F23B809BBF2D}" type="slidenum">
              <a:t>24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yering [MR98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yer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 = set of environment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(X) = {x.E | x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X, 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 applicable to x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) =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) = L(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k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system using lay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t of initial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: 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1143000"/>
            <a:ext cx="990720" cy="304920"/>
          </a:xfrm>
          <a:prstGeom prst="cube">
            <a:avLst>
              <a:gd name="adj" fmla="val 25000"/>
            </a:avLst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914400"/>
            <a:ext cx="990720" cy="30492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685800"/>
            <a:ext cx="990720" cy="30492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477120" y="4495680"/>
            <a:ext cx="1676160" cy="1295640"/>
            <a:chOff x="6477120" y="4495680"/>
            <a:chExt cx="1676160" cy="1295640"/>
          </a:xfrm>
        </p:grpSpPr>
        <p:sp>
          <p:nvSpPr>
            <p:cNvPr id="242" name=""/>
            <p:cNvSpPr/>
            <p:nvPr/>
          </p:nvSpPr>
          <p:spPr>
            <a:xfrm>
              <a:off x="6477120" y="5257800"/>
              <a:ext cx="1676160" cy="533520"/>
            </a:xfrm>
            <a:prstGeom prst="cube">
              <a:avLst>
                <a:gd name="adj" fmla="val 25000"/>
              </a:avLst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77120" y="4876920"/>
              <a:ext cx="1676160" cy="533160"/>
            </a:xfrm>
            <a:prstGeom prst="cube">
              <a:avLst>
                <a:gd name="adj" fmla="val 25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4495680"/>
              <a:ext cx="1676160" cy="53352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46D-09F2-4C19-A57B-82CFB570EDFE}" type="slidenum">
              <a:t>25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66ff66"/>
                </a:solidFill>
                <a:latin typeface="Times New Roman"/>
              </a:rPr>
              <a:t>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n-decided sta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potencial decisions state can lead to [FLP85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decision of correct processes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ailure-f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tens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A4D-9FEE-4DD5-BEC5-21354DF77E44}" type="slidenum">
              <a:t>26</a:t>
            </a:fld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of Strate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niform Lem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rom connected set, under some conditions, 2 more rounds needed f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nifor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nsus (recall: 1 for consensu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nectivity Lem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f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&lt;t+1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conn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ture of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 implies consens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wer b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roven for all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n other models, e.g., mobile failure model [MR98,SW8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42C-86C6-4877-BCDC-CD8F57E001FC}" type="slidenum">
              <a:t>27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form Lem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conn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x’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, s.t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)= 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’)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ll states in X exist at least 3 non-failed processes and 2 can f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s.t. in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.(0,[0]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ll dec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5791320"/>
            <a:ext cx="4724280" cy="609480"/>
          </a:xfrm>
          <a:prstGeom prst="wedgeEllipseCallout">
            <a:avLst>
              <a:gd name="adj1" fmla="val -32861"/>
              <a:gd name="adj2" fmla="val -11224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round failure-free extension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CB6-E38C-4627-A9BD-CBE32054E11F}" type="slidenum">
              <a:t>28</a:t>
            </a:fld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form Lemma: Proo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, by contradiction, in failure-free extension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, y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ll decide after 1 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ases: j either failed or non-fai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733920" y="2724120"/>
            <a:ext cx="1675800" cy="380880"/>
            <a:chOff x="3733920" y="2724120"/>
            <a:chExt cx="1675800" cy="380880"/>
          </a:xfrm>
        </p:grpSpPr>
        <p:sp>
          <p:nvSpPr>
            <p:cNvPr id="255" name=""/>
            <p:cNvSpPr/>
            <p:nvPr/>
          </p:nvSpPr>
          <p:spPr>
            <a:xfrm>
              <a:off x="4647960" y="2724120"/>
              <a:ext cx="761760" cy="380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2724120"/>
              <a:ext cx="761760" cy="380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1600" y="2724120"/>
              <a:ext cx="381960" cy="12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10564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10564515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00200" y="2514600"/>
            <a:ext cx="6019920" cy="590400"/>
            <a:chOff x="1600200" y="2514600"/>
            <a:chExt cx="6019920" cy="590400"/>
          </a:xfrm>
        </p:grpSpPr>
        <p:sp>
          <p:nvSpPr>
            <p:cNvPr id="259" name=""/>
            <p:cNvSpPr/>
            <p:nvPr/>
          </p:nvSpPr>
          <p:spPr>
            <a:xfrm>
              <a:off x="1600200" y="2724120"/>
              <a:ext cx="762120" cy="380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14600" y="2724120"/>
              <a:ext cx="762120" cy="3808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2724120"/>
              <a:ext cx="762120" cy="3808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0" y="2724120"/>
              <a:ext cx="762120" cy="38088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1160" y="25146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77440" y="25146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11120" y="2725560"/>
              <a:ext cx="3823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10564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10564515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2200" y="2724120"/>
              <a:ext cx="382680" cy="10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103624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10362471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3200" y="2725560"/>
              <a:ext cx="38196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7713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771360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94120" y="2724120"/>
              <a:ext cx="38196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4" y="5864"/>
                  </a:moveTo>
                  <a:arcTo wR="10800" hR="10800" stAng="-9168067" swAng="7713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4" y="5864"/>
                  </a:moveTo>
                  <a:arcTo wR="10800" hR="10800" stAng="-9168067" swAng="7713608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8080" y="17524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connected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)= 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al(x’)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505320"/>
            <a:ext cx="4419720" cy="1066680"/>
          </a:xfrm>
          <a:prstGeom prst="wedgeEllipseCallout">
            <a:avLst>
              <a:gd name="adj1" fmla="val -20365"/>
              <a:gd name="adj2" fmla="val -100893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 only in state of some correct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4BC-337C-446C-BF69-A27E041836F5}" type="slidenum">
              <a:t>29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communicate by message pa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fail by cras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&lt;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tential failures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&gt;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sages not lost among correct proc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ynchron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al Synchro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4DD-8D05-4251-8408-9D3BCC03BFF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llustrating the Contradicti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e 1: j is correc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20400" y="2057400"/>
            <a:ext cx="3580200" cy="1983600"/>
            <a:chOff x="1220400" y="2057400"/>
            <a:chExt cx="3580200" cy="1983600"/>
          </a:xfrm>
        </p:grpSpPr>
        <p:sp>
          <p:nvSpPr>
            <p:cNvPr id="273" name=""/>
            <p:cNvSpPr/>
            <p:nvPr/>
          </p:nvSpPr>
          <p:spPr>
            <a:xfrm>
              <a:off x="1523880" y="213372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2209680"/>
              <a:ext cx="228600" cy="304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232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05320" y="21337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33920" y="2209680"/>
              <a:ext cx="228600" cy="304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248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40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6232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0512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051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204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1480" y="2057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2040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.(0,[0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24800" y="35812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.(0,[0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53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392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848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4340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862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030280" y="2133720"/>
            <a:ext cx="3656520" cy="1907280"/>
            <a:chOff x="5030280" y="2133720"/>
            <a:chExt cx="3656520" cy="1907280"/>
          </a:xfrm>
        </p:grpSpPr>
        <p:sp>
          <p:nvSpPr>
            <p:cNvPr id="298" name=""/>
            <p:cNvSpPr/>
            <p:nvPr/>
          </p:nvSpPr>
          <p:spPr>
            <a:xfrm>
              <a:off x="5638680" y="2209680"/>
              <a:ext cx="228600" cy="3049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13372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36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852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91520" y="21337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0120" y="2209680"/>
              <a:ext cx="228600" cy="3049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2468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29600" y="220968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100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868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43600" y="320040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4852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913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91320" y="2514600"/>
              <a:ext cx="759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72400" y="2514600"/>
              <a:ext cx="7632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066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1360" y="2209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320040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29600" y="3200400"/>
              <a:ext cx="228600" cy="304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724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028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.(1,[2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35040" y="35812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y’.(1,[2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420440" y="3505320"/>
            <a:ext cx="4324320" cy="2212200"/>
            <a:chOff x="4420440" y="3505320"/>
            <a:chExt cx="4324320" cy="2212200"/>
          </a:xfrm>
        </p:grpSpPr>
        <p:sp>
          <p:nvSpPr>
            <p:cNvPr id="323" name=""/>
            <p:cNvSpPr/>
            <p:nvPr/>
          </p:nvSpPr>
          <p:spPr>
            <a:xfrm flipH="1">
              <a:off x="8152920" y="3505320"/>
              <a:ext cx="22860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248160" y="3505320"/>
              <a:ext cx="15228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420440" y="4724280"/>
              <a:ext cx="4324320" cy="993240"/>
              <a:chOff x="4420440" y="4724280"/>
              <a:chExt cx="4324320" cy="993240"/>
            </a:xfrm>
          </p:grpSpPr>
          <p:sp>
            <p:nvSpPr>
              <p:cNvPr id="326" name=""/>
              <p:cNvSpPr/>
              <p:nvPr/>
            </p:nvSpPr>
            <p:spPr>
              <a:xfrm>
                <a:off x="5334120" y="4724280"/>
                <a:ext cx="129528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62720" y="4800600"/>
                <a:ext cx="22860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7280" y="4800600"/>
                <a:ext cx="22860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72200" y="4800600"/>
                <a:ext cx="228600" cy="304920"/>
              </a:xfrm>
              <a:prstGeom prst="ellipse">
                <a:avLst/>
              </a:prstGeom>
              <a:solidFill>
                <a:srgbClr val="66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15200" y="4724280"/>
                <a:ext cx="1295280" cy="457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543800" y="4800600"/>
                <a:ext cx="228600" cy="304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48720" y="4800600"/>
                <a:ext cx="228600" cy="304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53280" y="4800600"/>
                <a:ext cx="228600" cy="304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4420440" y="5257800"/>
                <a:ext cx="4324320" cy="459720"/>
                <a:chOff x="4420440" y="5257800"/>
                <a:chExt cx="4324320" cy="45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420440" y="5257800"/>
                  <a:ext cx="21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y.(1,[2]).(3,[3]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630120" y="5257800"/>
                  <a:ext cx="211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y.(1,[2]).(3,[3])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"/>
          <p:cNvSpPr/>
          <p:nvPr/>
        </p:nvSpPr>
        <p:spPr>
          <a:xfrm>
            <a:off x="2050560" y="624852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contradiction to uniform agreeme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419720"/>
            <a:ext cx="3124080" cy="990360"/>
          </a:xfrm>
          <a:prstGeom prst="wedgeRoundRectCallout">
            <a:avLst>
              <a:gd name="adj1" fmla="val 5638"/>
              <a:gd name="adj2" fmla="val -131569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al(y)=</a:t>
            </a: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ads to decision </a:t>
            </a:r>
            <a:r>
              <a:rPr b="1" lang="en-US" sz="20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one failure-free 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5867280"/>
            <a:ext cx="4114800" cy="457200"/>
          </a:xfrm>
          <a:prstGeom prst="wedgeRoundRectCallout">
            <a:avLst>
              <a:gd name="adj1" fmla="val 347"/>
              <a:gd name="adj2" fmla="val -99652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the same to proces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133720" y="3581280"/>
            <a:ext cx="3124080" cy="1219320"/>
            <a:chOff x="2133720" y="3581280"/>
            <a:chExt cx="3124080" cy="1219320"/>
          </a:xfrm>
        </p:grpSpPr>
        <p:sp>
          <p:nvSpPr>
            <p:cNvPr id="341" name=""/>
            <p:cNvSpPr/>
            <p:nvPr/>
          </p:nvSpPr>
          <p:spPr>
            <a:xfrm>
              <a:off x="2133720" y="4343400"/>
              <a:ext cx="3124080" cy="457200"/>
            </a:xfrm>
            <a:prstGeom prst="wedgeRoundRectCallout">
              <a:avLst>
                <a:gd name="adj1" fmla="val 53504"/>
                <a:gd name="adj2" fmla="val -262152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ok the same to process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90920" y="3581280"/>
              <a:ext cx="9903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3581280"/>
              <a:ext cx="38088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80E-66A5-4DC6-B56C-D9A202145D2A}" type="slidenum">
              <a:t>30</a:t>
            </a:fld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ollary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ilure-Free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&gt;2, t &gt;1, f =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{initial failure-free states} conn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’,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t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va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x’)=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valid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niform Lem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from some initial state need 2 rounds to dec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2C9-2B4B-40E7-B1A5-2E0CC409AAB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nectivity Lemma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X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Connected for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&lt;t+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 by induction, base 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tate x, L(x) connected (next sl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x~x’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 x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ffer in stat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ly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f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.(i, [n]) = x’.(i, [n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5486400"/>
            <a:ext cx="4800600" cy="914400"/>
          </a:xfrm>
          <a:prstGeom prst="cube">
            <a:avLst>
              <a:gd name="adj" fmla="val 25000"/>
            </a:avLst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~  x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438280" y="4724280"/>
            <a:ext cx="4800600" cy="984240"/>
            <a:chOff x="2438280" y="4724280"/>
            <a:chExt cx="4800600" cy="984240"/>
          </a:xfrm>
        </p:grpSpPr>
        <p:sp>
          <p:nvSpPr>
            <p:cNvPr id="350" name=""/>
            <p:cNvSpPr/>
            <p:nvPr/>
          </p:nvSpPr>
          <p:spPr>
            <a:xfrm>
              <a:off x="2438280" y="4794120"/>
              <a:ext cx="2270160" cy="914400"/>
            </a:xfrm>
            <a:prstGeom prst="cube">
              <a:avLst>
                <a:gd name="adj" fmla="val 25000"/>
              </a:avLst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2000" y="472428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00600" y="4794120"/>
              <a:ext cx="2438280" cy="914400"/>
            </a:xfrm>
            <a:prstGeom prst="cube">
              <a:avLst>
                <a:gd name="adj" fmla="val 25000"/>
              </a:avLst>
            </a:prstGeom>
            <a:solidFill>
              <a:srgbClr val="ffff66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1360" y="4724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’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666880" y="5181480"/>
            <a:ext cx="42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.(i, [n]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’.(i, [n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CFB-640E-4311-AA33-CFC99126F7BA}" type="slidenum">
              <a:t>32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(x) is Connec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63200" y="2133720"/>
            <a:ext cx="3656520" cy="1907280"/>
            <a:chOff x="763200" y="2133720"/>
            <a:chExt cx="3656520" cy="1907280"/>
          </a:xfrm>
        </p:grpSpPr>
        <p:sp>
          <p:nvSpPr>
            <p:cNvPr id="357" name=""/>
            <p:cNvSpPr/>
            <p:nvPr/>
          </p:nvSpPr>
          <p:spPr>
            <a:xfrm>
              <a:off x="3124080" y="213372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5268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5760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6252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760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3200400"/>
              <a:ext cx="228600" cy="30492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0532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053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06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66680" y="213372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9528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0020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0512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66680" y="3124080"/>
              <a:ext cx="129564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280" y="3200400"/>
              <a:ext cx="22860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0200" y="3200400"/>
              <a:ext cx="228600" cy="30492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5120" y="3200400"/>
              <a:ext cx="228600" cy="30492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7920" y="2514600"/>
              <a:ext cx="228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7920" y="2514600"/>
              <a:ext cx="53316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320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320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.(0,[0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26120" y="3017880"/>
              <a:ext cx="42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2060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.(1,[0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5268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62120" y="4343400"/>
            <a:ext cx="7467480" cy="1221840"/>
            <a:chOff x="762120" y="4343400"/>
            <a:chExt cx="7467480" cy="1221840"/>
          </a:xfrm>
        </p:grpSpPr>
        <p:sp>
          <p:nvSpPr>
            <p:cNvPr id="383" name=""/>
            <p:cNvSpPr/>
            <p:nvPr/>
          </p:nvSpPr>
          <p:spPr>
            <a:xfrm>
              <a:off x="762120" y="434340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.(0,[0])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  x.(2,[0])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x.(2,[1])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  x.(2,[3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2120" y="510552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.(0,[0])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  x.(3,[0])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x.(3,[1])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  x.(3,[2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07200" y="2133720"/>
            <a:ext cx="3804840" cy="1907280"/>
            <a:chOff x="4507200" y="2133720"/>
            <a:chExt cx="3804840" cy="1907280"/>
          </a:xfrm>
        </p:grpSpPr>
        <p:sp>
          <p:nvSpPr>
            <p:cNvPr id="386" name=""/>
            <p:cNvSpPr/>
            <p:nvPr/>
          </p:nvSpPr>
          <p:spPr>
            <a:xfrm>
              <a:off x="5105520" y="21337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3412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0552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3412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38680" y="320040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3600" y="3200400"/>
              <a:ext cx="228600" cy="30492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86400" y="2514600"/>
              <a:ext cx="5335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0168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168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.(1,[2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4960" y="2514600"/>
              <a:ext cx="15228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6760" y="213372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536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5028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54840" y="220968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16760" y="3124080"/>
              <a:ext cx="129528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5360" y="3200400"/>
              <a:ext cx="22860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50280" y="3200400"/>
              <a:ext cx="22860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54840" y="3200400"/>
              <a:ext cx="228600" cy="304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7640" y="2514600"/>
              <a:ext cx="38124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1328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06800" y="35812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.(1,[3]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88640" y="3017880"/>
              <a:ext cx="42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97640" y="2514600"/>
              <a:ext cx="15264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7200" y="3049560"/>
              <a:ext cx="42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801-A0F3-4656-BBCA-C435B7E9F378}" type="slidenum">
              <a:t>33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orem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+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Low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e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&gt;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&lt; t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 - final states of runs with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ail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ny state in 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exist at least 3 non-failed processes and 2 can f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z, z’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.t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(z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(z’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 x’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failure-free extensions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, z’: x=z.(i,[0]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025-35A5-4ECC-BA78-FD833194E7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a New Proof Techniqu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7B06-35D2-4034-8F12-C674D311F23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cal Technique: Bival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valent state = state that can lead to different decisions [FLP85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d w.r.t. system [MR9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valent state always leads to decision 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valent state always leads to decision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, e.g.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ynchronous consensus impossibility[FLP85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s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wer bound [AT99,MR9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1B0-E5F0-41AF-AA1E-C60CD18D568D}" type="slidenum">
              <a:t>36</a:t>
            </a:fld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valency-Based Proof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 initial bivalent state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by induction that adversary can keep system in bivalent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cision is possible in a bivalent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28D-9B4C-4D4B-9EDF-41AC462F3A8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valency-Based Proofs: B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ls, x and x’ lead to same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ssible for x to be 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valent and for x’ to be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val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ity implies: initial bivalent state ex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2133720"/>
            <a:ext cx="76176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00.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2133720"/>
            <a:ext cx="76212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0..0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2133720"/>
            <a:ext cx="76212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11.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2133720"/>
            <a:ext cx="76212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1.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21337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2133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57160" y="2108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2133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~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09880" y="2133720"/>
            <a:ext cx="76212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2133720"/>
            <a:ext cx="76176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308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3124080"/>
            <a:ext cx="1143000" cy="381240"/>
          </a:xfrm>
          <a:prstGeom prst="wedgeRoundRectCallout">
            <a:avLst>
              <a:gd name="adj1" fmla="val -9166"/>
              <a:gd name="adj2" fmla="val -215000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3124080"/>
            <a:ext cx="1143000" cy="381240"/>
          </a:xfrm>
          <a:prstGeom prst="wedgeRoundRectCallout">
            <a:avLst>
              <a:gd name="adj1" fmla="val -9166"/>
              <a:gd name="adj2" fmla="val -215000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2971800"/>
            <a:ext cx="2362320" cy="762120"/>
          </a:xfrm>
          <a:prstGeom prst="wedgeRoundRectCallout">
            <a:avLst>
              <a:gd name="adj1" fmla="val 6453"/>
              <a:gd name="adj2" fmla="val -116250"/>
              <a:gd name="adj3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 in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one proces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1EC2-29ED-48E4-B18C-3D18ADE8F70C}" type="slidenum">
              <a:t>38</a:t>
            </a:fld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valency Doesn’t Work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valency proofs use validity only to show that initial bivalent state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s work if validity is replac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eak Valid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nitial bivalent state (w.r.t. system)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s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1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bound proofs still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how that uniform consensu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ound lower bound do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0F4-0270-4388-B8A8-5AF203B1E361}" type="slidenum">
              <a:t>39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nchronous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bounded message delay, processor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nsus impossible even f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=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[FLP85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: can never tell faulty process from slow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61C-D033-4708-B048-65D53DC9ADC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er Exampl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Weak Valid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ound 1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nd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got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all)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turn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ound 2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nd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#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#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=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=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Uniform-Consensus(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des </a:t>
            </a: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one round in failure-free 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des 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one “clean” failure in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ound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325-3D60-4A41-9BE9-94B0A007FC2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wer bound for uniform cons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, crash failur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more round than consens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roof technique (new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bivalency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es lower bound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munication rounds for synchronous runs in partial synchrony model (f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&lt; t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804-A724-428D-9C90-937DF6D221E8}" type="slidenum">
              <a:t>41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 an Optimistic No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nsus requires 2 rounds in  partial synchrony model because of false suspic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round algorithms work correctly while there are no false suspic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communication: Horus, Amoeba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stic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1-round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cile conflicts in case of false suspic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36F-D208-4613-98F7-179D2B9F9FCE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 rot="10732800">
            <a:off x="7390080" y="2971440"/>
            <a:ext cx="1143000" cy="25891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547560 h 2589120"/>
              <a:gd name="textAreaBottom" fmla="*/ 1859040 h 25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40" stAng="-5400000" swAng="5400000"/>
                <a:lnTo>
                  <a:pt x="21600" y="10938"/>
                </a:lnTo>
                <a:arcTo wR="21600" hR="9140" stAng="0" swAng="2517288"/>
                <a:lnTo>
                  <a:pt x="9199" y="20730"/>
                </a:lnTo>
                <a:lnTo>
                  <a:pt x="0" y="19179"/>
                </a:lnTo>
                <a:lnTo>
                  <a:pt x="9199" y="15888"/>
                </a:lnTo>
                <a:lnTo>
                  <a:pt x="9199" y="17410"/>
                </a:lnTo>
                <a:arcTo wR="21600" hR="9140" stAng="2517288" swAng="-2373595"/>
                <a:lnTo>
                  <a:pt x="21495" y="10039"/>
                </a:lnTo>
                <a:arcTo wR="21600" hR="9140" stAng="-143694" swAng="-5256306"/>
                <a:close/>
              </a:path>
              <a:path fill="darkenLess" w="21600" h="21600">
                <a:moveTo>
                  <a:pt x="0" y="0"/>
                </a:moveTo>
                <a:arcTo wR="21600" hR="9140" stAng="-5400000" swAng="5400000"/>
                <a:lnTo>
                  <a:pt x="21600" y="10938"/>
                </a:lnTo>
                <a:arcTo wR="21600" hR="9140" stAng="0" swAng="-143694"/>
                <a:lnTo>
                  <a:pt x="21495" y="10039"/>
                </a:lnTo>
                <a:arcTo wR="21600" hR="9140" stAng="-143694" swAng="-525630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657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27432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chronous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 message delay, processor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runs in synchronous roun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 messages to any number of process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it fixed time to receive messag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local processing (possibly decide, hal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56386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proces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ails in a round, then any subset of the messag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s in this round can be 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0C6-07A2-4F6C-A412-AC2EB3EEDC4B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chronous Consens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a run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s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&lt;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es can decide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ounds [LF82,DRS90] (early-deci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round with no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CD2-FAD1-4D24-96A5-C7EA6E1D7D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ial Synchrony [DLS88]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a global stabilization time G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 GST system asynchron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GST system is synchron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ST is not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istic: practical networks are not really asynchro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variants and similar models, e.g., unreliable failure detecto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[CT96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23D-D50A-49B0-9B9E-B4817C26FE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nsus with Partial Synchro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nsus solvable with &lt; n/2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ually correct processes won’t be sus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time unbou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[FLP85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models can be asynchronous for unbounded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DD6-793F-4B67-ACA9-2ED678E77F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Practical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we say more tha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nsus will be solved eventually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121-8014-48B5-A387-0896579CE0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>Idit Keidar</dc:creator>
  <dc:description/>
  <dc:language>en-US</dc:language>
  <cp:lastModifiedBy>Idit Keidar</cp:lastModifiedBy>
  <cp:lastPrinted>2002-03-20T21:50:57Z</cp:lastPrinted>
  <dcterms:modified xsi:type="dcterms:W3CDTF">2002-06-11T20:49:38Z</dcterms:modified>
  <cp:revision>2147</cp:revision>
  <dc:subject/>
  <dc:title>Abstractions for Fault Tolerant Computing</dc:title>
</cp:coreProperties>
</file>