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9186863" cy="7037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045FF-C246-4E13-BF4C-F6A716F7BB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1371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3ACBA-DE67-4AD8-BC70-7343E6BA42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8880" y="18284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1371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8880" y="41371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D5E73-556F-44A1-9B21-2585EB96F1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7560" y="18284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7400" y="18284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1371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7560" y="41371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7400" y="41371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71B71-48BB-4866-AE1F-57E6BACACA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B1F21-5CA7-4283-8B2A-0CDE75C9E2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C421A-D8BD-4A9B-9AFF-917EC37906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EC0A9-37FF-4CD9-B951-50CAC687F3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8880" y="18284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E4F76-131F-4449-B210-DD3D2C10953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F1729-E3C3-48DE-8E23-42E1DC0F5C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456840"/>
            <a:ext cx="7925040" cy="54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97BE0-13F2-4CC0-9505-19C198E8766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8880" y="18284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1371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DF82E-58B8-48E7-993B-AFF0E1F054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37779-5ED8-4C02-91E5-F2EE31FB08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8880" y="18284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8880" y="41371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0BFBF-F3BE-4B84-9B1B-82AC9BC0D6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8880" y="18284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1371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2DD03-2ACB-4F0A-BC32-816F867D26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1371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2AC35-11DE-4378-A6C7-DF7501F5F8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8880" y="18284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1371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8880" y="41371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8BF63-7B68-4841-A3AF-57E2FCC218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17560" y="18284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97400" y="18284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1371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17560" y="41371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97400" y="41371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003A1-A7F9-4945-8B75-A0A7307507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432AD-B8DC-4EBC-9CED-C22E16C915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8880" y="18284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32511-B7BD-408B-86E6-9B1815E629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8D115-7C1B-4BC4-8277-7B4071941B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456840"/>
            <a:ext cx="7925040" cy="54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3357E-6122-484B-8E0D-68F46E4ED6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8880" y="18284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1371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11D89-8485-4DB2-8C69-7324E598FB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8880" y="18284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8880" y="41371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FD46A-4F22-4D0D-BBBF-56C2ADD993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8880" y="18284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1371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C353F-CB26-4D84-A4DC-B6FD7ED47F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0"/>
            <a:ext cx="609840" cy="6858000"/>
          </a:xfrm>
          <a:custGeom>
            <a:avLst/>
            <a:gdLst/>
            <a:ahLst/>
            <a:rect l="l" t="t" r="r" b="b"/>
            <a:pathLst>
              <a:path w="491" h="4305">
                <a:moveTo>
                  <a:pt x="0" y="0"/>
                </a:moveTo>
                <a:lnTo>
                  <a:pt x="0" y="4304"/>
                </a:lnTo>
                <a:lnTo>
                  <a:pt x="163" y="4304"/>
                </a:lnTo>
                <a:lnTo>
                  <a:pt x="163" y="0"/>
                </a:lnTo>
                <a:lnTo>
                  <a:pt x="327" y="0"/>
                </a:lnTo>
                <a:lnTo>
                  <a:pt x="327" y="4304"/>
                </a:lnTo>
                <a:lnTo>
                  <a:pt x="490" y="4304"/>
                </a:lnTo>
                <a:lnTo>
                  <a:pt x="490" y="0"/>
                </a:lnTo>
                <a:lnTo>
                  <a:pt x="490" y="148"/>
                </a:lnTo>
                <a:lnTo>
                  <a:pt x="0" y="148"/>
                </a:lnTo>
                <a:lnTo>
                  <a:pt x="0" y="297"/>
                </a:lnTo>
                <a:lnTo>
                  <a:pt x="490" y="297"/>
                </a:lnTo>
                <a:lnTo>
                  <a:pt x="490" y="445"/>
                </a:lnTo>
                <a:lnTo>
                  <a:pt x="0" y="445"/>
                </a:lnTo>
                <a:lnTo>
                  <a:pt x="0" y="594"/>
                </a:lnTo>
                <a:lnTo>
                  <a:pt x="490" y="594"/>
                </a:lnTo>
                <a:lnTo>
                  <a:pt x="490" y="742"/>
                </a:lnTo>
                <a:lnTo>
                  <a:pt x="0" y="742"/>
                </a:lnTo>
                <a:lnTo>
                  <a:pt x="0" y="890"/>
                </a:lnTo>
                <a:lnTo>
                  <a:pt x="490" y="890"/>
                </a:lnTo>
                <a:lnTo>
                  <a:pt x="490" y="1039"/>
                </a:lnTo>
                <a:lnTo>
                  <a:pt x="0" y="1039"/>
                </a:lnTo>
                <a:lnTo>
                  <a:pt x="0" y="1187"/>
                </a:lnTo>
                <a:lnTo>
                  <a:pt x="490" y="1187"/>
                </a:lnTo>
                <a:lnTo>
                  <a:pt x="490" y="1336"/>
                </a:lnTo>
                <a:lnTo>
                  <a:pt x="0" y="1336"/>
                </a:lnTo>
                <a:lnTo>
                  <a:pt x="0" y="1484"/>
                </a:lnTo>
                <a:lnTo>
                  <a:pt x="490" y="1484"/>
                </a:lnTo>
                <a:lnTo>
                  <a:pt x="490" y="1633"/>
                </a:lnTo>
                <a:lnTo>
                  <a:pt x="0" y="1633"/>
                </a:lnTo>
                <a:lnTo>
                  <a:pt x="0" y="1781"/>
                </a:lnTo>
                <a:lnTo>
                  <a:pt x="490" y="1781"/>
                </a:lnTo>
                <a:lnTo>
                  <a:pt x="490" y="1929"/>
                </a:lnTo>
                <a:lnTo>
                  <a:pt x="0" y="1929"/>
                </a:lnTo>
                <a:lnTo>
                  <a:pt x="0" y="2078"/>
                </a:lnTo>
                <a:lnTo>
                  <a:pt x="490" y="2078"/>
                </a:lnTo>
                <a:lnTo>
                  <a:pt x="490" y="2226"/>
                </a:lnTo>
                <a:lnTo>
                  <a:pt x="0" y="2226"/>
                </a:lnTo>
                <a:lnTo>
                  <a:pt x="0" y="2375"/>
                </a:lnTo>
                <a:lnTo>
                  <a:pt x="490" y="2375"/>
                </a:lnTo>
                <a:lnTo>
                  <a:pt x="490" y="2523"/>
                </a:lnTo>
                <a:lnTo>
                  <a:pt x="0" y="2523"/>
                </a:lnTo>
                <a:lnTo>
                  <a:pt x="0" y="2671"/>
                </a:lnTo>
                <a:lnTo>
                  <a:pt x="490" y="2671"/>
                </a:lnTo>
                <a:lnTo>
                  <a:pt x="490" y="2820"/>
                </a:lnTo>
                <a:lnTo>
                  <a:pt x="0" y="2820"/>
                </a:lnTo>
                <a:lnTo>
                  <a:pt x="0" y="2968"/>
                </a:lnTo>
                <a:lnTo>
                  <a:pt x="490" y="2968"/>
                </a:lnTo>
                <a:lnTo>
                  <a:pt x="490" y="3117"/>
                </a:lnTo>
                <a:lnTo>
                  <a:pt x="0" y="3117"/>
                </a:lnTo>
                <a:lnTo>
                  <a:pt x="0" y="3265"/>
                </a:lnTo>
                <a:lnTo>
                  <a:pt x="490" y="3265"/>
                </a:lnTo>
                <a:lnTo>
                  <a:pt x="490" y="3414"/>
                </a:lnTo>
                <a:lnTo>
                  <a:pt x="0" y="3414"/>
                </a:lnTo>
                <a:lnTo>
                  <a:pt x="0" y="3562"/>
                </a:lnTo>
                <a:lnTo>
                  <a:pt x="490" y="3562"/>
                </a:lnTo>
                <a:lnTo>
                  <a:pt x="490" y="3710"/>
                </a:lnTo>
                <a:lnTo>
                  <a:pt x="0" y="3710"/>
                </a:lnTo>
                <a:lnTo>
                  <a:pt x="0" y="3859"/>
                </a:lnTo>
                <a:lnTo>
                  <a:pt x="490" y="3859"/>
                </a:lnTo>
                <a:lnTo>
                  <a:pt x="490" y="4007"/>
                </a:lnTo>
                <a:lnTo>
                  <a:pt x="0" y="4007"/>
                </a:lnTo>
                <a:lnTo>
                  <a:pt x="0" y="4156"/>
                </a:lnTo>
                <a:lnTo>
                  <a:pt x="490" y="4156"/>
                </a:lnTo>
                <a:lnTo>
                  <a:pt x="490" y="4304"/>
                </a:lnTo>
                <a:lnTo>
                  <a:pt x="0" y="4304"/>
                </a:lnTo>
                <a:lnTo>
                  <a:pt x="0" y="4304"/>
                </a:lnTo>
                <a:lnTo>
                  <a:pt x="490" y="4304"/>
                </a:lnTo>
                <a:lnTo>
                  <a:pt x="490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40080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© Idit Keidar and Sergio Rajsbaum; PODC 200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0"/>
            <a:ext cx="609840" cy="6834240"/>
          </a:xfrm>
          <a:custGeom>
            <a:avLst/>
            <a:gdLst/>
            <a:ahLst/>
            <a:rect l="l" t="t" r="r" b="b"/>
            <a:pathLst>
              <a:path w="491" h="4305">
                <a:moveTo>
                  <a:pt x="0" y="0"/>
                </a:moveTo>
                <a:lnTo>
                  <a:pt x="0" y="4304"/>
                </a:lnTo>
                <a:lnTo>
                  <a:pt x="163" y="4304"/>
                </a:lnTo>
                <a:lnTo>
                  <a:pt x="163" y="0"/>
                </a:lnTo>
                <a:lnTo>
                  <a:pt x="327" y="0"/>
                </a:lnTo>
                <a:lnTo>
                  <a:pt x="327" y="4304"/>
                </a:lnTo>
                <a:lnTo>
                  <a:pt x="490" y="4304"/>
                </a:lnTo>
                <a:lnTo>
                  <a:pt x="490" y="0"/>
                </a:lnTo>
                <a:lnTo>
                  <a:pt x="490" y="148"/>
                </a:lnTo>
                <a:lnTo>
                  <a:pt x="0" y="148"/>
                </a:lnTo>
                <a:lnTo>
                  <a:pt x="0" y="297"/>
                </a:lnTo>
                <a:lnTo>
                  <a:pt x="490" y="297"/>
                </a:lnTo>
                <a:lnTo>
                  <a:pt x="490" y="445"/>
                </a:lnTo>
                <a:lnTo>
                  <a:pt x="0" y="445"/>
                </a:lnTo>
                <a:lnTo>
                  <a:pt x="0" y="594"/>
                </a:lnTo>
                <a:lnTo>
                  <a:pt x="490" y="594"/>
                </a:lnTo>
                <a:lnTo>
                  <a:pt x="490" y="742"/>
                </a:lnTo>
                <a:lnTo>
                  <a:pt x="0" y="742"/>
                </a:lnTo>
                <a:lnTo>
                  <a:pt x="0" y="890"/>
                </a:lnTo>
                <a:lnTo>
                  <a:pt x="490" y="890"/>
                </a:lnTo>
                <a:lnTo>
                  <a:pt x="490" y="1039"/>
                </a:lnTo>
                <a:lnTo>
                  <a:pt x="0" y="1039"/>
                </a:lnTo>
                <a:lnTo>
                  <a:pt x="0" y="1187"/>
                </a:lnTo>
                <a:lnTo>
                  <a:pt x="490" y="1187"/>
                </a:lnTo>
                <a:lnTo>
                  <a:pt x="490" y="1336"/>
                </a:lnTo>
                <a:lnTo>
                  <a:pt x="0" y="1336"/>
                </a:lnTo>
                <a:lnTo>
                  <a:pt x="0" y="1484"/>
                </a:lnTo>
                <a:lnTo>
                  <a:pt x="490" y="1484"/>
                </a:lnTo>
                <a:lnTo>
                  <a:pt x="490" y="1633"/>
                </a:lnTo>
                <a:lnTo>
                  <a:pt x="0" y="1633"/>
                </a:lnTo>
                <a:lnTo>
                  <a:pt x="0" y="1781"/>
                </a:lnTo>
                <a:lnTo>
                  <a:pt x="490" y="1781"/>
                </a:lnTo>
                <a:lnTo>
                  <a:pt x="490" y="1929"/>
                </a:lnTo>
                <a:lnTo>
                  <a:pt x="0" y="1929"/>
                </a:lnTo>
                <a:lnTo>
                  <a:pt x="0" y="2078"/>
                </a:lnTo>
                <a:lnTo>
                  <a:pt x="490" y="2078"/>
                </a:lnTo>
                <a:lnTo>
                  <a:pt x="490" y="2226"/>
                </a:lnTo>
                <a:lnTo>
                  <a:pt x="0" y="2226"/>
                </a:lnTo>
                <a:lnTo>
                  <a:pt x="0" y="2375"/>
                </a:lnTo>
                <a:lnTo>
                  <a:pt x="490" y="2375"/>
                </a:lnTo>
                <a:lnTo>
                  <a:pt x="490" y="2523"/>
                </a:lnTo>
                <a:lnTo>
                  <a:pt x="0" y="2523"/>
                </a:lnTo>
                <a:lnTo>
                  <a:pt x="0" y="2671"/>
                </a:lnTo>
                <a:lnTo>
                  <a:pt x="490" y="2671"/>
                </a:lnTo>
                <a:lnTo>
                  <a:pt x="490" y="2820"/>
                </a:lnTo>
                <a:lnTo>
                  <a:pt x="0" y="2820"/>
                </a:lnTo>
                <a:lnTo>
                  <a:pt x="0" y="2968"/>
                </a:lnTo>
                <a:lnTo>
                  <a:pt x="490" y="2968"/>
                </a:lnTo>
                <a:lnTo>
                  <a:pt x="490" y="3117"/>
                </a:lnTo>
                <a:lnTo>
                  <a:pt x="0" y="3117"/>
                </a:lnTo>
                <a:lnTo>
                  <a:pt x="0" y="3265"/>
                </a:lnTo>
                <a:lnTo>
                  <a:pt x="490" y="3265"/>
                </a:lnTo>
                <a:lnTo>
                  <a:pt x="490" y="3414"/>
                </a:lnTo>
                <a:lnTo>
                  <a:pt x="0" y="3414"/>
                </a:lnTo>
                <a:lnTo>
                  <a:pt x="0" y="3562"/>
                </a:lnTo>
                <a:lnTo>
                  <a:pt x="490" y="3562"/>
                </a:lnTo>
                <a:lnTo>
                  <a:pt x="490" y="3710"/>
                </a:lnTo>
                <a:lnTo>
                  <a:pt x="0" y="3710"/>
                </a:lnTo>
                <a:lnTo>
                  <a:pt x="0" y="3859"/>
                </a:lnTo>
                <a:lnTo>
                  <a:pt x="490" y="3859"/>
                </a:lnTo>
                <a:lnTo>
                  <a:pt x="490" y="4007"/>
                </a:lnTo>
                <a:lnTo>
                  <a:pt x="0" y="4007"/>
                </a:lnTo>
                <a:lnTo>
                  <a:pt x="0" y="4156"/>
                </a:lnTo>
                <a:lnTo>
                  <a:pt x="490" y="4156"/>
                </a:lnTo>
                <a:lnTo>
                  <a:pt x="490" y="4304"/>
                </a:lnTo>
                <a:lnTo>
                  <a:pt x="0" y="4304"/>
                </a:lnTo>
                <a:lnTo>
                  <a:pt x="0" y="4304"/>
                </a:lnTo>
                <a:lnTo>
                  <a:pt x="490" y="4304"/>
                </a:lnTo>
                <a:lnTo>
                  <a:pt x="490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40080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© Idit Keidar and Sergio Rajsbaum; PODC 200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 the Cost of Fault-Tolerant Consensus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There are no Faul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it Keidar and Sergio Rajsba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DC 2002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A1AF5-2E3D-432E-B696-EAB3D4CE0AC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ynchronous Consensu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1 round with no fail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der a run with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failures 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&lt;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cesses can decide i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+1 round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imes New Roman"/>
              </a:rPr>
              <a:t>[Lamport Fischer 82; Dolev, Reischuk, Strong 90]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early-deciding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is talk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ci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al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akes min(f+2,t+1) </a:t>
            </a:r>
            <a:r>
              <a:rPr b="0" lang="en-US" sz="2000" spc="-1" strike="noStrike">
                <a:solidFill>
                  <a:srgbClr val="ff3399"/>
                </a:solidFill>
                <a:latin typeface="Times New Roman"/>
              </a:rPr>
              <a:t>[Dolev, Reischuk, Strong 90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CF6F0-ACEF-4B9E-81E2-0C34F165E4D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Middle 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any real networks are neither synchronous nor asynchron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uring long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stab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eriods, delays and processing times are boun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ke synchronous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unstab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eriod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ke asynchronous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20EA0-244E-459C-B259-C11DC5B14E4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ial Synchrony Model </a:t>
            </a:r>
            <a:br>
              <a:rPr sz="4400"/>
            </a:b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[Dwork, Lynch, Stockmeyer 88]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cesses have clocks with bounded dri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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per bound on message del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upper bound on processing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ST, global stabilization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til GST,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unstab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bounds do not ho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ter GST,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stab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bounds ho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ST unkn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9EBD8-971D-4E81-B057-83A6C709E97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ial Synchrony in Practi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choose bounds that hold with high prob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bility forev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assume that once stable remains s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practice, has to last “long enough” for given algorithm to termin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ommonly used model that alternates between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stab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unstab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im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Timed Asynchronous Model </a:t>
            </a:r>
            <a:r>
              <a:rPr b="0" lang="en-US" sz="2000" spc="-1" strike="noStrike">
                <a:solidFill>
                  <a:srgbClr val="ff3399"/>
                </a:solidFill>
                <a:latin typeface="Times New Roman"/>
              </a:rPr>
              <a:t>[Cristian, Fetzer 98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A36C9-D20F-4679-A8AA-35217AEAF96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sensus with Partial Synchron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Unbounded running tim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</a:t>
            </a: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[FLP85]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because model can be asynchronous for unbounded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vable if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 &lt; n/2 </a:t>
            </a: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[DLS88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52B3B-7DD4-4F1F-9980-43E18837A04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 a Practical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we say more than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9"/>
                </a:solidFill>
                <a:latin typeface="Times New Roman"/>
              </a:rPr>
              <a:t>consensus will be solved eventually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57ADD-DA4D-4741-B1C1-5F3CFB74DB1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erformance Metri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umber of rounds in well-behav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u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ll-behaved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fail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Stab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rom the begin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tivation: common c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7B4DF-55C0-46E6-922D-F6F0B62BDA3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Rest of This Tutori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Part I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best known algorithms decide in 2 rounds in well-behaved ru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ime (with delay bound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0 processing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Part II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this is the best poss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Part IV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new directions and exten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441AB-FFB2-4190-9091-71FAB359B1B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 II: Algorithms, and the Failure Detector Abstra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16440" y="3960720"/>
            <a:ext cx="67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II.a  Failure Detectors and Partial Synchro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20040" y="4724280"/>
            <a:ext cx="23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I.b Algorith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3D604-DBEA-48A2-9471-874D301FD04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ime-Free Algorith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describe the algorithms using failure detector abstraction </a:t>
            </a: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[Chandra, Toueg 96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al: abstract away time, get simpler algorith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95994-A8DA-47C7-B9D5-9BB12D4E5B5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bout This Tutori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liminary version in SIGACT News and  MIT Tech Report, June 20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polished lower bound proof to appear in IP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version of the tutorial </a:t>
            </a: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in prepa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alk includes only a subset of references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sor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include some </a:t>
            </a:r>
            <a:r>
              <a:rPr b="0" lang="en-US" sz="3600" spc="-1" strike="noStrike">
                <a:solidFill>
                  <a:srgbClr val="66ff66"/>
                </a:solidFill>
                <a:latin typeface="Times New Roman"/>
              </a:rPr>
              <a:t>food for though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00"/>
                </a:solidFill>
                <a:latin typeface="Times New Roman"/>
              </a:rPr>
              <a:t>Any suggestions are welcom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391520" y="33526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6934320" y="4419720"/>
            <a:ext cx="507960" cy="53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F497F-6CD2-4F25-BAF8-B60F5988E85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nreliable Failure Detectors </a:t>
            </a: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[Chandra, Toueg 96]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process has local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failure detect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a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ically outputs list of processes suspected to have crashed at any given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Unreliab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failure detector output can be arbitrary for unbounded (finite) prefix of r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CB435-F941-4D89-A7BB-BBCC621B867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erformance of Failure Detector Based Consensus Algorith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ement a failure detector in the partial synchrony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an algorithm for the failure dete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yze the performance in well-behaved runs of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ombin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lgorith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2F124-BC7A-4523-9C7E-410D844CF0D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 Natural Failure Detector Implementation 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 Partial Synchrony Model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ement failure detector using timeou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expecting a message from a proces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wait </a:t>
            </a:r>
            <a:r>
              <a:rPr b="0" lang="en-US" sz="2800" spc="-1" strike="noStrike">
                <a:solidFill>
                  <a:srgbClr val="ff9900"/>
                </a:solidFill>
                <a:latin typeface="Symbol"/>
                <a:ea typeface="Symbol"/>
              </a:rPr>
              <a:t>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clock ske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efore suspecting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well-behaved runs,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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always hold, hence no false suspic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F8551-8165-41DC-A1C6-58D8BD94D66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resulting failure detector is &lt;&gt;P - Eventually Perfec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trong Completenes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From some point on, every faulty process is suspected by every correct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ventual Strong Accurac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From some point on, every correct process is not suspected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*holds in all ru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19461-8477-47F4-85D8-F044B17DDD0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akest Failure Detectors for Consensu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lt;&gt;S - Eventually Stro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rong Complet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ventual Weak Accurac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From some point on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om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rect process is not suspect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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Lead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puts one trusted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om some point, all correct processes trust the same correct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09A42-4CE0-4285-9EAA-0DF6D0E88A7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lationships among Failure Detector Clas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lt;&gt;S is a subset of &lt;&gt;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lt;&gt;S is strictly weaker than &lt;&gt;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lt;&gt;S ~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[Chandra, Hadzilacos, Toueg 96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Food for thought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eake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iming model where &lt;&gt;S and/or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re implementable but &lt;&gt;P is not?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73413-288B-4D13-A4F1-60F17ED6DDF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te on the Power of Consensu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ensus cannot implement &lt;&gt;P, interactive consistency, atomic commit,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its “universality”, in the sense o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it-free objects in shared memory </a:t>
            </a:r>
            <a:r>
              <a:rPr b="0" lang="en-US" sz="2000" spc="-1" strike="noStrike">
                <a:solidFill>
                  <a:srgbClr val="ff3399"/>
                </a:solidFill>
                <a:latin typeface="Times New Roman"/>
              </a:rPr>
              <a:t>[Herlihy 93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e machine replication </a:t>
            </a:r>
            <a:r>
              <a:rPr b="0" lang="en-US" sz="2000" spc="-1" strike="noStrike">
                <a:solidFill>
                  <a:srgbClr val="ff3399"/>
                </a:solidFill>
                <a:latin typeface="Times New Roman"/>
              </a:rPr>
              <a:t>[Lamport 78; Schneider 90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cover sensitivity to failures, timing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827BF-E948-4341-9A47-5474DF75B99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Simple </a:t>
            </a:r>
            <a:r>
              <a:rPr b="0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Implemen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&lt;&gt;P imple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put lowest id non-suspected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9"/>
                </a:solidFill>
                <a:latin typeface="Times New Roman"/>
              </a:rPr>
              <a:t>In well-behaved runs: process 1 always trus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E4BAE-C244-4988-BE08-F8ABE867C11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ther Failure Detector Implemen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ssage efficient &lt;&gt;S implementation 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[Larrea, Fernández, Arévalo 00]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oS tradeoffs between accuracy and completeness  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[Chen, Toueg, Aguilera 00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der Election 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[Aguilera, Delporte, Fauconnier, Toueg 0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aptive &lt;&gt;P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[Fetzer, Raynal, Tronel 0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Food for though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is building &lt;&gt;P more costly than &lt;&gt;S or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F7091-6439-4B81-9699-9489CCAD8AF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 II: Algorithms, and the Failure Detector Abstra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6440" y="3960720"/>
            <a:ext cx="67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I.a  Failure Detectors and Partial Synchro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20400" y="4724280"/>
            <a:ext cx="244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II.b  Algorith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51351-EDFA-439C-AC8C-E571EF17A2F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sensu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process has an input, should decide an output s.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gree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orrec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rocesses’ decisions are the s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Valid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decision is input of one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ermin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eventually all correct processes dec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are at least two possible input values </a:t>
            </a:r>
            <a:r>
              <a:rPr b="1" lang="en-US" sz="2800" spc="-1" strike="noStrike">
                <a:solidFill>
                  <a:srgbClr val="66ff66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C96CF-620D-4442-8D17-12532E5A28F0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gorithms that Take 2 Rounds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 Well-Behaved Ru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&gt;S-based </a:t>
            </a: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Schiper 97; Hurfin, Raynal 99</a:t>
            </a: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; 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Mostefaoui, Raynal 99</a:t>
            </a: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based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 &lt; n/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Mostefaoui, Raynal 00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based for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 &lt; n/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Dutta, Guerraoui 0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xos (optimized version) 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[Lamport 89; 96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der-based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so tolerates omissions, crash recove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eL - Atomic Broadcast 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[Keidar, Dolev 96]</a:t>
            </a: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oup membership based (&lt;&gt;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39F33-B04E-420D-AC0F-98AF5354E93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f This Laundry List,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 Present Two Algorith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lt;&gt;S-based </a:t>
            </a: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[MR99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x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8A4A5-C3A3-410C-A68E-8257D63BD0EF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&lt;&gt;S-based Consensus </a:t>
            </a: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[MR99]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val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put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v; e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u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 =1, 2, …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or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r mod n)+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f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I am coord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end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val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o 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it for (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val)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m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coor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uspect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ord (by &lt;&gt;S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receive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val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ro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coord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n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es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val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ls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es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nu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nd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est)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it for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est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rom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-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f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y non-null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es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received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val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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ll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es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 have same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end 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(“decide”, </a:t>
            </a:r>
            <a:r>
              <a:rPr b="0" i="1" lang="en-US" sz="2000" spc="-1" strike="noStrike">
                <a:solidFill>
                  <a:srgbClr val="ff99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to all;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v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pon receive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(“decide”, </a:t>
            </a: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)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orward to all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990000" y="2362320"/>
            <a:ext cx="228600" cy="129528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7240" y="281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990000" y="37339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3560" y="4267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C8873-2E61-4FAA-BA41-6D29F961EE91}" type="slidenum">
              <a:t>32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 Well-Behaved Ru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1828800"/>
            <a:ext cx="457200" cy="4572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752480" y="2057400"/>
            <a:ext cx="685800" cy="76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2209680"/>
            <a:ext cx="76176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90920" y="1828800"/>
            <a:ext cx="457200" cy="4572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2590920"/>
            <a:ext cx="457200" cy="4572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90920" y="4114800"/>
            <a:ext cx="457200" cy="4572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2286000"/>
            <a:ext cx="990720" cy="1752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2971800"/>
            <a:ext cx="304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51720" y="2514600"/>
            <a:ext cx="91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(1, </a:t>
            </a: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24080" y="2209680"/>
            <a:ext cx="990720" cy="1752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00400" y="2133720"/>
            <a:ext cx="76212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1981080"/>
            <a:ext cx="685800" cy="76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00400" y="4419720"/>
            <a:ext cx="10666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124080" y="2057040"/>
            <a:ext cx="1219320" cy="2133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828800"/>
            <a:ext cx="457200" cy="4572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2590920"/>
            <a:ext cx="457200" cy="4572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19720" y="4114800"/>
            <a:ext cx="457200" cy="4572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95680" y="2971800"/>
            <a:ext cx="304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124080" y="3048120"/>
            <a:ext cx="1219320" cy="129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3504600" y="4419360"/>
            <a:ext cx="533520" cy="1295640"/>
          </a:xfrm>
          <a:custGeom>
            <a:avLst/>
            <a:gdLst>
              <a:gd name="textAreaLeft" fmla="*/ 0 w 533520"/>
              <a:gd name="textAreaRight" fmla="*/ 192600 w 53352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11"/>
                </a:lnTo>
                <a:cubicBezTo>
                  <a:pt x="10800" y="9711"/>
                  <a:pt x="16200" y="10611"/>
                  <a:pt x="21600" y="10611"/>
                </a:cubicBezTo>
                <a:cubicBezTo>
                  <a:pt x="16200" y="10611"/>
                  <a:pt x="10800" y="11511"/>
                  <a:pt x="10800" y="1241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32280" y="54529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363120" y="5334120"/>
            <a:ext cx="91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(1, </a:t>
            </a: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0800000">
            <a:off x="1523520" y="4952880"/>
            <a:ext cx="1295640" cy="457200"/>
          </a:xfrm>
          <a:prstGeom prst="wedgeRoundRectCallout">
            <a:avLst>
              <a:gd name="adj1" fmla="val -38851"/>
              <a:gd name="adj2" fmla="val 125689"/>
              <a:gd name="adj3" fmla="val 1666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t =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0800000">
            <a:off x="6476760" y="2133720"/>
            <a:ext cx="1981080" cy="457200"/>
          </a:xfrm>
          <a:prstGeom prst="wedgeRoundRectCallout">
            <a:avLst>
              <a:gd name="adj1" fmla="val 97675"/>
              <a:gd name="adj2" fmla="val -177083"/>
              <a:gd name="adj3" fmla="val 1666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id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1981080"/>
            <a:ext cx="304920" cy="2362320"/>
          </a:xfrm>
          <a:custGeom>
            <a:avLst/>
            <a:gdLst>
              <a:gd name="textAreaLeft" fmla="*/ 0 w 304920"/>
              <a:gd name="textAreaRight" fmla="*/ 110160 w 30492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3D680-DB02-4195-AD13-CA1BDB425DC7}" type="slidenum">
              <a:t>33</a:t>
            </a:fld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 Case of Omis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lgorithm can block in case of transient message omissions, waiting for a specific round message that will not arr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CBC35-DF51-4D75-8A41-5C3D1E2CF9B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xos </a:t>
            </a:r>
            <a:br>
              <a:rPr sz="4400"/>
            </a:b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[Lamport 88; 96; 01]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s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ailure dete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ase 1: prep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rocess who trusts itself tries to become lea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oses largest unique (using ids) ballot nu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rns outcome of all smaller ballo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ase 2: accep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de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ropos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value with his ballot numb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der gets majority to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ccep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his propos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value accepted by a majority can be deci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DF173-B1EF-4B10-BE88-A34F0110B1E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xos - Variab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e Ran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tally ordered set with minimum element 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riab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nk                 BallotNum,     initially 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nk                 AcceptNum,   initially 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ue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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    AcceptVal,      initially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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7AFE8-F0CD-45E3-B93C-115624579BAC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xos Phase I: Prepa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iodically, until decision is reache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er (by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llotNum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unique rank &gt; BallotNu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d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(“prepare”, rank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on receive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(“prepare”, rank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rom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ank &gt; BallotNum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llotNum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r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nd 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(“ack”, rank, AcceptNum, AcceptVal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884CB-B028-4CE0-80EC-DC25BC0E653D}" type="slidenum">
              <a:t>37</a:t>
            </a:fld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xos Phase II: Accep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on receive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(“ack”, BallotNum, b, val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rom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-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vals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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yVal = initial val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ls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yVal = received val with highest b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nd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(“accept”, BallotNum, myVal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o all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/* proposal *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on receive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(“accept”, b, v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ith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BallotN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eptNum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b; AcceptVal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v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/* accept proposal *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nd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(“accept”, b, v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o all     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first time on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DA4F3-5670-4C7B-9462-E4A89D9A303B}" type="slidenum">
              <a:t>38</a:t>
            </a:fld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xos – Deci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on receiv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(“accept”, b, v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rom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-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ide 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iodically send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(“decide”, v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on receive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(“decide”, v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ide 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2BCC3-56A5-43AA-B149-A1BB0F2D1F36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sic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ssage pas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nels between every pair of proce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ash fail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&lt;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otential failures out of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&gt;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roce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message loss among correct process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5C6B9-A8F9-4D3D-9568-ACE3AB700313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 Well-Behaved Ru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67080" y="1676520"/>
            <a:ext cx="457200" cy="4572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1905120"/>
            <a:ext cx="835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00600" y="1981080"/>
            <a:ext cx="987480" cy="53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40360" y="1676520"/>
            <a:ext cx="457200" cy="4572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40360" y="2438280"/>
            <a:ext cx="457200" cy="4572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40360" y="3962520"/>
            <a:ext cx="457200" cy="4572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00600" y="2133720"/>
            <a:ext cx="1139760" cy="1752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16680" y="2819520"/>
            <a:ext cx="304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24960" y="4800600"/>
            <a:ext cx="2041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(“accept”,1 ,</a:t>
            </a: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73880" y="2057400"/>
            <a:ext cx="990720" cy="1752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550200" y="1981080"/>
            <a:ext cx="76176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6626160" y="1828800"/>
            <a:ext cx="685800" cy="76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550200" y="4267080"/>
            <a:ext cx="10666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6473880" y="1905120"/>
            <a:ext cx="1219320" cy="2133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769160" y="1676520"/>
            <a:ext cx="457200" cy="4572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769160" y="2438280"/>
            <a:ext cx="457200" cy="4572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769160" y="3962520"/>
            <a:ext cx="457200" cy="4572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45480" y="2819520"/>
            <a:ext cx="304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3880" y="2895120"/>
            <a:ext cx="1219320" cy="1295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5400000">
            <a:off x="6895800" y="3771720"/>
            <a:ext cx="304920" cy="1752480"/>
          </a:xfrm>
          <a:custGeom>
            <a:avLst/>
            <a:gdLst>
              <a:gd name="textAreaLeft" fmla="*/ 0 w 304920"/>
              <a:gd name="textAreaRight" fmla="*/ 110160 w 30492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11"/>
                </a:lnTo>
                <a:cubicBezTo>
                  <a:pt x="10800" y="9711"/>
                  <a:pt x="16200" y="10611"/>
                  <a:pt x="21600" y="10611"/>
                </a:cubicBezTo>
                <a:cubicBezTo>
                  <a:pt x="16200" y="10611"/>
                  <a:pt x="10800" y="11511"/>
                  <a:pt x="10800" y="1241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81720" y="5300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305920" y="1828800"/>
            <a:ext cx="304560" cy="2362320"/>
          </a:xfrm>
          <a:custGeom>
            <a:avLst/>
            <a:gdLst>
              <a:gd name="textAreaLeft" fmla="*/ 0 w 304560"/>
              <a:gd name="textAreaRight" fmla="*/ 109800 w 30456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1676520"/>
            <a:ext cx="457200" cy="4572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752480" y="1904760"/>
            <a:ext cx="685800" cy="75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76520" y="2057400"/>
            <a:ext cx="76176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90920" y="1676520"/>
            <a:ext cx="457200" cy="4572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2438280"/>
            <a:ext cx="457200" cy="4572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90920" y="3962520"/>
            <a:ext cx="457200" cy="4572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00200" y="2133720"/>
            <a:ext cx="990720" cy="1752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666880" y="2819520"/>
            <a:ext cx="304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14400" y="266688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(“prepare”,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124080" y="2209680"/>
            <a:ext cx="1219320" cy="1828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200400" y="2133360"/>
            <a:ext cx="990720" cy="533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24080" y="1905120"/>
            <a:ext cx="10670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19520" y="3276720"/>
            <a:ext cx="186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(“ack”,1,r</a:t>
            </a:r>
            <a:r>
              <a:rPr b="0" lang="en-US" sz="2400" spc="-1" strike="noStrike" baseline="-25000">
                <a:solidFill>
                  <a:srgbClr val="ff99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0800000">
            <a:off x="7162560" y="5715000"/>
            <a:ext cx="1981080" cy="457200"/>
          </a:xfrm>
          <a:prstGeom prst="wedgeRoundRectCallout">
            <a:avLst>
              <a:gd name="adj1" fmla="val -24120"/>
              <a:gd name="adj2" fmla="val 645138"/>
              <a:gd name="adj3" fmla="val 1666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id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43880" y="2666880"/>
            <a:ext cx="2041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(“accept”,1 ,</a:t>
            </a: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23040" y="4946760"/>
            <a:ext cx="256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ur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implement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ways trusts process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D20C6-1564-4043-B96E-F928CE64711D}" type="slidenum">
              <a:t>40</a:t>
            </a:fld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ptimiz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w process 1 (only!) to skip Phase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rank 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ose its own initial va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s 2 rounds in well-behaved ru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s 2 rounds for repeated invocations with the same lea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FA0CA-F79C-4938-92F3-F46BBB40E1A3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About Message Los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es not block in case of a lost mess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ase I can start with new rank even if previous attempts never en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constant omissions can violate live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f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onditional liveness: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ffff99"/>
                </a:solidFill>
                <a:latin typeface="Times New Roman"/>
              </a:rPr>
              <a:t>n-t correct processes including the leader can communicate with each oth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then</a:t>
            </a:r>
            <a:r>
              <a:rPr b="0" i="1" lang="en-US" sz="2800" spc="-1" strike="noStrike">
                <a:solidFill>
                  <a:srgbClr val="ffff99"/>
                </a:solidFill>
                <a:latin typeface="Times New Roman"/>
              </a:rPr>
              <a:t> they eventually dec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E4B95-D1DE-4F96-863B-C433B39D4A3E}" type="slidenum">
              <a:t>42</a:t>
            </a:fld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 III: Lower Bounds in Partial Synchrony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3BAC8-A61A-48EB-BCA5-7AFDCC09750E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pper Bounds From Part II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We saw that there are algorithms that take 2 rounds t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cide in well-behaved run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&gt;S-based,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based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axos, COR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ented two of th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F10D7-80EF-4F0A-974B-51526967B03D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are there no 1-Round Algorithm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here is a lower bound of 2 rounds in well-behaved executio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ilar bounds shown in </a:t>
            </a:r>
            <a:r>
              <a:rPr b="0" lang="en-US" sz="2000" spc="-1" strike="noStrike">
                <a:solidFill>
                  <a:srgbClr val="ff3399"/>
                </a:solidFill>
                <a:latin typeface="Times New Roman"/>
              </a:rPr>
              <a:t>[Dwork, Skeen 83; Lamport 00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will show that the bound follows from a similar bound o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Uniform Consens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 the synchronous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20064-D481-4814-B420-30BF22302B45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niform Consensu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Uniform agreem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decision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wo processes is the s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all: with consensus, onl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orrec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rocesses have to agre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DB0A3-AEF8-4F0D-AE7A-BCFB9071AF44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rom Consensus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o Uniform Consensu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9250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n partial synchrony model, any algorithm A for consensus solves uniform consensu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[Guerraoui 95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roof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ssume by contradiction tha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es not solve uniform consens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some run, p,q decide differently, p fai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 may be non-faulty, and may wake up after q deci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1E4D3-EA42-49CF-8212-4410A633D1C4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ynchronous Uniform Consensu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Every algorithm has a well-behaved run that takes 2 rounds to deci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generally, it has a run with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ilures 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&lt;t-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, that takes at leas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+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ounds to decide</a:t>
            </a: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[Charron-Bost, Schiper 00; KR 01]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opposed to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+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or consens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AC73E-EEE1-4D48-A58A-18F9FA816BC1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 Simple Proof of the Uniform Consensus Synchronous Lower Bound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[Keidar, Rajsbaum IPL 02]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D6824-12B4-4414-85F3-D3605D615C33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Long Does It Take to Solve Consensu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92504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pends on the timing mode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ssage dela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cessing ti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oc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on the metric use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st c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er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F985A-AD59-4560-9B93-AD4A25E1374F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a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list of processes’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ocal stat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n a fixed deterministic algorithm,     state at the end of run determined by initial values a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nvironment 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ilures, message lo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denoted 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 . E1. E2. E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  state, Ei environment a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60CD2-F3FB-4C39-A770-12AB51199083}" type="slidenum">
              <a:t>50</a:t>
            </a:fld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nectiv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ates x, x’ are similar, </a:t>
            </a:r>
            <a:r>
              <a:rPr b="0" i="1" lang="en-US" sz="3200" spc="-1" strike="noStrike">
                <a:solidFill>
                  <a:srgbClr val="ff9900"/>
                </a:solidFill>
                <a:latin typeface="Times New Roman"/>
              </a:rPr>
              <a:t>x~x’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, if they look the same to all but at most one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of initial states of consensus is conne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tuition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 connected states there cannot be different deci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2666880" y="4191120"/>
            <a:ext cx="3962520" cy="380880"/>
            <a:chOff x="2666880" y="4191120"/>
            <a:chExt cx="3962520" cy="380880"/>
          </a:xfrm>
        </p:grpSpPr>
        <p:sp>
          <p:nvSpPr>
            <p:cNvPr id="254" name=""/>
            <p:cNvSpPr/>
            <p:nvPr/>
          </p:nvSpPr>
          <p:spPr>
            <a:xfrm>
              <a:off x="2666880" y="4191120"/>
              <a:ext cx="762120" cy="3808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66"/>
                  </a:solidFill>
                  <a:latin typeface="Times New Roman"/>
                </a:rPr>
                <a:t>0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733920" y="4191120"/>
              <a:ext cx="761760" cy="3808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66"/>
                  </a:solidFill>
                  <a:latin typeface="Times New Roman"/>
                </a:rPr>
                <a:t>00</a:t>
              </a:r>
              <a:r>
                <a:rPr b="1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867280" y="4191120"/>
              <a:ext cx="762120" cy="3808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33"/>
                  </a:solidFill>
                  <a:latin typeface="Times New Roman"/>
                </a:rPr>
                <a:t>11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00600" y="4191120"/>
              <a:ext cx="762120" cy="3808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66"/>
                  </a:solidFill>
                  <a:latin typeface="Times New Roman"/>
                </a:rPr>
                <a:t>0</a:t>
              </a:r>
              <a:r>
                <a:rPr b="1" lang="en-US" sz="2400" spc="-1" strike="noStrike">
                  <a:solidFill>
                    <a:srgbClr val="ff0033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430080" y="41911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~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84160" y="41911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~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563800" y="41911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~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FF5B0-4F8B-4F61-827B-A3F8E92AE213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66ff66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66ff66"/>
                </a:solidFill>
                <a:latin typeface="Times New Roman"/>
              </a:rPr>
              <a:t>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ssibility proofs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on-decided st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cal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valenc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potential decisions state can lead to e.g. </a:t>
            </a: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[FLP85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val(x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decision of correct processes i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ailure-fre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xtension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66ff66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78B33-D72C-4A44-8726-624865854DA2}" type="slidenum">
              <a:t>52</a:t>
            </a:fld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o Prove Lower Boun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fficient to look at subset of runs, called a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ifies proo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et of environment actions defines a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426B6-9D07-41C3-8A30-FDA309F9221C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sidered Environment A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(i, [k]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ails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ssages to processe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{1,…,k}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ost (if se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[0] empty set - no lo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icable if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on-failed and &lt;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ail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(0, [0]) -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failu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ways applicabl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otice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t most one process fails in one 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s messages lost by prefix of proce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A5251-7D4A-460C-A72D-FC272B07BB11}" type="slidenum">
              <a:t>54</a:t>
            </a:fld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ayering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ayer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 = set of environment a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(X) = {x.E | x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X, 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L applicable to x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X) = 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X) = L(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k-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X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e system using laye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et of initial st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: all runs obtained from L( .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[Moses, Rajsbaum 98; Gafni 98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Herlihy, Rajsbaum,Tuttle 98]</a:t>
            </a:r>
            <a:r>
              <a:rPr b="0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6629400" y="3733920"/>
            <a:ext cx="1676160" cy="1294920"/>
            <a:chOff x="6629400" y="3733920"/>
            <a:chExt cx="1676160" cy="1294920"/>
          </a:xfrm>
        </p:grpSpPr>
        <p:sp>
          <p:nvSpPr>
            <p:cNvPr id="270" name=""/>
            <p:cNvSpPr/>
            <p:nvPr/>
          </p:nvSpPr>
          <p:spPr>
            <a:xfrm>
              <a:off x="6629400" y="4495680"/>
              <a:ext cx="1676160" cy="533160"/>
            </a:xfrm>
            <a:prstGeom prst="cube">
              <a:avLst>
                <a:gd name="adj" fmla="val 25000"/>
              </a:avLst>
            </a:pr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629400" y="4114800"/>
              <a:ext cx="1676160" cy="532800"/>
            </a:xfrm>
            <a:prstGeom prst="cube">
              <a:avLst>
                <a:gd name="adj" fmla="val 25000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(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629400" y="3733920"/>
              <a:ext cx="1676160" cy="533160"/>
            </a:xfrm>
            <a:prstGeom prst="cube">
              <a:avLst>
                <a:gd name="adj" fmla="val 25000"/>
              </a:avLst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60622-FF13-4AA1-8298-7075B11D5CEA}" type="slidenum">
              <a:t>55</a:t>
            </a:fld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of Strate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Uniform Lemm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from connected set, under some conditions, 2 more rounds needed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unifor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ensus (recall: 1 for consensu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itial states are connec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n general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&lt;t+1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connected </a:t>
            </a:r>
            <a:r>
              <a:rPr b="0" i="1" lang="en-US" sz="2000" spc="-1" strike="noStrike">
                <a:solidFill>
                  <a:srgbClr val="ffff99"/>
                </a:solidFill>
                <a:latin typeface="Times New Roman"/>
              </a:rPr>
              <a:t>(will not be show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ature of model, not of the 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so implies consensu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+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lower b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be prove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or al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in other models, e.g., mobile failure model </a:t>
            </a:r>
            <a:r>
              <a:rPr b="0" lang="en-US" sz="2000" spc="-1" strike="noStrike">
                <a:solidFill>
                  <a:srgbClr val="ff3399"/>
                </a:solidFill>
                <a:latin typeface="Times New Roman"/>
              </a:rPr>
              <a:t>[MosesR98], [Santoro,Widemayer89],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d asynchronous mo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D5F62-A204-4746-9D0A-E95247738CCE}" type="slidenum">
              <a:t>56</a:t>
            </a:fld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niform Lemm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 conn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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,x’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, s.t.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val(x)= </a:t>
            </a:r>
            <a:r>
              <a:rPr b="1" lang="en-US" sz="2800" spc="-1" strike="noStrike">
                <a:solidFill>
                  <a:srgbClr val="66ff66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val(x’)=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all states in X exist at least 3 non-failed processes and 2 can f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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 s.t. in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y.(0,[0])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all dec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71800" y="5791320"/>
            <a:ext cx="4724280" cy="609480"/>
          </a:xfrm>
          <a:prstGeom prst="wedgeEllipseCallout">
            <a:avLst>
              <a:gd name="adj1" fmla="val -32861"/>
              <a:gd name="adj2" fmla="val -11224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-round failure-free extension o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AD7A5-665A-40C8-AC3B-15B1A0E9EDA8}" type="slidenum">
              <a:t>57</a:t>
            </a:fld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niform Lemma: Proo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4724280"/>
            <a:ext cx="792504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ume, by contradiction, in failure-free extensions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y, y’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all decide after 1 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cases: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ither failed or non-fai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3733920" y="2724120"/>
            <a:ext cx="1675800" cy="380880"/>
            <a:chOff x="3733920" y="2724120"/>
            <a:chExt cx="1675800" cy="380880"/>
          </a:xfrm>
        </p:grpSpPr>
        <p:sp>
          <p:nvSpPr>
            <p:cNvPr id="281" name=""/>
            <p:cNvSpPr/>
            <p:nvPr/>
          </p:nvSpPr>
          <p:spPr>
            <a:xfrm>
              <a:off x="4647960" y="2724120"/>
              <a:ext cx="761760" cy="3808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’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733920" y="2724120"/>
              <a:ext cx="761760" cy="3808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41600" y="2724120"/>
              <a:ext cx="381960" cy="122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94" y="5864"/>
                  </a:moveTo>
                  <a:arcTo wR="10800" hR="10800" stAng="-9168067" swAng="105645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194" y="5864"/>
                  </a:moveTo>
                  <a:arcTo wR="10800" hR="10800" stAng="-9168067" swAng="10564515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1600200" y="2514600"/>
            <a:ext cx="6019920" cy="590400"/>
            <a:chOff x="1600200" y="2514600"/>
            <a:chExt cx="6019920" cy="590400"/>
          </a:xfrm>
        </p:grpSpPr>
        <p:sp>
          <p:nvSpPr>
            <p:cNvPr id="285" name=""/>
            <p:cNvSpPr/>
            <p:nvPr/>
          </p:nvSpPr>
          <p:spPr>
            <a:xfrm>
              <a:off x="1600200" y="2724120"/>
              <a:ext cx="762120" cy="38088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514600" y="2724120"/>
              <a:ext cx="762120" cy="38088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943600" y="2724120"/>
              <a:ext cx="762120" cy="38088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858000" y="2724120"/>
              <a:ext cx="762120" cy="38088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’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411160" y="251460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77440" y="251460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211120" y="2725560"/>
              <a:ext cx="382320" cy="1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94" y="5864"/>
                  </a:moveTo>
                  <a:arcTo wR="10800" hR="10800" stAng="-9168067" swAng="105645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194" y="5864"/>
                  </a:moveTo>
                  <a:arcTo wR="10800" hR="10800" stAng="-9168067" swAng="10564515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532200" y="2724120"/>
              <a:ext cx="382680" cy="10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94" y="5864"/>
                  </a:moveTo>
                  <a:arcTo wR="10800" hR="10800" stAng="-9168067" swAng="103624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194" y="5864"/>
                  </a:moveTo>
                  <a:arcTo wR="10800" hR="10800" stAng="-9168067" swAng="10362471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103200" y="2725560"/>
              <a:ext cx="381960" cy="1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94" y="5864"/>
                  </a:moveTo>
                  <a:arcTo wR="10800" hR="10800" stAng="-9168067" swAng="77136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194" y="5864"/>
                  </a:moveTo>
                  <a:arcTo wR="10800" hR="10800" stAng="-9168067" swAng="7713608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694120" y="2724120"/>
              <a:ext cx="381960" cy="1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94" y="5864"/>
                  </a:moveTo>
                  <a:arcTo wR="10800" hR="10800" stAng="-9168067" swAng="77136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194" y="5864"/>
                  </a:moveTo>
                  <a:arcTo wR="10800" hR="10800" stAng="-9168067" swAng="7713608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838080" y="1752480"/>
            <a:ext cx="7925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 connected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val(x)= </a:t>
            </a:r>
            <a:r>
              <a:rPr b="1" lang="en-US" sz="2800" spc="-1" strike="noStrike">
                <a:solidFill>
                  <a:srgbClr val="66ff66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val(x’)=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3505320"/>
            <a:ext cx="4419720" cy="1066680"/>
          </a:xfrm>
          <a:prstGeom prst="wedgeEllipseCallout">
            <a:avLst>
              <a:gd name="adj1" fmla="val -20365"/>
              <a:gd name="adj2" fmla="val -100893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er only in state of som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1E627-B261-4C03-A079-A25DD8D2CA9E}" type="slidenum">
              <a:t>58</a:t>
            </a:fld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llustrating the Contradiction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se 1: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j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is correc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20400" y="2057400"/>
            <a:ext cx="3580200" cy="1983600"/>
            <a:chOff x="1220400" y="2057400"/>
            <a:chExt cx="3580200" cy="1983600"/>
          </a:xfrm>
        </p:grpSpPr>
        <p:sp>
          <p:nvSpPr>
            <p:cNvPr id="299" name=""/>
            <p:cNvSpPr/>
            <p:nvPr/>
          </p:nvSpPr>
          <p:spPr>
            <a:xfrm>
              <a:off x="1523880" y="2133720"/>
              <a:ext cx="1295640" cy="457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752480" y="2209680"/>
              <a:ext cx="228600" cy="30492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57400" y="2209680"/>
              <a:ext cx="228600" cy="304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362320" y="2209680"/>
              <a:ext cx="228600" cy="304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505320" y="2133720"/>
              <a:ext cx="1295280" cy="457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733920" y="2209680"/>
              <a:ext cx="228600" cy="30492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038480" y="2209680"/>
              <a:ext cx="228600" cy="304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343400" y="2209680"/>
              <a:ext cx="228600" cy="304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523880" y="3124080"/>
              <a:ext cx="1295640" cy="457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752480" y="3200400"/>
              <a:ext cx="228600" cy="304920"/>
            </a:xfrm>
            <a:prstGeom prst="ellipse">
              <a:avLst/>
            </a:prstGeom>
            <a:solidFill>
              <a:srgbClr val="66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057400" y="3200400"/>
              <a:ext cx="228600" cy="304920"/>
            </a:xfrm>
            <a:prstGeom prst="ellipse">
              <a:avLst/>
            </a:prstGeom>
            <a:solidFill>
              <a:srgbClr val="66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362320" y="3200400"/>
              <a:ext cx="228600" cy="304920"/>
            </a:xfrm>
            <a:prstGeom prst="ellipse">
              <a:avLst/>
            </a:prstGeom>
            <a:solidFill>
              <a:srgbClr val="66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905120" y="2514600"/>
              <a:ext cx="22860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2514600"/>
              <a:ext cx="53316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20400" y="2133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201480" y="20574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y’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220400" y="358128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y.(0,[0]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24800" y="3581280"/>
              <a:ext cx="131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y’.(0,[0]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505320" y="3124080"/>
              <a:ext cx="1295280" cy="457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733920" y="3200400"/>
              <a:ext cx="228600" cy="304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38480" y="3200400"/>
              <a:ext cx="228600" cy="304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343400" y="3200400"/>
              <a:ext cx="228600" cy="304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886200" y="2514600"/>
              <a:ext cx="22860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86200" y="2514600"/>
              <a:ext cx="53352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5030280" y="2133720"/>
            <a:ext cx="3656520" cy="1907280"/>
            <a:chOff x="5030280" y="2133720"/>
            <a:chExt cx="3656520" cy="1907280"/>
          </a:xfrm>
        </p:grpSpPr>
        <p:sp>
          <p:nvSpPr>
            <p:cNvPr id="324" name=""/>
            <p:cNvSpPr/>
            <p:nvPr/>
          </p:nvSpPr>
          <p:spPr>
            <a:xfrm>
              <a:off x="5638680" y="2209680"/>
              <a:ext cx="228600" cy="30492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410080" y="2133720"/>
              <a:ext cx="1295640" cy="457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43600" y="2209680"/>
              <a:ext cx="228600" cy="304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48520" y="2209680"/>
              <a:ext cx="228600" cy="304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391520" y="2133720"/>
              <a:ext cx="1295280" cy="457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620120" y="2209680"/>
              <a:ext cx="228600" cy="30492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924680" y="2209680"/>
              <a:ext cx="228600" cy="304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229600" y="2209680"/>
              <a:ext cx="228600" cy="304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10080" y="3124080"/>
              <a:ext cx="1295640" cy="457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638680" y="3200400"/>
              <a:ext cx="228600" cy="3049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943600" y="3200400"/>
              <a:ext cx="228600" cy="304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248520" y="3200400"/>
              <a:ext cx="228600" cy="304920"/>
            </a:xfrm>
            <a:prstGeom prst="ellipse">
              <a:avLst/>
            </a:prstGeom>
            <a:solidFill>
              <a:srgbClr val="66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791320" y="2514600"/>
              <a:ext cx="53316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791320" y="2514600"/>
              <a:ext cx="7596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514600"/>
              <a:ext cx="7632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106600" y="2133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011360" y="22096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y’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1520" y="3124080"/>
              <a:ext cx="1295280" cy="457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620120" y="3200400"/>
              <a:ext cx="228600" cy="3049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24680" y="3200400"/>
              <a:ext cx="228600" cy="304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29600" y="3200400"/>
              <a:ext cx="228600" cy="304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772400" y="2514600"/>
              <a:ext cx="53352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30280" y="358128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y.(1,[2]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935040" y="3581280"/>
              <a:ext cx="131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y’.(1,[2]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4420440" y="3505320"/>
            <a:ext cx="4324320" cy="2212200"/>
            <a:chOff x="4420440" y="3505320"/>
            <a:chExt cx="4324320" cy="2212200"/>
          </a:xfrm>
        </p:grpSpPr>
        <p:sp>
          <p:nvSpPr>
            <p:cNvPr id="349" name=""/>
            <p:cNvSpPr/>
            <p:nvPr/>
          </p:nvSpPr>
          <p:spPr>
            <a:xfrm flipH="1">
              <a:off x="8152920" y="3505320"/>
              <a:ext cx="228600" cy="53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6248160" y="3505320"/>
              <a:ext cx="152280" cy="53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4420440" y="4724280"/>
              <a:ext cx="4324320" cy="993240"/>
              <a:chOff x="4420440" y="4724280"/>
              <a:chExt cx="4324320" cy="993240"/>
            </a:xfrm>
          </p:grpSpPr>
          <p:sp>
            <p:nvSpPr>
              <p:cNvPr id="352" name=""/>
              <p:cNvSpPr/>
              <p:nvPr/>
            </p:nvSpPr>
            <p:spPr>
              <a:xfrm>
                <a:off x="5334120" y="4724280"/>
                <a:ext cx="1295280" cy="4572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562720" y="4800600"/>
                <a:ext cx="228600" cy="3049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867280" y="4800600"/>
                <a:ext cx="228600" cy="3049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172200" y="4800600"/>
                <a:ext cx="228600" cy="304920"/>
              </a:xfrm>
              <a:prstGeom prst="ellipse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315200" y="4724280"/>
                <a:ext cx="1295280" cy="4572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543800" y="4800600"/>
                <a:ext cx="228600" cy="3049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848720" y="4800600"/>
                <a:ext cx="228600" cy="3049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8153280" y="4800600"/>
                <a:ext cx="228600" cy="3049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0" name=""/>
              <p:cNvGrpSpPr/>
              <p:nvPr/>
            </p:nvGrpSpPr>
            <p:grpSpPr>
              <a:xfrm>
                <a:off x="4420440" y="5257800"/>
                <a:ext cx="4324320" cy="459720"/>
                <a:chOff x="4420440" y="5257800"/>
                <a:chExt cx="4324320" cy="4597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4420440" y="5257800"/>
                  <a:ext cx="2114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y.(1,[2]).(3,[3])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630120" y="5257800"/>
                  <a:ext cx="2114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y.(1,[2]).(3,[3])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63" name=""/>
          <p:cNvSpPr/>
          <p:nvPr/>
        </p:nvSpPr>
        <p:spPr>
          <a:xfrm>
            <a:off x="2050560" y="6095880"/>
            <a:ext cx="49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 contradiction to uniform agreemen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62120" y="4419720"/>
            <a:ext cx="3124080" cy="990360"/>
          </a:xfrm>
          <a:prstGeom prst="wedgeRoundRectCallout">
            <a:avLst>
              <a:gd name="adj1" fmla="val 5638"/>
              <a:gd name="adj2" fmla="val -131569"/>
              <a:gd name="adj3" fmla="val 1666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val(y)=</a:t>
            </a:r>
            <a:r>
              <a:rPr b="1" lang="en-US" sz="2000" spc="-1" strike="noStrike">
                <a:solidFill>
                  <a:srgbClr val="66ff66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leads to decision </a:t>
            </a:r>
            <a:r>
              <a:rPr b="1" lang="en-US" sz="2000" spc="-1" strike="noStrike">
                <a:solidFill>
                  <a:srgbClr val="66ff66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one failure-free rou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495680" y="5867280"/>
            <a:ext cx="4114800" cy="457200"/>
          </a:xfrm>
          <a:prstGeom prst="wedgeRoundRectCallout">
            <a:avLst>
              <a:gd name="adj1" fmla="val 347"/>
              <a:gd name="adj2" fmla="val -99652"/>
              <a:gd name="adj3" fmla="val 1666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ok the same to process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133720" y="3581280"/>
            <a:ext cx="3124080" cy="1219320"/>
            <a:chOff x="2133720" y="3581280"/>
            <a:chExt cx="3124080" cy="1219320"/>
          </a:xfrm>
        </p:grpSpPr>
        <p:sp>
          <p:nvSpPr>
            <p:cNvPr id="367" name=""/>
            <p:cNvSpPr/>
            <p:nvPr/>
          </p:nvSpPr>
          <p:spPr>
            <a:xfrm>
              <a:off x="2133720" y="4343400"/>
              <a:ext cx="3124080" cy="457200"/>
            </a:xfrm>
            <a:prstGeom prst="wedgeRoundRectCallout">
              <a:avLst>
                <a:gd name="adj1" fmla="val 53504"/>
                <a:gd name="adj2" fmla="val -262152"/>
                <a:gd name="adj3" fmla="val 16667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look the same to process 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590920" y="3581280"/>
              <a:ext cx="9903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590920" y="3581280"/>
              <a:ext cx="38088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7FC17-FBE7-4B01-89D7-BFDD1898A78E}" type="slidenum">
              <a:t>59</a:t>
            </a:fld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Rest of This Tutori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Part 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Realistic timing model and metr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Part I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Upper bou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Part II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Lower bou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Part IV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New directions and exten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42182-ACBF-4A72-B237-1455F03D130A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uniform consensus synchronous lower b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 &gt;2, t &gt;1, f =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0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{initial failure-free states} conne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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’,x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.t.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(x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66ff66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val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(x’)=</a:t>
            </a: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validit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Uniform Lemm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from some initial state need 2 rounds to dec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F066B-C957-404C-B5D4-F58DCC51DAAB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art IV: Extensions and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New Direct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E616D-80DF-4090-A4AB-B901C63463FA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ess Than Well-Behaved Ru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ow discuss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stab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uns with fail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ly initial failures, and after that run is “well-behaved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un is synchronous but there ar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ail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Food for though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f the run is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unstab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then becomes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stab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C3EAC-36A3-47AD-A19B-E9DB23F08E55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table Runs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ith Initial Failures Onl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hms we showed he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[MR99]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an tak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+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ou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xos takes 4 rounds after leader is kn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result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 &gt; 3t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ists &lt;&gt;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based algorithm that terminates in 2 round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[Mostefaoui, Raynal 00]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 &lt; 3t+1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ght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er bound of 3 round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[Dutta, Guerraoui, Keidar WIP; Lamport WIP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031F7-3EE4-4431-B180-6D23F95DDAD9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table Runs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ith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Failur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&lt;t-1,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showed lower bound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+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hms we showed here can tak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2f+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 runs with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ail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[Dutta, Guerraoui            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nd lower bound to cover also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=t-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=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w algorithm that take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+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Food for though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gorithm that take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+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ounds for ever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 &lt;=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886200" y="3581280"/>
            <a:ext cx="942840" cy="2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PODC02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6E539-4DE6-4AC0-8D15-7ACBDC3BB01B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yzantine Fail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zantine variants of Paxos </a:t>
            </a: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[Castro Liskov 99; Chockler, Malkhi, Reiter 01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&gt;3t,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n with authentication </a:t>
            </a: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[DLS88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opposed to synchronous c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result: same upper and lower bounds as in crash failure model (but with more processes) </a:t>
            </a: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[Lamport WIP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2BFCE-FD17-4DC9-8637-E7409F5C94CE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akness of the “Rounds”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erformance Metri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the Internet, time to complete a round can depend heavily on number of messages sent and other factors 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[Bakr, Keidar             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ason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pends on delay distrib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Food for though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tter performance metric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629400" y="2971800"/>
            <a:ext cx="94284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PODC02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994A7-F98B-4729-93B7-8206A521306D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66"/>
                </a:solidFill>
                <a:latin typeface="Times New Roman"/>
              </a:rPr>
              <a:t>More Food for Though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ared memory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definitions of “well-behaved executions”? Including factors such as contentio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.g.,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[Alur, Attiya, Taubenfeld 97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ic reductions from message passing bounds to bounds in different shared memory mod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initely many process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xos in shared memory with infinitely many processes 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[Chockler, Malkhi               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5562720" y="5791320"/>
            <a:ext cx="94284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PODC02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A1A51-062C-4F57-B9AA-770E1AE44FFD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66"/>
                </a:solidFill>
                <a:latin typeface="Times New Roman"/>
              </a:rPr>
              <a:t>More Food for Thought Ye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omic Commit – 3 rounds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tual exclusion, etc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of techniqu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yered analysis for partial synchrony mod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rove timing bounds for such mod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.g., consensus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99"/>
                </a:solidFill>
                <a:latin typeface="Times New Roman"/>
              </a:rPr>
              <a:t>[Attiya, Dwork, Lynch, Stockmeyer 94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it-free k-set agree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99"/>
                </a:solidFill>
                <a:latin typeface="Times New Roman"/>
              </a:rPr>
              <a:t>[Herlihy, Rajsbaum, Tuttle 98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31B57-EA3F-47CC-B7D0-B34473A81257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 an Optimistic No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nsus requires 2 rounds in  partial synchrony model because of false suspic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timistic approach: use 1-round algorith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rect while there are no false suspic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on false suspicions, reconcile or rollback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.g., Group Communication 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Horus, Amoeba,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omic Commit</a:t>
            </a: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[Jimenez-Peris, Patino-Martinez, Alonso, Arevalo 0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1F19F-725C-4416-ADFF-89FB0BD85C98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 I: Realistic Timing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045EC-B53A-4968-B878-99E93D243A2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synchronous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bounded message delay, processor spe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99"/>
                </a:solidFill>
                <a:latin typeface="Times New Roman"/>
              </a:rPr>
              <a:t>Consensus impossible even for t=1 </a:t>
            </a: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[FLP85]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6A052-089A-4965-ADEA-9BFA7D314D4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 flipH="1" rot="10732800">
            <a:off x="7390080" y="2437560"/>
            <a:ext cx="1143000" cy="2589480"/>
          </a:xfrm>
          <a:custGeom>
            <a:avLst/>
            <a:gdLst>
              <a:gd name="textAreaLeft" fmla="*/ 153000 w 1143000"/>
              <a:gd name="textAreaRight" fmla="*/ 990000 w 1143000"/>
              <a:gd name="textAreaTop" fmla="*/ 547920 h 2589480"/>
              <a:gd name="textAreaBottom" fmla="*/ 1859400 h 258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140" stAng="-5400000" swAng="5400000"/>
                <a:lnTo>
                  <a:pt x="21600" y="10938"/>
                </a:lnTo>
                <a:arcTo wR="21600" hR="9140" stAng="0" swAng="2517288"/>
                <a:lnTo>
                  <a:pt x="9199" y="20730"/>
                </a:lnTo>
                <a:lnTo>
                  <a:pt x="0" y="19179"/>
                </a:lnTo>
                <a:lnTo>
                  <a:pt x="9199" y="15888"/>
                </a:lnTo>
                <a:lnTo>
                  <a:pt x="9199" y="17410"/>
                </a:lnTo>
                <a:arcTo wR="21600" hR="9140" stAng="2517288" swAng="-2373595"/>
                <a:lnTo>
                  <a:pt x="21495" y="10039"/>
                </a:lnTo>
                <a:arcTo wR="21600" hR="9140" stAng="-143694" swAng="-5256306"/>
                <a:close/>
              </a:path>
              <a:path fill="darkenLess" w="21600" h="21600">
                <a:moveTo>
                  <a:pt x="0" y="0"/>
                </a:moveTo>
                <a:arcTo wR="21600" hR="9140" stAng="-5400000" swAng="5400000"/>
                <a:lnTo>
                  <a:pt x="21600" y="10938"/>
                </a:lnTo>
                <a:arcTo wR="21600" hR="9140" stAng="0" swAng="-143694"/>
                <a:lnTo>
                  <a:pt x="21495" y="10039"/>
                </a:lnTo>
                <a:arcTo wR="21600" hR="9140" stAng="-143694" swAng="-5256306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304812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41"/>
                </a:lnTo>
                <a:cubicBezTo>
                  <a:pt x="10800" y="9741"/>
                  <a:pt x="5400" y="10641"/>
                  <a:pt x="0" y="10641"/>
                </a:cubicBezTo>
                <a:cubicBezTo>
                  <a:pt x="5400" y="10641"/>
                  <a:pt x="10800" y="11541"/>
                  <a:pt x="10800" y="1244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27432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Rou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ynchronous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92504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hm runs in synchronous roun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d messages to any set of processe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eive messages from previous round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local processing (possibly decide, hal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541008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proces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rashes in a round, then any subset of the message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ds in this round can be l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4A7F7-9C12-4BC6-BA74-EFBABE368A6E}" type="slidenum">
              <a:t>9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5T08:50:00Z</dcterms:created>
  <dc:creator>Idit Keidar</dc:creator>
  <dc:description/>
  <dc:language>en-US</dc:language>
  <cp:lastModifiedBy>טכניון מכון טכנולוגי</cp:lastModifiedBy>
  <cp:lastPrinted>2002-07-05T19:42:10Z</cp:lastPrinted>
  <dcterms:modified xsi:type="dcterms:W3CDTF">2003-09-12T06:52:10Z</dcterms:modified>
  <cp:revision>2966</cp:revision>
  <dc:subject/>
  <dc:title>Abstractions for Fault Tolerant Computing</dc:title>
</cp:coreProperties>
</file>