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93660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25200" y="4386240"/>
            <a:ext cx="509580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877068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936600" y="877068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2B85D39-8BB0-417B-8C01-D8FF342FB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25200" y="4386240"/>
            <a:ext cx="509580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333 MegaHertz Sun UltraSparc 5/10s running SunOS 5.6  on a 10MBit/sec Ethernet.  40,000 1KByte messages sent every 15 milliseconds.  View changes took about a sec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nefit of OVS is that the pre-send time is masked by the wire time for these messages.  The overhead of OVS would be in addition pre-delivery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25200" y="4386240"/>
            <a:ext cx="509580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head for non-retransmission is less than 20 microseconds, which is significantly less than the pre-send overhead that is mas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head for retransmission is basically a was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8 microseconds are taken by the message-condition evaluator, which could be batc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5200" y="4386240"/>
            <a:ext cx="509580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that this is an asymptotic 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ws, in a sense, how quickly the throughput of the system recovers from a view change.  In essence, OVS does as well as the system without Sending View Deliv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25200" y="4386240"/>
            <a:ext cx="509580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cast guarantees at most once deli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what OVS and GCS are before you start using the acrony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25200" y="4386240"/>
            <a:ext cx="509580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what group membership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views provide a form of concurrent common knowedge -&gt; views represent concurrent common knowledge of being in a connected component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25200" y="4386240"/>
            <a:ext cx="509580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how multicast works, and the problem of a message sent in one view delivered to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you will probably be sandbagged when you mention “sending view delivery”. be ready to give an example of why it can be a useful property. coordinator cohort? that fits in with the slide two down.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25200" y="4386240"/>
            <a:ext cx="509580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before starting animation what they are about to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is that there will always be a message in transi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"dropping messages" is an odd idea (even if flaviu did it). of course, it is important to present here. i guess that you can make this less odd when you discuss it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25200" y="4386240"/>
            <a:ext cx="509580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25200" y="4386240"/>
            <a:ext cx="509580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different kind of optimism: a process is performing an optimistic event by sending the message, but there is no real rollback, since the messages are dropped by the system, except on the sending s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520" y="40708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4560" y="15235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520" y="40708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4560" y="40708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0360" y="15235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0560" y="15235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520" y="40708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0360" y="40708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0560" y="40708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4560" y="152352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4560" y="152352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520" y="40708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4560" y="15235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4560" y="40708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4560" y="15235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520" y="40708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219320"/>
            <a:ext cx="9132840" cy="74520"/>
          </a:xfrm>
          <a:prstGeom prst="rect">
            <a:avLst/>
          </a:prstGeom>
          <a:gradFill rotWithShape="0">
            <a:gsLst>
              <a:gs pos="0">
                <a:srgbClr val="011244"/>
              </a:gs>
              <a:gs pos="50000">
                <a:srgbClr val="063de8"/>
              </a:gs>
              <a:gs pos="100000">
                <a:srgbClr val="0112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333440"/>
            <a:ext cx="9132840" cy="38160"/>
          </a:xfrm>
          <a:prstGeom prst="rect">
            <a:avLst/>
          </a:prstGeom>
          <a:gradFill rotWithShape="0">
            <a:gsLst>
              <a:gs pos="0">
                <a:srgbClr val="d70125"/>
              </a:gs>
              <a:gs pos="50000">
                <a:srgbClr val="630011"/>
              </a:gs>
              <a:gs pos="100000">
                <a:srgbClr val="d7012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"/>
          <p:cNvSpPr/>
          <p:nvPr/>
        </p:nvSpPr>
        <p:spPr>
          <a:xfrm>
            <a:off x="4430880" y="6485040"/>
            <a:ext cx="282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357400" y="6486480"/>
            <a:ext cx="99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F70A-9E94-414C-98B4-D54C4A173CCF}" type="slidenum">
              <a:rPr b="0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15560" y="6486480"/>
            <a:ext cx="2545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79f"/>
                </a:solidFill>
                <a:latin typeface="Comic Sans MS"/>
              </a:rPr>
              <a:t>Optimistic Virtual Synchro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Optimistic Virtual Synchrony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Jeremy Sussman - IBM T.J.Watson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dit Keidar – MIT LC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Keith Marzullo – UCSD CS Dept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590920"/>
            <a:ext cx="9132840" cy="74520"/>
          </a:xfrm>
          <a:prstGeom prst="rect">
            <a:avLst/>
          </a:prstGeom>
          <a:gradFill rotWithShape="0">
            <a:gsLst>
              <a:gs pos="0">
                <a:srgbClr val="011244"/>
              </a:gs>
              <a:gs pos="50000">
                <a:srgbClr val="063de8"/>
              </a:gs>
              <a:gs pos="100000">
                <a:srgbClr val="0112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705040"/>
            <a:ext cx="9132840" cy="38160"/>
          </a:xfrm>
          <a:prstGeom prst="rect">
            <a:avLst/>
          </a:prstGeom>
          <a:gradFill rotWithShape="0">
            <a:gsLst>
              <a:gs pos="0">
                <a:srgbClr val="d70125"/>
              </a:gs>
              <a:gs pos="50000">
                <a:srgbClr val="630011"/>
              </a:gs>
              <a:gs pos="100000">
                <a:srgbClr val="d7012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Evaluation of OV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mplementation of OVS on top of Transi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mparison to a blocking system and to one that does not provide Sending View Delivery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easurement of overhead of OV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xamination of applications that can benefit from the OVS semantic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(see proceedings)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Message Lifecycl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581280" y="1981080"/>
          <a:ext cx="6400800" cy="430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981080"/>
                    <a:ext cx="6400800" cy="43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1368360" y="2743200"/>
            <a:ext cx="8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e-s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91160" y="4068720"/>
            <a:ext cx="103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e-deli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24520" y="5059440"/>
            <a:ext cx="103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e-deli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40080" y="1752480"/>
            <a:ext cx="355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ssage Transmission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56360" y="5334120"/>
            <a:ext cx="2567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e-send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~   90 microsec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ire-time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~1000 microsec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e-delivery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~   40 microsec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otal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~1130 microsec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1752480"/>
            <a:ext cx="0" cy="480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33720" y="1752480"/>
            <a:ext cx="0" cy="480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1752480"/>
            <a:ext cx="0" cy="480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44560" y="137160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24440" y="1677960"/>
            <a:ext cx="337320" cy="988560"/>
            <a:chOff x="424440" y="1677960"/>
            <a:chExt cx="337320" cy="988560"/>
          </a:xfrm>
        </p:grpSpPr>
        <p:sp>
          <p:nvSpPr>
            <p:cNvPr id="147" name=""/>
            <p:cNvSpPr/>
            <p:nvPr/>
          </p:nvSpPr>
          <p:spPr>
            <a:xfrm>
              <a:off x="457200" y="17524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310320" y="179172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867040" y="14479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19720" y="1752480"/>
            <a:ext cx="0" cy="480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22800" y="137160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55720" y="14479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33720" y="2362320"/>
            <a:ext cx="0" cy="990360"/>
          </a:xfrm>
          <a:prstGeom prst="line">
            <a:avLst/>
          </a:prstGeom>
          <a:ln w="28440">
            <a:solidFill>
              <a:srgbClr val="9999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133720" y="3505320"/>
            <a:ext cx="0" cy="1371600"/>
          </a:xfrm>
          <a:prstGeom prst="line">
            <a:avLst/>
          </a:prstGeom>
          <a:ln w="2844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276720" y="4419360"/>
            <a:ext cx="0" cy="1447560"/>
          </a:xfrm>
          <a:prstGeom prst="line">
            <a:avLst/>
          </a:prstGeom>
          <a:ln w="2844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586728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205740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990360" y="4876920"/>
            <a:ext cx="11430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33720" y="3429000"/>
            <a:ext cx="1143000" cy="990720"/>
          </a:xfrm>
          <a:custGeom>
            <a:avLst/>
            <a:gdLst/>
            <a:ahLst/>
            <a:rect l="l" t="t" r="r" b="b"/>
            <a:pathLst>
              <a:path w="1056" h="336">
                <a:moveTo>
                  <a:pt x="0" y="0"/>
                </a:moveTo>
                <a:cubicBezTo>
                  <a:pt x="32" y="92"/>
                  <a:pt x="64" y="184"/>
                  <a:pt x="240" y="240"/>
                </a:cubicBezTo>
                <a:cubicBezTo>
                  <a:pt x="416" y="296"/>
                  <a:pt x="944" y="320"/>
                  <a:pt x="1056" y="336"/>
                </a:cubicBezTo>
              </a:path>
            </a:pathLst>
          </a:custGeom>
          <a:noFill/>
          <a:ln w="31680">
            <a:solidFill>
              <a:srgbClr val="99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OVS Overhead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981080" y="1447920"/>
          <a:ext cx="6629400" cy="488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447920"/>
                    <a:ext cx="6629400" cy="48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4729680" y="6151680"/>
            <a:ext cx="200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me in Microseco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8720" y="2158920"/>
            <a:ext cx="164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gular mess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8720" y="4292640"/>
            <a:ext cx="164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gular mess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8600" y="2692440"/>
            <a:ext cx="185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timistic mess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71480" y="4826160"/>
            <a:ext cx="185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timistic mess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8600" y="3225960"/>
            <a:ext cx="185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timistic mess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re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8600" y="5283360"/>
            <a:ext cx="185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timistic mess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re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rot="10800000">
            <a:off x="230400" y="2285640"/>
            <a:ext cx="423720" cy="136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der 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 rot="10800000">
            <a:off x="227160" y="4430520"/>
            <a:ext cx="423720" cy="136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eiver 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637720" y="1450800"/>
            <a:ext cx="39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cessing Time, pre-deli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OVS Performance Benefit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295280" y="1752480"/>
          <a:ext cx="7201080" cy="430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752480"/>
                    <a:ext cx="7201080" cy="43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1341360" y="1447920"/>
            <a:ext cx="69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verage Time to Deliver Messages After View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rot="10800000">
            <a:off x="607320" y="2588760"/>
            <a:ext cx="729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 in Microsecon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rot="16200000">
            <a:off x="4725360" y="4800240"/>
            <a:ext cx="454680" cy="27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s delive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Related Work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ptimistic Atomic Broadcast [Pedone, Schiper]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Uses optimism for total order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omplementary to our approach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on-blocking light-weight groups [Amir et al; Dolev, Malki]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cales well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rovides fast view delivery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Does not provide Sending View Delivery Property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Often allows messages to span more than one view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problematic for state transfer, other applications)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Weak Virtual Synchrony [Friedman, van Renesse]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liminates blocking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Optimized for membership translation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Does not provide same level of policy/mechanism split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ay require extra views to be delivered by system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onclusion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Optimistic Virtually Synchrony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ses a very simple form of optimism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ceiving processes never need to rollback from optimistic message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nding process informed of dropped message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rovides applications with useful propertie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licy/Mechanism split on delivery semantic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rom Sending View Delivery to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ll messages being delivered in subsequent view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Has low overhead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ommon Properties of GCS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Virtual Synchrony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f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p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nd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p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re both in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nd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nd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p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delivered a message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in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hen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p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delivered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in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Guaranteed Self-Delivery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f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p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sends a message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hen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p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will eventually deliver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or crash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nding View Delivery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f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p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sends a message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while in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hen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is delivered in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Overview of Talk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roup Communication Services (GCS)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roup Membership and Reliable Group Multicas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nd why some properties force processes to block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timistic Virtual Synchrony (OVS)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cep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valuation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lated Work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nclusion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Group Communication Systems (1)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419720" y="1523520"/>
            <a:ext cx="441936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roup Membership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cesses organized into group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articular memberships stamped as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view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 partitionable system, views can be concurrent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Views provide a form of Concurrent Common Knowledge about system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1752480"/>
            <a:ext cx="0" cy="480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33720" y="1752480"/>
            <a:ext cx="0" cy="480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1752480"/>
            <a:ext cx="0" cy="480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44560" y="137160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24440" y="1677960"/>
            <a:ext cx="337320" cy="988560"/>
            <a:chOff x="424440" y="1677960"/>
            <a:chExt cx="337320" cy="988560"/>
          </a:xfrm>
        </p:grpSpPr>
        <p:sp>
          <p:nvSpPr>
            <p:cNvPr id="63" name=""/>
            <p:cNvSpPr/>
            <p:nvPr/>
          </p:nvSpPr>
          <p:spPr>
            <a:xfrm>
              <a:off x="457200" y="17524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5400000">
              <a:off x="310320" y="179172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911600" y="137160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79800" y="137160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2362320"/>
            <a:ext cx="3048120" cy="304560"/>
          </a:xfrm>
          <a:prstGeom prst="parallelogram">
            <a:avLst>
              <a:gd name="adj" fmla="val 6213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1  {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3429000"/>
            <a:ext cx="1981440" cy="304920"/>
          </a:xfrm>
          <a:prstGeom prst="parallelogram">
            <a:avLst>
              <a:gd name="adj" fmla="val 525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2  {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4876920"/>
            <a:ext cx="3048120" cy="304560"/>
          </a:xfrm>
          <a:prstGeom prst="parallelogram">
            <a:avLst>
              <a:gd name="adj" fmla="val 6213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5  {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3962520"/>
            <a:ext cx="1066680" cy="304560"/>
          </a:xfrm>
          <a:prstGeom prst="parallelogram">
            <a:avLst>
              <a:gd name="adj" fmla="val 62297"/>
            </a:avLst>
          </a:prstGeom>
          <a:solidFill>
            <a:srgbClr val="00cc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3  {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419720" y="1523520"/>
            <a:ext cx="4572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liable Multicast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essages sent to group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ame View Delivery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f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p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delivers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while in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Comic Sans MS"/>
              </a:rPr>
              <a:t>1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nd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p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delivers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hen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p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delivers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in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nding View Delivery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f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p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sends a message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while in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hen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is delivered in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Group Communication Systems (2)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1752480"/>
            <a:ext cx="0" cy="480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1752480"/>
            <a:ext cx="0" cy="480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1752480"/>
            <a:ext cx="0" cy="480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44560" y="137160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24440" y="1677960"/>
            <a:ext cx="337320" cy="988560"/>
            <a:chOff x="424440" y="1677960"/>
            <a:chExt cx="337320" cy="988560"/>
          </a:xfrm>
        </p:grpSpPr>
        <p:sp>
          <p:nvSpPr>
            <p:cNvPr id="78" name=""/>
            <p:cNvSpPr/>
            <p:nvPr/>
          </p:nvSpPr>
          <p:spPr>
            <a:xfrm>
              <a:off x="457200" y="17524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5400000">
              <a:off x="310320" y="179172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1911600" y="137160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79800" y="137160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981080"/>
            <a:ext cx="3048120" cy="304920"/>
          </a:xfrm>
          <a:prstGeom prst="parallelogram">
            <a:avLst>
              <a:gd name="adj" fmla="val 620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1  {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800280" y="2438280"/>
            <a:ext cx="2476440" cy="1675800"/>
            <a:chOff x="800280" y="2438280"/>
            <a:chExt cx="2476440" cy="1675800"/>
          </a:xfrm>
        </p:grpSpPr>
        <p:grpSp>
          <p:nvGrpSpPr>
            <p:cNvPr id="84" name=""/>
            <p:cNvGrpSpPr/>
            <p:nvPr/>
          </p:nvGrpSpPr>
          <p:grpSpPr>
            <a:xfrm>
              <a:off x="990720" y="2438280"/>
              <a:ext cx="2286000" cy="1675800"/>
              <a:chOff x="990720" y="2438280"/>
              <a:chExt cx="2286000" cy="1675800"/>
            </a:xfrm>
          </p:grpSpPr>
          <p:sp>
            <p:nvSpPr>
              <p:cNvPr id="85" name=""/>
              <p:cNvSpPr/>
              <p:nvPr/>
            </p:nvSpPr>
            <p:spPr>
              <a:xfrm>
                <a:off x="990720" y="2438280"/>
                <a:ext cx="1143000" cy="838080"/>
              </a:xfrm>
              <a:custGeom>
                <a:avLst/>
                <a:gdLst/>
                <a:ahLst/>
                <a:rect l="l" t="t" r="r" b="b"/>
                <a:pathLst>
                  <a:path w="1056" h="336">
                    <a:moveTo>
                      <a:pt x="0" y="0"/>
                    </a:moveTo>
                    <a:cubicBezTo>
                      <a:pt x="32" y="92"/>
                      <a:pt x="64" y="184"/>
                      <a:pt x="240" y="240"/>
                    </a:cubicBezTo>
                    <a:cubicBezTo>
                      <a:pt x="416" y="296"/>
                      <a:pt x="944" y="320"/>
                      <a:pt x="1056" y="336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990720" y="2438280"/>
                <a:ext cx="2286000" cy="1675800"/>
              </a:xfrm>
              <a:custGeom>
                <a:avLst/>
                <a:gdLst/>
                <a:ahLst/>
                <a:rect l="l" t="t" r="r" b="b"/>
                <a:pathLst>
                  <a:path w="1056" h="336">
                    <a:moveTo>
                      <a:pt x="0" y="0"/>
                    </a:moveTo>
                    <a:cubicBezTo>
                      <a:pt x="32" y="92"/>
                      <a:pt x="64" y="184"/>
                      <a:pt x="240" y="240"/>
                    </a:cubicBezTo>
                    <a:cubicBezTo>
                      <a:pt x="416" y="296"/>
                      <a:pt x="944" y="320"/>
                      <a:pt x="1056" y="336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800280" y="2480760"/>
              <a:ext cx="190440" cy="1246680"/>
            </a:xfrm>
            <a:custGeom>
              <a:avLst/>
              <a:gdLst/>
              <a:ahLst/>
              <a:rect l="l" t="t" r="r" b="b"/>
              <a:pathLst>
                <a:path w="120" h="368">
                  <a:moveTo>
                    <a:pt x="120" y="0"/>
                  </a:moveTo>
                  <a:cubicBezTo>
                    <a:pt x="100" y="31"/>
                    <a:pt x="0" y="123"/>
                    <a:pt x="0" y="184"/>
                  </a:cubicBezTo>
                  <a:cubicBezTo>
                    <a:pt x="0" y="245"/>
                    <a:pt x="95" y="330"/>
                    <a:pt x="120" y="36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800280" y="4343400"/>
            <a:ext cx="1333440" cy="1751760"/>
            <a:chOff x="800280" y="4343400"/>
            <a:chExt cx="1333440" cy="1751760"/>
          </a:xfrm>
        </p:grpSpPr>
        <p:sp>
          <p:nvSpPr>
            <p:cNvPr id="89" name=""/>
            <p:cNvSpPr/>
            <p:nvPr/>
          </p:nvSpPr>
          <p:spPr>
            <a:xfrm>
              <a:off x="990720" y="4343400"/>
              <a:ext cx="1143000" cy="1481400"/>
            </a:xfrm>
            <a:custGeom>
              <a:avLst/>
              <a:gdLst/>
              <a:ahLst/>
              <a:rect l="l" t="t" r="r" b="b"/>
              <a:pathLst>
                <a:path w="1056" h="336">
                  <a:moveTo>
                    <a:pt x="0" y="0"/>
                  </a:moveTo>
                  <a:cubicBezTo>
                    <a:pt x="32" y="92"/>
                    <a:pt x="64" y="184"/>
                    <a:pt x="240" y="240"/>
                  </a:cubicBezTo>
                  <a:cubicBezTo>
                    <a:pt x="416" y="296"/>
                    <a:pt x="944" y="320"/>
                    <a:pt x="1056" y="336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0280" y="4402440"/>
              <a:ext cx="190440" cy="1692720"/>
            </a:xfrm>
            <a:custGeom>
              <a:avLst/>
              <a:gdLst/>
              <a:ahLst/>
              <a:rect l="l" t="t" r="r" b="b"/>
              <a:pathLst>
                <a:path w="120" h="368">
                  <a:moveTo>
                    <a:pt x="120" y="0"/>
                  </a:moveTo>
                  <a:cubicBezTo>
                    <a:pt x="100" y="31"/>
                    <a:pt x="0" y="123"/>
                    <a:pt x="0" y="184"/>
                  </a:cubicBezTo>
                  <a:cubicBezTo>
                    <a:pt x="0" y="245"/>
                    <a:pt x="95" y="330"/>
                    <a:pt x="120" y="36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609480" y="5105520"/>
            <a:ext cx="1981440" cy="304560"/>
          </a:xfrm>
          <a:prstGeom prst="parallelogram">
            <a:avLst>
              <a:gd name="adj" fmla="val 568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2  {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1640" y="1523520"/>
            <a:ext cx="44197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sume that message delivery takes </a:t>
            </a:r>
            <a:r>
              <a:rPr b="0" i="1" lang="en-US" sz="2800" spc="-1" strike="noStrike">
                <a:solidFill>
                  <a:srgbClr val="3333cc"/>
                </a:solidFill>
                <a:latin typeface="Math A"/>
                <a:ea typeface="Math A"/>
              </a:rPr>
              <a:t>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et processes send a message every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&lt; </a:t>
            </a:r>
            <a:r>
              <a:rPr b="0" i="1" lang="en-US" sz="2800" spc="-1" strike="noStrike">
                <a:solidFill>
                  <a:srgbClr val="3333cc"/>
                </a:solidFill>
                <a:latin typeface="Math A"/>
                <a:ea typeface="Math A"/>
              </a:rPr>
              <a:t>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When can a new view be installed…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without violating Sending View Delivery?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without dropping messages?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Why Properties Imply Blocking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1752480"/>
            <a:ext cx="0" cy="480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33720" y="1752480"/>
            <a:ext cx="0" cy="480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1752480"/>
            <a:ext cx="0" cy="480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44560" y="137160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03840" y="1677960"/>
            <a:ext cx="337320" cy="988560"/>
            <a:chOff x="303840" y="1677960"/>
            <a:chExt cx="337320" cy="988560"/>
          </a:xfrm>
        </p:grpSpPr>
        <p:sp>
          <p:nvSpPr>
            <p:cNvPr id="99" name=""/>
            <p:cNvSpPr/>
            <p:nvPr/>
          </p:nvSpPr>
          <p:spPr>
            <a:xfrm>
              <a:off x="336600" y="17524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5400000">
              <a:off x="189720" y="179172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1911600" y="137160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79800" y="137160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1905120"/>
            <a:ext cx="3048120" cy="304560"/>
          </a:xfrm>
          <a:prstGeom prst="parallelogram">
            <a:avLst>
              <a:gd name="adj" fmla="val 6213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1  {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800280" y="2286000"/>
            <a:ext cx="2476440" cy="1523520"/>
            <a:chOff x="800280" y="2286000"/>
            <a:chExt cx="2476440" cy="1523520"/>
          </a:xfrm>
        </p:grpSpPr>
        <p:sp>
          <p:nvSpPr>
            <p:cNvPr id="105" name=""/>
            <p:cNvSpPr/>
            <p:nvPr/>
          </p:nvSpPr>
          <p:spPr>
            <a:xfrm>
              <a:off x="990720" y="2286000"/>
              <a:ext cx="1143000" cy="1443240"/>
            </a:xfrm>
            <a:custGeom>
              <a:avLst/>
              <a:gdLst/>
              <a:ahLst/>
              <a:rect l="l" t="t" r="r" b="b"/>
              <a:pathLst>
                <a:path w="1056" h="336">
                  <a:moveTo>
                    <a:pt x="0" y="0"/>
                  </a:moveTo>
                  <a:cubicBezTo>
                    <a:pt x="32" y="92"/>
                    <a:pt x="64" y="184"/>
                    <a:pt x="240" y="240"/>
                  </a:cubicBezTo>
                  <a:cubicBezTo>
                    <a:pt x="416" y="296"/>
                    <a:pt x="944" y="320"/>
                    <a:pt x="1056" y="336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0720" y="2286000"/>
              <a:ext cx="2286000" cy="1523520"/>
            </a:xfrm>
            <a:custGeom>
              <a:avLst/>
              <a:gdLst/>
              <a:ahLst/>
              <a:rect l="l" t="t" r="r" b="b"/>
              <a:pathLst>
                <a:path w="1056" h="336">
                  <a:moveTo>
                    <a:pt x="0" y="0"/>
                  </a:moveTo>
                  <a:cubicBezTo>
                    <a:pt x="32" y="92"/>
                    <a:pt x="64" y="184"/>
                    <a:pt x="240" y="240"/>
                  </a:cubicBezTo>
                  <a:cubicBezTo>
                    <a:pt x="416" y="296"/>
                    <a:pt x="944" y="320"/>
                    <a:pt x="1056" y="336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0280" y="2332440"/>
              <a:ext cx="190440" cy="1371600"/>
            </a:xfrm>
            <a:custGeom>
              <a:avLst/>
              <a:gdLst/>
              <a:ahLst/>
              <a:rect l="l" t="t" r="r" b="b"/>
              <a:pathLst>
                <a:path w="120" h="368">
                  <a:moveTo>
                    <a:pt x="120" y="0"/>
                  </a:moveTo>
                  <a:cubicBezTo>
                    <a:pt x="100" y="31"/>
                    <a:pt x="0" y="123"/>
                    <a:pt x="0" y="184"/>
                  </a:cubicBezTo>
                  <a:cubicBezTo>
                    <a:pt x="0" y="245"/>
                    <a:pt x="95" y="330"/>
                    <a:pt x="120" y="36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990360" y="4119480"/>
            <a:ext cx="2286360" cy="1442880"/>
            <a:chOff x="990360" y="4119480"/>
            <a:chExt cx="2286360" cy="1442880"/>
          </a:xfrm>
        </p:grpSpPr>
        <p:sp>
          <p:nvSpPr>
            <p:cNvPr id="109" name=""/>
            <p:cNvSpPr/>
            <p:nvPr/>
          </p:nvSpPr>
          <p:spPr>
            <a:xfrm>
              <a:off x="2133720" y="4119480"/>
              <a:ext cx="1143000" cy="1442880"/>
            </a:xfrm>
            <a:custGeom>
              <a:avLst/>
              <a:gdLst/>
              <a:ahLst/>
              <a:rect l="l" t="t" r="r" b="b"/>
              <a:pathLst>
                <a:path w="1056" h="336">
                  <a:moveTo>
                    <a:pt x="0" y="0"/>
                  </a:moveTo>
                  <a:cubicBezTo>
                    <a:pt x="32" y="92"/>
                    <a:pt x="64" y="184"/>
                    <a:pt x="240" y="240"/>
                  </a:cubicBezTo>
                  <a:cubicBezTo>
                    <a:pt x="416" y="296"/>
                    <a:pt x="944" y="320"/>
                    <a:pt x="1056" y="336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43280" y="4165560"/>
              <a:ext cx="190440" cy="1373040"/>
            </a:xfrm>
            <a:custGeom>
              <a:avLst/>
              <a:gdLst/>
              <a:ahLst/>
              <a:rect l="l" t="t" r="r" b="b"/>
              <a:pathLst>
                <a:path w="120" h="368">
                  <a:moveTo>
                    <a:pt x="120" y="0"/>
                  </a:moveTo>
                  <a:cubicBezTo>
                    <a:pt x="100" y="31"/>
                    <a:pt x="0" y="123"/>
                    <a:pt x="0" y="184"/>
                  </a:cubicBezTo>
                  <a:cubicBezTo>
                    <a:pt x="0" y="245"/>
                    <a:pt x="95" y="330"/>
                    <a:pt x="120" y="36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990000" y="4119480"/>
              <a:ext cx="1143000" cy="1442880"/>
            </a:xfrm>
            <a:custGeom>
              <a:avLst/>
              <a:gdLst/>
              <a:ahLst/>
              <a:rect l="l" t="t" r="r" b="b"/>
              <a:pathLst>
                <a:path w="1056" h="336">
                  <a:moveTo>
                    <a:pt x="0" y="0"/>
                  </a:moveTo>
                  <a:cubicBezTo>
                    <a:pt x="32" y="92"/>
                    <a:pt x="64" y="184"/>
                    <a:pt x="240" y="240"/>
                  </a:cubicBezTo>
                  <a:cubicBezTo>
                    <a:pt x="416" y="296"/>
                    <a:pt x="944" y="320"/>
                    <a:pt x="1056" y="336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990360" y="3048120"/>
            <a:ext cx="2476440" cy="1523520"/>
            <a:chOff x="990360" y="3048120"/>
            <a:chExt cx="2476440" cy="1523520"/>
          </a:xfrm>
        </p:grpSpPr>
        <p:sp>
          <p:nvSpPr>
            <p:cNvPr id="113" name=""/>
            <p:cNvSpPr/>
            <p:nvPr/>
          </p:nvSpPr>
          <p:spPr>
            <a:xfrm flipH="1">
              <a:off x="2133000" y="3048120"/>
              <a:ext cx="1143000" cy="1443240"/>
            </a:xfrm>
            <a:custGeom>
              <a:avLst/>
              <a:gdLst/>
              <a:ahLst/>
              <a:rect l="l" t="t" r="r" b="b"/>
              <a:pathLst>
                <a:path w="1056" h="336">
                  <a:moveTo>
                    <a:pt x="0" y="0"/>
                  </a:moveTo>
                  <a:cubicBezTo>
                    <a:pt x="32" y="92"/>
                    <a:pt x="64" y="184"/>
                    <a:pt x="240" y="240"/>
                  </a:cubicBezTo>
                  <a:cubicBezTo>
                    <a:pt x="416" y="296"/>
                    <a:pt x="944" y="320"/>
                    <a:pt x="1056" y="336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990360" y="3048120"/>
              <a:ext cx="2286000" cy="1523520"/>
            </a:xfrm>
            <a:custGeom>
              <a:avLst/>
              <a:gdLst/>
              <a:ahLst/>
              <a:rect l="l" t="t" r="r" b="b"/>
              <a:pathLst>
                <a:path w="1056" h="336">
                  <a:moveTo>
                    <a:pt x="0" y="0"/>
                  </a:moveTo>
                  <a:cubicBezTo>
                    <a:pt x="32" y="92"/>
                    <a:pt x="64" y="184"/>
                    <a:pt x="240" y="240"/>
                  </a:cubicBezTo>
                  <a:cubicBezTo>
                    <a:pt x="416" y="296"/>
                    <a:pt x="944" y="320"/>
                    <a:pt x="1056" y="336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276000" y="3094560"/>
              <a:ext cx="190440" cy="1371600"/>
            </a:xfrm>
            <a:custGeom>
              <a:avLst/>
              <a:gdLst/>
              <a:ahLst/>
              <a:rect l="l" t="t" r="r" b="b"/>
              <a:pathLst>
                <a:path w="120" h="368">
                  <a:moveTo>
                    <a:pt x="120" y="0"/>
                  </a:moveTo>
                  <a:cubicBezTo>
                    <a:pt x="100" y="31"/>
                    <a:pt x="0" y="123"/>
                    <a:pt x="0" y="184"/>
                  </a:cubicBezTo>
                  <a:cubicBezTo>
                    <a:pt x="0" y="245"/>
                    <a:pt x="95" y="330"/>
                    <a:pt x="120" y="36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800280" y="4724280"/>
            <a:ext cx="2476440" cy="1523880"/>
            <a:chOff x="800280" y="4724280"/>
            <a:chExt cx="2476440" cy="1523880"/>
          </a:xfrm>
        </p:grpSpPr>
        <p:sp>
          <p:nvSpPr>
            <p:cNvPr id="117" name=""/>
            <p:cNvSpPr/>
            <p:nvPr/>
          </p:nvSpPr>
          <p:spPr>
            <a:xfrm>
              <a:off x="990720" y="4724280"/>
              <a:ext cx="1143000" cy="1443600"/>
            </a:xfrm>
            <a:custGeom>
              <a:avLst/>
              <a:gdLst/>
              <a:ahLst/>
              <a:rect l="l" t="t" r="r" b="b"/>
              <a:pathLst>
                <a:path w="1056" h="336">
                  <a:moveTo>
                    <a:pt x="0" y="0"/>
                  </a:moveTo>
                  <a:cubicBezTo>
                    <a:pt x="32" y="92"/>
                    <a:pt x="64" y="184"/>
                    <a:pt x="240" y="240"/>
                  </a:cubicBezTo>
                  <a:cubicBezTo>
                    <a:pt x="416" y="296"/>
                    <a:pt x="944" y="320"/>
                    <a:pt x="1056" y="336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90720" y="4724280"/>
              <a:ext cx="2286000" cy="1523880"/>
            </a:xfrm>
            <a:custGeom>
              <a:avLst/>
              <a:gdLst/>
              <a:ahLst/>
              <a:rect l="l" t="t" r="r" b="b"/>
              <a:pathLst>
                <a:path w="1056" h="336">
                  <a:moveTo>
                    <a:pt x="0" y="0"/>
                  </a:moveTo>
                  <a:cubicBezTo>
                    <a:pt x="32" y="92"/>
                    <a:pt x="64" y="184"/>
                    <a:pt x="240" y="240"/>
                  </a:cubicBezTo>
                  <a:cubicBezTo>
                    <a:pt x="416" y="296"/>
                    <a:pt x="944" y="320"/>
                    <a:pt x="1056" y="336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00280" y="4770720"/>
              <a:ext cx="190440" cy="1371960"/>
            </a:xfrm>
            <a:custGeom>
              <a:avLst/>
              <a:gdLst/>
              <a:ahLst/>
              <a:rect l="l" t="t" r="r" b="b"/>
              <a:pathLst>
                <a:path w="120" h="368">
                  <a:moveTo>
                    <a:pt x="120" y="0"/>
                  </a:moveTo>
                  <a:cubicBezTo>
                    <a:pt x="100" y="31"/>
                    <a:pt x="0" y="123"/>
                    <a:pt x="0" y="184"/>
                  </a:cubicBezTo>
                  <a:cubicBezTo>
                    <a:pt x="0" y="245"/>
                    <a:pt x="95" y="330"/>
                    <a:pt x="120" y="36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990360" y="5791320"/>
            <a:ext cx="2476440" cy="1523520"/>
            <a:chOff x="990360" y="5791320"/>
            <a:chExt cx="2476440" cy="1523520"/>
          </a:xfrm>
        </p:grpSpPr>
        <p:sp>
          <p:nvSpPr>
            <p:cNvPr id="121" name=""/>
            <p:cNvSpPr/>
            <p:nvPr/>
          </p:nvSpPr>
          <p:spPr>
            <a:xfrm flipH="1">
              <a:off x="2133000" y="5791320"/>
              <a:ext cx="1143000" cy="1443240"/>
            </a:xfrm>
            <a:custGeom>
              <a:avLst/>
              <a:gdLst/>
              <a:ahLst/>
              <a:rect l="l" t="t" r="r" b="b"/>
              <a:pathLst>
                <a:path w="1056" h="336">
                  <a:moveTo>
                    <a:pt x="0" y="0"/>
                  </a:moveTo>
                  <a:cubicBezTo>
                    <a:pt x="32" y="92"/>
                    <a:pt x="64" y="184"/>
                    <a:pt x="240" y="240"/>
                  </a:cubicBezTo>
                  <a:cubicBezTo>
                    <a:pt x="416" y="296"/>
                    <a:pt x="944" y="320"/>
                    <a:pt x="1056" y="336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990360" y="5791320"/>
              <a:ext cx="2286000" cy="1523520"/>
            </a:xfrm>
            <a:custGeom>
              <a:avLst/>
              <a:gdLst/>
              <a:ahLst/>
              <a:rect l="l" t="t" r="r" b="b"/>
              <a:pathLst>
                <a:path w="1056" h="336">
                  <a:moveTo>
                    <a:pt x="0" y="0"/>
                  </a:moveTo>
                  <a:cubicBezTo>
                    <a:pt x="32" y="92"/>
                    <a:pt x="64" y="184"/>
                    <a:pt x="240" y="240"/>
                  </a:cubicBezTo>
                  <a:cubicBezTo>
                    <a:pt x="416" y="296"/>
                    <a:pt x="944" y="320"/>
                    <a:pt x="1056" y="336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3276000" y="5837760"/>
              <a:ext cx="190440" cy="1371600"/>
            </a:xfrm>
            <a:custGeom>
              <a:avLst/>
              <a:gdLst/>
              <a:ahLst/>
              <a:rect l="l" t="t" r="r" b="b"/>
              <a:pathLst>
                <a:path w="120" h="368">
                  <a:moveTo>
                    <a:pt x="120" y="0"/>
                  </a:moveTo>
                  <a:cubicBezTo>
                    <a:pt x="100" y="31"/>
                    <a:pt x="0" y="123"/>
                    <a:pt x="0" y="184"/>
                  </a:cubicBezTo>
                  <a:cubicBezTo>
                    <a:pt x="0" y="245"/>
                    <a:pt x="95" y="330"/>
                    <a:pt x="120" y="36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Observation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any problems are caused by </a:t>
            </a:r>
            <a:r>
              <a:rPr b="0" i="1" lang="en-US" sz="3200" spc="-1" strike="noStrike">
                <a:solidFill>
                  <a:srgbClr val="3333cc"/>
                </a:solidFill>
                <a:latin typeface="Comic Sans MS"/>
              </a:rPr>
              <a:t>stal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view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rocesses block when a view is stale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 sending process cannot know if the view will be stale before a message is delivered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or many applications, a message delivered in a stale view is useles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any applications do not require exact semantics of Sending View Delivery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tate transfer not required for splitting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eader election not required for join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OVS: The Idea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nform processes of stale view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ive an “educated guess” of subsequent view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(called the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optimistic view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llow processes to send </a:t>
            </a:r>
            <a:r>
              <a:rPr b="0" i="1" lang="en-US" sz="3200" spc="-1" strike="noStrike">
                <a:solidFill>
                  <a:srgbClr val="3333cc"/>
                </a:solidFill>
                <a:latin typeface="Comic Sans MS"/>
              </a:rPr>
              <a:t>optimistic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essages that will be delivered in subsequent view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ut deliver or drop message based on some predicate that the application provide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OVS Implementatio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nder side: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ll messages sent in a view that has become stale are sent optimistically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nhanced by a MessageCondition predicate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eceiver side: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tore in a queue all optimistic messages received before a view change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n new view, deliver all optimistic messages for which the MessageCondition is true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f more optimistic messages are received, treat them as if they were  at the end of the queue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Message Condition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paration of mechanism and policy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rovided by the application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pressed as a predicate over the previous view, subsequent view, and optimistic view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xamples: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eader election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 leader in subsequent_view)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eed for state transfer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previous_view subset subsequent_view)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1T18:39:17Z</dcterms:created>
  <dc:creator>Jeremy Sussman</dc:creator>
  <dc:description/>
  <dc:language>en-US</dc:language>
  <cp:lastModifiedBy>Jeremy Sussman</cp:lastModifiedBy>
  <dcterms:modified xsi:type="dcterms:W3CDTF">2000-10-13T12:49:05Z</dcterms:modified>
  <cp:revision>22</cp:revision>
  <dc:subject/>
  <dc:title>Optimistic Virtual Synchrony</dc:title>
</cp:coreProperties>
</file>