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836-61EE-41C2-808B-63D97983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1504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309-08E2-4E89-9CF7-C572253C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504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1504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49E-6FF9-4989-9538-933CC408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1504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1504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1504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276-1291-4835-8E16-4D931B2B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5CE-4005-4CAC-8A27-D59B3A0C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21C-FA06-48D8-93DC-681A5F00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421-2BEB-451E-9A5F-45C525D5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B15-2143-4A31-ACA5-8047AB4A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571680"/>
            <a:ext cx="7772400" cy="54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CA5-2AB4-4B40-AB9C-A49FF6B6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1504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8AA-6CEB-438D-9C7C-A0D11A83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1504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2BD-DCCA-43FC-B60E-2E6FE1D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1504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005-E43F-4E87-A12F-F9D620E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8ACEDB-3961-4626-AC67-42C4E61CA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71440" y="12600"/>
            <a:ext cx="779400" cy="6834240"/>
            <a:chOff x="271440" y="12600"/>
            <a:chExt cx="779400" cy="6834240"/>
          </a:xfrm>
        </p:grpSpPr>
        <p:sp>
          <p:nvSpPr>
            <p:cNvPr id="4" name=""/>
            <p:cNvSpPr/>
            <p:nvPr/>
          </p:nvSpPr>
          <p:spPr>
            <a:xfrm>
              <a:off x="271440" y="12600"/>
              <a:ext cx="777960" cy="68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1440" y="12600"/>
              <a:ext cx="779400" cy="6834240"/>
            </a:xfrm>
            <a:custGeom>
              <a:avLst/>
              <a:gdLst/>
              <a:ahLst/>
              <a:rect l="l" t="t" r="r" b="b"/>
              <a:pathLst>
                <a:path w="491" h="4305">
                  <a:moveTo>
                    <a:pt x="0" y="0"/>
                  </a:moveTo>
                  <a:lnTo>
                    <a:pt x="0" y="4304"/>
                  </a:lnTo>
                  <a:lnTo>
                    <a:pt x="163" y="4304"/>
                  </a:lnTo>
                  <a:lnTo>
                    <a:pt x="163" y="0"/>
                  </a:lnTo>
                  <a:lnTo>
                    <a:pt x="327" y="0"/>
                  </a:lnTo>
                  <a:lnTo>
                    <a:pt x="327" y="4304"/>
                  </a:lnTo>
                  <a:lnTo>
                    <a:pt x="490" y="4304"/>
                  </a:lnTo>
                  <a:lnTo>
                    <a:pt x="490" y="0"/>
                  </a:lnTo>
                  <a:lnTo>
                    <a:pt x="490" y="148"/>
                  </a:lnTo>
                  <a:lnTo>
                    <a:pt x="0" y="148"/>
                  </a:lnTo>
                  <a:lnTo>
                    <a:pt x="0" y="297"/>
                  </a:lnTo>
                  <a:lnTo>
                    <a:pt x="490" y="297"/>
                  </a:lnTo>
                  <a:lnTo>
                    <a:pt x="490" y="445"/>
                  </a:lnTo>
                  <a:lnTo>
                    <a:pt x="0" y="445"/>
                  </a:lnTo>
                  <a:lnTo>
                    <a:pt x="0" y="594"/>
                  </a:lnTo>
                  <a:lnTo>
                    <a:pt x="490" y="594"/>
                  </a:lnTo>
                  <a:lnTo>
                    <a:pt x="490" y="742"/>
                  </a:lnTo>
                  <a:lnTo>
                    <a:pt x="0" y="742"/>
                  </a:lnTo>
                  <a:lnTo>
                    <a:pt x="0" y="890"/>
                  </a:lnTo>
                  <a:lnTo>
                    <a:pt x="490" y="890"/>
                  </a:lnTo>
                  <a:lnTo>
                    <a:pt x="490" y="1039"/>
                  </a:lnTo>
                  <a:lnTo>
                    <a:pt x="0" y="1039"/>
                  </a:lnTo>
                  <a:lnTo>
                    <a:pt x="0" y="1187"/>
                  </a:lnTo>
                  <a:lnTo>
                    <a:pt x="490" y="1187"/>
                  </a:lnTo>
                  <a:lnTo>
                    <a:pt x="490" y="1336"/>
                  </a:lnTo>
                  <a:lnTo>
                    <a:pt x="0" y="1336"/>
                  </a:lnTo>
                  <a:lnTo>
                    <a:pt x="0" y="1484"/>
                  </a:lnTo>
                  <a:lnTo>
                    <a:pt x="490" y="1484"/>
                  </a:lnTo>
                  <a:lnTo>
                    <a:pt x="490" y="1633"/>
                  </a:lnTo>
                  <a:lnTo>
                    <a:pt x="0" y="1633"/>
                  </a:lnTo>
                  <a:lnTo>
                    <a:pt x="0" y="1781"/>
                  </a:lnTo>
                  <a:lnTo>
                    <a:pt x="490" y="1781"/>
                  </a:lnTo>
                  <a:lnTo>
                    <a:pt x="490" y="1929"/>
                  </a:lnTo>
                  <a:lnTo>
                    <a:pt x="0" y="1929"/>
                  </a:lnTo>
                  <a:lnTo>
                    <a:pt x="0" y="2078"/>
                  </a:lnTo>
                  <a:lnTo>
                    <a:pt x="490" y="2078"/>
                  </a:lnTo>
                  <a:lnTo>
                    <a:pt x="490" y="2226"/>
                  </a:lnTo>
                  <a:lnTo>
                    <a:pt x="0" y="2226"/>
                  </a:lnTo>
                  <a:lnTo>
                    <a:pt x="0" y="2375"/>
                  </a:lnTo>
                  <a:lnTo>
                    <a:pt x="490" y="2375"/>
                  </a:lnTo>
                  <a:lnTo>
                    <a:pt x="490" y="2523"/>
                  </a:lnTo>
                  <a:lnTo>
                    <a:pt x="0" y="2523"/>
                  </a:lnTo>
                  <a:lnTo>
                    <a:pt x="0" y="2671"/>
                  </a:lnTo>
                  <a:lnTo>
                    <a:pt x="490" y="2671"/>
                  </a:lnTo>
                  <a:lnTo>
                    <a:pt x="490" y="2820"/>
                  </a:lnTo>
                  <a:lnTo>
                    <a:pt x="0" y="2820"/>
                  </a:lnTo>
                  <a:lnTo>
                    <a:pt x="0" y="2968"/>
                  </a:lnTo>
                  <a:lnTo>
                    <a:pt x="490" y="2968"/>
                  </a:lnTo>
                  <a:lnTo>
                    <a:pt x="490" y="3117"/>
                  </a:lnTo>
                  <a:lnTo>
                    <a:pt x="0" y="3117"/>
                  </a:lnTo>
                  <a:lnTo>
                    <a:pt x="0" y="3265"/>
                  </a:lnTo>
                  <a:lnTo>
                    <a:pt x="490" y="3265"/>
                  </a:lnTo>
                  <a:lnTo>
                    <a:pt x="490" y="3414"/>
                  </a:lnTo>
                  <a:lnTo>
                    <a:pt x="0" y="3414"/>
                  </a:lnTo>
                  <a:lnTo>
                    <a:pt x="0" y="3562"/>
                  </a:lnTo>
                  <a:lnTo>
                    <a:pt x="490" y="3562"/>
                  </a:lnTo>
                  <a:lnTo>
                    <a:pt x="490" y="3710"/>
                  </a:lnTo>
                  <a:lnTo>
                    <a:pt x="0" y="3710"/>
                  </a:lnTo>
                  <a:lnTo>
                    <a:pt x="0" y="3859"/>
                  </a:lnTo>
                  <a:lnTo>
                    <a:pt x="490" y="3859"/>
                  </a:lnTo>
                  <a:lnTo>
                    <a:pt x="490" y="4007"/>
                  </a:lnTo>
                  <a:lnTo>
                    <a:pt x="0" y="4007"/>
                  </a:lnTo>
                  <a:lnTo>
                    <a:pt x="0" y="4156"/>
                  </a:lnTo>
                  <a:lnTo>
                    <a:pt x="490" y="4156"/>
                  </a:lnTo>
                  <a:lnTo>
                    <a:pt x="490" y="4304"/>
                  </a:lnTo>
                  <a:lnTo>
                    <a:pt x="0" y="4304"/>
                  </a:lnTo>
                  <a:lnTo>
                    <a:pt x="490" y="4304"/>
                  </a:lnTo>
                  <a:lnTo>
                    <a:pt x="49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Scalable Group Communication </a:t>
            </a:r>
            <a:br>
              <a:rPr sz="4800"/>
            </a:b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for the Internet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it Keid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T Lab for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of Distributed System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main part of this talk is joint work with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ussman, Marzullo and Dol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: Highly Available VoD</a:t>
            </a:r>
            <a:br>
              <a:rPr sz="44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[</a:t>
            </a: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Anker, Dolev, Keidar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ICDCS1999]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et of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s talk to “abstract”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can crash, client shouldn’t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66680" y="4038480"/>
          <a:ext cx="335304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038480"/>
                    <a:ext cx="335304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876920" y="4038480"/>
          <a:ext cx="3352680" cy="20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038480"/>
                    <a:ext cx="335268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oD Service: Exploiting Group Communication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5fb"/>
                </a:solidFill>
                <a:uFillTx/>
                <a:latin typeface="Times New Roman"/>
              </a:rPr>
              <a:t>Group abstraction</a:t>
            </a: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nection establishment and transparent migration (with simple cli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5fb"/>
                </a:solidFill>
                <a:uFillTx/>
                <a:latin typeface="Times New Roman"/>
              </a:rPr>
              <a:t>Membership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ct conditions for migration - fault tolerance and load bal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5fb"/>
                </a:solidFill>
                <a:uFillTx/>
                <a:latin typeface="Times New Roman"/>
              </a:rPr>
              <a:t>Reliable group multic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ong servers for consistently sharing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5fb"/>
                </a:solidFill>
                <a:uFillTx/>
                <a:latin typeface="Times New Roman"/>
              </a:rPr>
              <a:t>Virtual Synchro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servers to agree up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on immediately (no message excha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5fb"/>
                </a:solidFill>
                <a:uFillTx/>
                <a:latin typeface="Times New Roman"/>
              </a:rPr>
              <a:t>Reliable mess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cont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: ~2500 C++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ult tolerance logic at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lated Projec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352680"/>
            <a:ext cx="2940120" cy="8175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he: Group 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DCS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81080"/>
            <a:ext cx="2940120" cy="817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 for Gro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hip in 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ACS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828800"/>
            <a:ext cx="1904760" cy="8175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171960"/>
            <a:ext cx="1904760" cy="819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ynchr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DCS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163600" y="2646360"/>
            <a:ext cx="0" cy="52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24080" y="2514600"/>
            <a:ext cx="9144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23720" y="3581280"/>
            <a:ext cx="685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57800" y="28191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4495680"/>
            <a:ext cx="1904760" cy="8175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eritanc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SE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133720" y="396216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6019920"/>
            <a:ext cx="2131920" cy="5889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Re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C 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6019920"/>
            <a:ext cx="2132280" cy="5889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ITS 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6019920"/>
            <a:ext cx="2131920" cy="5889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Available V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DCS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7913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5486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715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3200400"/>
            <a:ext cx="1674720" cy="665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Vo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C 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4267080"/>
            <a:ext cx="167472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A 96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ODIS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133720"/>
            <a:ext cx="1674720" cy="6649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ic 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DS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Scalable Architecture for Group Membership in WA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 Anker, Gregory Chockler, Danny Dolev, Idit Kei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ACS Workshop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571680"/>
            <a:ext cx="807732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calable Membership Architect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icated distributed membership servers “divide and conquer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s involved only in membership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 communicate with each other directly (implement “virtual synchrony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levels of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cation Service NSView - “who is arou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membership vi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rchitectur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95280" y="2362320"/>
          <a:ext cx="7229520" cy="39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7229520" cy="39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648320" y="2133720"/>
            <a:ext cx="1752480" cy="838080"/>
          </a:xfrm>
          <a:prstGeom prst="wedgeRoundRectCallout">
            <a:avLst>
              <a:gd name="adj1" fmla="val 66847"/>
              <a:gd name="adj2" fmla="val 80490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S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Who is around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lure/join/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5029200"/>
            <a:ext cx="1752840" cy="838080"/>
          </a:xfrm>
          <a:prstGeom prst="wedgeRoundRectCallout">
            <a:avLst>
              <a:gd name="adj1" fmla="val 78259"/>
              <a:gd name="adj2" fmla="val -60416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reed 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s 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dentifi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6720" y="4648320"/>
            <a:ext cx="1523880" cy="1066680"/>
            <a:chOff x="3276720" y="4648320"/>
            <a:chExt cx="1523880" cy="1066680"/>
          </a:xfrm>
        </p:grpSpPr>
        <p:sp>
          <p:nvSpPr>
            <p:cNvPr id="184" name=""/>
            <p:cNvSpPr/>
            <p:nvPr/>
          </p:nvSpPr>
          <p:spPr>
            <a:xfrm>
              <a:off x="3276720" y="5181480"/>
              <a:ext cx="1523880" cy="533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Notific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ervice (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6720" y="4648320"/>
              <a:ext cx="1523880" cy="533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{A,B,C,D,E},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705720" y="2438280"/>
            <a:ext cx="1523880" cy="1066680"/>
            <a:chOff x="6705720" y="2438280"/>
            <a:chExt cx="1523880" cy="1066680"/>
          </a:xfrm>
        </p:grpSpPr>
        <p:sp>
          <p:nvSpPr>
            <p:cNvPr id="187" name=""/>
            <p:cNvSpPr/>
            <p:nvPr/>
          </p:nvSpPr>
          <p:spPr>
            <a:xfrm>
              <a:off x="6705720" y="2971440"/>
              <a:ext cx="1523880" cy="533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Notific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ervice (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2438280"/>
              <a:ext cx="1523880" cy="533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{A,B,C,D,E},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Notification Service (NS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members send reques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(Group G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(Group 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to (local) 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 detects faults (member / dom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ropagated to all NS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 servers notify membership servers of new NS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NS Communication: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liable FIFO link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hip servers can send each other messages using 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1 sends m1 and later m2 then any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ceives both, receives m1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le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1 sends m to S2 then event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S2 receives m or S1 suspects S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d all of its clie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she: A Group Membership Algorithm for WA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it Keidar, Jeremy Sus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ith Marzullo, Danny Dole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DCS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mbership in WAN: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9900cc"/>
                </a:solidFill>
                <a:latin typeface="Times New Roman"/>
              </a:rPr>
              <a:t>Challeng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latency is large and unpredic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t message l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ZapfDingba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ut failure detection is inaccu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ZapfDingba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a notification service (NS) for W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ZapfDingba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communication rounds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ZapfDingba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s may change views freq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ZapfDingba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 changes require communication for state transfer, which is costly in W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llaborato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10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 A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v Bar-Jose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gory Choc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nny Dol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an Fek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bil Hulei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yle Ing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ger Khaz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 Liv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ncy Ly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ith Marzu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av Sa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remy Suss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ex Shvarts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or Tarashchanski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man Viten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i Yeger-Lo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she’s Novel Concep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for WANs from the grou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systems emerged from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oids delivery of “obsolete” 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 that are known to be cha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lways terminating (but NS 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in a single round (“typically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523880" y="1752480"/>
          <a:ext cx="576288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576288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990720" y="5029200"/>
            <a:ext cx="77724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mber-Server Intera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she Guarant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 - &lt;members, identifie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 is monotonically in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onditio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ness proper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 on vi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“all” eventually have the same last NSView then “all” eventually agree on the last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19920" y="4952880"/>
            <a:ext cx="1600200" cy="1523880"/>
            <a:chOff x="6019920" y="4952880"/>
            <a:chExt cx="1600200" cy="1523880"/>
          </a:xfrm>
        </p:grpSpPr>
        <p:sp>
          <p:nvSpPr>
            <p:cNvPr id="206" name=""/>
            <p:cNvSpPr/>
            <p:nvPr/>
          </p:nvSpPr>
          <p:spPr>
            <a:xfrm>
              <a:off x="6019920" y="4952880"/>
              <a:ext cx="1600200" cy="1523880"/>
            </a:xfrm>
            <a:prstGeom prst="noSmoking">
              <a:avLst>
                <a:gd name="adj" fmla="val 12500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51760" y="527364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sole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600200" y="3733920"/>
            <a:ext cx="6858000" cy="990360"/>
          </a:xfrm>
          <a:prstGeom prst="rect">
            <a:avLst/>
          </a:prstGeom>
          <a:noFill/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0292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reasoning about individua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she Operation: Typical Cas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response to new NSView (members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proposal to other servers with NSVie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startChange to local members (cli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proposals from all servers of NSView members arrive, deliver view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 - NSView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 higher than all prev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local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xample: Client B</a:t>
            </a: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oins a group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14400" y="1219320"/>
          <a:ext cx="80010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80010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oal: Self Stabiliz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 same la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S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received by all serv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e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for this NS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reach all th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ervers use thes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to deliver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e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y live happily ever af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5638680"/>
            <a:ext cx="457200" cy="457200"/>
          </a:xfrm>
          <a:custGeom>
            <a:avLst/>
            <a:gdLst>
              <a:gd name="textAreaLeft" fmla="*/ 107280 w 457200"/>
              <a:gd name="textAreaRight" fmla="*/ 349560 w 45720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90720" y="48769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ZapfDingba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void deadlock: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-of-Sync Case:</a:t>
            </a:r>
            <a:br>
              <a:rPr sz="44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expected proposal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971800" y="2666880"/>
            <a:ext cx="2743200" cy="609840"/>
            <a:chOff x="2971800" y="2666880"/>
            <a:chExt cx="2743200" cy="609840"/>
          </a:xfrm>
        </p:grpSpPr>
        <p:sp>
          <p:nvSpPr>
            <p:cNvPr id="221" name=""/>
            <p:cNvSpPr/>
            <p:nvPr/>
          </p:nvSpPr>
          <p:spPr>
            <a:xfrm flipH="1">
              <a:off x="2971800" y="2666880"/>
              <a:ext cx="2743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908520" y="2666880"/>
              <a:ext cx="18064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9920" y="274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438280" y="2590920"/>
            <a:ext cx="1573560" cy="1143000"/>
            <a:chOff x="2438280" y="2590920"/>
            <a:chExt cx="1573560" cy="1143000"/>
          </a:xfrm>
        </p:grpSpPr>
        <p:grpSp>
          <p:nvGrpSpPr>
            <p:cNvPr id="225" name=""/>
            <p:cNvGrpSpPr/>
            <p:nvPr/>
          </p:nvGrpSpPr>
          <p:grpSpPr>
            <a:xfrm>
              <a:off x="2514240" y="3189600"/>
              <a:ext cx="1219320" cy="544320"/>
              <a:chOff x="2514240" y="3189600"/>
              <a:chExt cx="1219320" cy="54432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2514240" y="3505320"/>
                <a:ext cx="1219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1010200">
                <a:off x="2593800" y="3276720"/>
                <a:ext cx="105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pos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809880" y="2590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38280" y="25909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82720" y="320040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438280" y="2590920"/>
            <a:ext cx="3276720" cy="1904760"/>
            <a:chOff x="2438280" y="2590920"/>
            <a:chExt cx="3276720" cy="1904760"/>
          </a:xfrm>
        </p:grpSpPr>
        <p:sp>
          <p:nvSpPr>
            <p:cNvPr id="232" name=""/>
            <p:cNvSpPr/>
            <p:nvPr/>
          </p:nvSpPr>
          <p:spPr>
            <a:xfrm flipH="1">
              <a:off x="4419720" y="335268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21520" y="3505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15000" y="259092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9880" y="3581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83080" y="3809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590920" y="3875400"/>
              <a:ext cx="1218960" cy="544320"/>
              <a:chOff x="2590920" y="3875400"/>
              <a:chExt cx="1218960" cy="544320"/>
            </a:xfrm>
          </p:grpSpPr>
          <p:sp>
            <p:nvSpPr>
              <p:cNvPr id="238" name=""/>
              <p:cNvSpPr/>
              <p:nvPr/>
            </p:nvSpPr>
            <p:spPr>
              <a:xfrm flipH="1">
                <a:off x="2590920" y="4191120"/>
                <a:ext cx="1218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1010200">
                <a:off x="2669760" y="3962520"/>
                <a:ext cx="105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pos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38280" y="3809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1" name=""/>
          <p:cNvGraphicFramePr/>
          <p:nvPr/>
        </p:nvGraphicFramePr>
        <p:xfrm>
          <a:off x="7467480" y="762120"/>
          <a:ext cx="12002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762120"/>
                    <a:ext cx="12002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1981080" y="1828800"/>
            <a:ext cx="2362320" cy="838080"/>
            <a:chOff x="1981080" y="1828800"/>
            <a:chExt cx="2362320" cy="838080"/>
          </a:xfrm>
        </p:grpSpPr>
        <p:graphicFrame>
          <p:nvGraphicFramePr>
            <p:cNvPr id="244" name=""/>
            <p:cNvGraphicFramePr/>
            <p:nvPr/>
          </p:nvGraphicFramePr>
          <p:xfrm>
            <a:off x="3581280" y="1981080"/>
            <a:ext cx="619200" cy="55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8128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"/>
            <p:cNvGraphicFramePr/>
            <p:nvPr/>
          </p:nvGraphicFramePr>
          <p:xfrm>
            <a:off x="2209680" y="1981080"/>
            <a:ext cx="619200" cy="55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968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>
              <a:off x="1981080" y="1828800"/>
              <a:ext cx="2362320" cy="838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7800" y="1981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9400" y="1981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486400" y="1981080"/>
            <a:ext cx="619200" cy="552600"/>
            <a:chOff x="5486400" y="1981080"/>
            <a:chExt cx="619200" cy="552600"/>
          </a:xfrm>
        </p:grpSpPr>
        <p:graphicFrame>
          <p:nvGraphicFramePr>
            <p:cNvPr id="252" name=""/>
            <p:cNvGraphicFramePr/>
            <p:nvPr/>
          </p:nvGraphicFramePr>
          <p:xfrm>
            <a:off x="5486400" y="1981080"/>
            <a:ext cx="619200" cy="552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4" name=""/>
            <p:cNvSpPr/>
            <p:nvPr/>
          </p:nvSpPr>
          <p:spPr>
            <a:xfrm>
              <a:off x="5564520" y="1981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990720" y="48769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ZapfDingba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proposals are redundant, responding with a proposal may cause live-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-of-Sync Case:</a:t>
            </a:r>
            <a:br>
              <a:rPr sz="44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expected proposal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981080" y="1828800"/>
            <a:ext cx="2362320" cy="838080"/>
            <a:chOff x="1981080" y="1828800"/>
            <a:chExt cx="2362320" cy="838080"/>
          </a:xfrm>
        </p:grpSpPr>
        <p:graphicFrame>
          <p:nvGraphicFramePr>
            <p:cNvPr id="258" name=""/>
            <p:cNvGraphicFramePr/>
            <p:nvPr/>
          </p:nvGraphicFramePr>
          <p:xfrm>
            <a:off x="3581280" y="1981080"/>
            <a:ext cx="619200" cy="55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8128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2209680" y="1981080"/>
            <a:ext cx="619200" cy="55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0968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"/>
            <p:cNvSpPr/>
            <p:nvPr/>
          </p:nvSpPr>
          <p:spPr>
            <a:xfrm>
              <a:off x="1981080" y="1828800"/>
              <a:ext cx="2362320" cy="838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7800" y="1981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59400" y="1981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e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486400" y="1981080"/>
            <a:ext cx="619200" cy="552600"/>
            <a:chOff x="5486400" y="1981080"/>
            <a:chExt cx="619200" cy="552600"/>
          </a:xfrm>
        </p:grpSpPr>
        <p:graphicFrame>
          <p:nvGraphicFramePr>
            <p:cNvPr id="266" name=""/>
            <p:cNvGraphicFramePr/>
            <p:nvPr/>
          </p:nvGraphicFramePr>
          <p:xfrm>
            <a:off x="5486400" y="1981080"/>
            <a:ext cx="619200" cy="55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" name=""/>
            <p:cNvSpPr/>
            <p:nvPr/>
          </p:nvSpPr>
          <p:spPr>
            <a:xfrm>
              <a:off x="5564520" y="1981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211120" y="2971800"/>
            <a:ext cx="479520" cy="1359000"/>
            <a:chOff x="2211120" y="2971800"/>
            <a:chExt cx="479520" cy="1359000"/>
          </a:xfrm>
        </p:grpSpPr>
        <p:sp>
          <p:nvSpPr>
            <p:cNvPr id="270" name=""/>
            <p:cNvSpPr/>
            <p:nvPr/>
          </p:nvSpPr>
          <p:spPr>
            <a:xfrm>
              <a:off x="2438280" y="2971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11480" y="3200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38280" y="3581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1120" y="396252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211120" y="2590920"/>
            <a:ext cx="3896280" cy="368280"/>
            <a:chOff x="2211120" y="2590920"/>
            <a:chExt cx="3896280" cy="368280"/>
          </a:xfrm>
        </p:grpSpPr>
        <p:sp>
          <p:nvSpPr>
            <p:cNvPr id="275" name=""/>
            <p:cNvSpPr/>
            <p:nvPr/>
          </p:nvSpPr>
          <p:spPr>
            <a:xfrm>
              <a:off x="2211120" y="259092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87840" y="259092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59040" y="259092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507480" y="2895480"/>
            <a:ext cx="2541600" cy="1130400"/>
            <a:chOff x="3507480" y="2895480"/>
            <a:chExt cx="2541600" cy="1130400"/>
          </a:xfrm>
        </p:grpSpPr>
        <p:sp>
          <p:nvSpPr>
            <p:cNvPr id="279" name=""/>
            <p:cNvSpPr/>
            <p:nvPr/>
          </p:nvSpPr>
          <p:spPr>
            <a:xfrm>
              <a:off x="5715000" y="2895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09880" y="289548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07480" y="36576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12600" y="35053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514240" y="2895480"/>
            <a:ext cx="3124440" cy="914400"/>
            <a:chOff x="2514240" y="2895480"/>
            <a:chExt cx="3124440" cy="914400"/>
          </a:xfrm>
        </p:grpSpPr>
        <p:sp>
          <p:nvSpPr>
            <p:cNvPr id="284" name=""/>
            <p:cNvSpPr/>
            <p:nvPr/>
          </p:nvSpPr>
          <p:spPr>
            <a:xfrm flipH="1">
              <a:off x="2514240" y="2895480"/>
              <a:ext cx="1219320" cy="83844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886200" y="289548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14600" y="2971800"/>
              <a:ext cx="1219320" cy="685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6200" y="2895480"/>
              <a:ext cx="1676520" cy="5335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14600" y="2971800"/>
              <a:ext cx="2971800" cy="533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14600" y="2895480"/>
              <a:ext cx="31240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514600" y="3962520"/>
            <a:ext cx="3276720" cy="304560"/>
            <a:chOff x="2514600" y="3962520"/>
            <a:chExt cx="3276720" cy="304560"/>
          </a:xfrm>
        </p:grpSpPr>
        <p:sp>
          <p:nvSpPr>
            <p:cNvPr id="291" name=""/>
            <p:cNvSpPr/>
            <p:nvPr/>
          </p:nvSpPr>
          <p:spPr>
            <a:xfrm>
              <a:off x="2590920" y="3962520"/>
              <a:ext cx="114300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14600" y="3962520"/>
              <a:ext cx="3276720" cy="3045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7467480" y="762120"/>
          <a:ext cx="1200240" cy="13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67480" y="762120"/>
                    <a:ext cx="12002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-of-Sync Case:</a:t>
            </a:r>
            <a:br>
              <a:rPr sz="44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missing proposal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81080" y="1828800"/>
            <a:ext cx="2362320" cy="838080"/>
            <a:chOff x="1981080" y="1828800"/>
            <a:chExt cx="2362320" cy="838080"/>
          </a:xfrm>
        </p:grpSpPr>
        <p:graphicFrame>
          <p:nvGraphicFramePr>
            <p:cNvPr id="297" name=""/>
            <p:cNvGraphicFramePr/>
            <p:nvPr/>
          </p:nvGraphicFramePr>
          <p:xfrm>
            <a:off x="3581280" y="1981080"/>
            <a:ext cx="619200" cy="55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8128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"/>
            <p:cNvGraphicFramePr/>
            <p:nvPr/>
          </p:nvGraphicFramePr>
          <p:xfrm>
            <a:off x="2209680" y="1981080"/>
            <a:ext cx="619200" cy="55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0968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1981080" y="1828800"/>
              <a:ext cx="2362320" cy="838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7800" y="1981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9400" y="1981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e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486400" y="1981080"/>
            <a:ext cx="619200" cy="552600"/>
            <a:chOff x="5486400" y="1981080"/>
            <a:chExt cx="619200" cy="552600"/>
          </a:xfrm>
        </p:grpSpPr>
        <p:graphicFrame>
          <p:nvGraphicFramePr>
            <p:cNvPr id="305" name=""/>
            <p:cNvGraphicFramePr/>
            <p:nvPr/>
          </p:nvGraphicFramePr>
          <p:xfrm>
            <a:off x="5486400" y="1981080"/>
            <a:ext cx="619200" cy="55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5564520" y="1981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211120" y="3809880"/>
            <a:ext cx="498240" cy="978120"/>
            <a:chOff x="2211120" y="3809880"/>
            <a:chExt cx="498240" cy="978120"/>
          </a:xfrm>
        </p:grpSpPr>
        <p:sp>
          <p:nvSpPr>
            <p:cNvPr id="309" name=""/>
            <p:cNvSpPr/>
            <p:nvPr/>
          </p:nvSpPr>
          <p:spPr>
            <a:xfrm>
              <a:off x="2287800" y="41148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57360" y="38098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11120" y="441972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211120" y="2590920"/>
            <a:ext cx="3896280" cy="368280"/>
            <a:chOff x="2211120" y="2590920"/>
            <a:chExt cx="3896280" cy="368280"/>
          </a:xfrm>
        </p:grpSpPr>
        <p:sp>
          <p:nvSpPr>
            <p:cNvPr id="313" name=""/>
            <p:cNvSpPr/>
            <p:nvPr/>
          </p:nvSpPr>
          <p:spPr>
            <a:xfrm>
              <a:off x="2211120" y="259092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87840" y="259092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59040" y="259092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438280" y="2895480"/>
            <a:ext cx="3276720" cy="2438640"/>
            <a:chOff x="2438280" y="2895480"/>
            <a:chExt cx="3276720" cy="2438640"/>
          </a:xfrm>
        </p:grpSpPr>
        <p:sp>
          <p:nvSpPr>
            <p:cNvPr id="317" name=""/>
            <p:cNvSpPr/>
            <p:nvPr/>
          </p:nvSpPr>
          <p:spPr>
            <a:xfrm>
              <a:off x="2438280" y="29718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705640" y="2895480"/>
              <a:ext cx="9360" cy="24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289548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507480" y="5257800"/>
            <a:ext cx="2465280" cy="368280"/>
            <a:chOff x="3507480" y="5257800"/>
            <a:chExt cx="2465280" cy="368280"/>
          </a:xfrm>
        </p:grpSpPr>
        <p:sp>
          <p:nvSpPr>
            <p:cNvPr id="321" name=""/>
            <p:cNvSpPr/>
            <p:nvPr/>
          </p:nvSpPr>
          <p:spPr>
            <a:xfrm>
              <a:off x="3507480" y="52578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6280" y="52578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809880" y="2895480"/>
            <a:ext cx="1905120" cy="2438640"/>
            <a:chOff x="3809880" y="2895480"/>
            <a:chExt cx="1905120" cy="2438640"/>
          </a:xfrm>
        </p:grpSpPr>
        <p:sp>
          <p:nvSpPr>
            <p:cNvPr id="324" name=""/>
            <p:cNvSpPr/>
            <p:nvPr/>
          </p:nvSpPr>
          <p:spPr>
            <a:xfrm flipH="1">
              <a:off x="3809880" y="2895480"/>
              <a:ext cx="1828800" cy="24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86200" y="2895480"/>
              <a:ext cx="1828800" cy="22860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514240" y="2895480"/>
            <a:ext cx="3200760" cy="762120"/>
            <a:chOff x="2514240" y="2895480"/>
            <a:chExt cx="3200760" cy="762120"/>
          </a:xfrm>
        </p:grpSpPr>
        <p:sp>
          <p:nvSpPr>
            <p:cNvPr id="327" name=""/>
            <p:cNvSpPr/>
            <p:nvPr/>
          </p:nvSpPr>
          <p:spPr>
            <a:xfrm flipH="1">
              <a:off x="2514240" y="2895480"/>
              <a:ext cx="1219320" cy="38124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4600" y="2971800"/>
              <a:ext cx="1219320" cy="685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14600" y="2971800"/>
              <a:ext cx="3200400" cy="685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514600" y="2895480"/>
              <a:ext cx="31240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438280" y="4800600"/>
            <a:ext cx="3276720" cy="228600"/>
            <a:chOff x="2438280" y="4800600"/>
            <a:chExt cx="3276720" cy="228600"/>
          </a:xfrm>
        </p:grpSpPr>
        <p:sp>
          <p:nvSpPr>
            <p:cNvPr id="332" name=""/>
            <p:cNvSpPr/>
            <p:nvPr/>
          </p:nvSpPr>
          <p:spPr>
            <a:xfrm>
              <a:off x="2514600" y="4800600"/>
              <a:ext cx="114300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38280" y="4800600"/>
              <a:ext cx="327672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7467480" y="762120"/>
          <a:ext cx="1200240" cy="13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67480" y="762120"/>
                    <a:ext cx="12002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35880" y="3505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640" y="5791320"/>
            <a:ext cx="64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se exposed by correctness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tecting a “Missing Proposal”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s are numb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monotonically in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Num - the latest I 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has extra inform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[] contains last proposal used for a view (per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ion: proposal p arrives with:      p.Used [me] = Prop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line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communication -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vel architecture for scalable group communication services in 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scalable group membership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ssing Proposal Dete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981080" y="1828800"/>
            <a:ext cx="2362320" cy="838080"/>
            <a:chOff x="1981080" y="1828800"/>
            <a:chExt cx="2362320" cy="838080"/>
          </a:xfrm>
        </p:grpSpPr>
        <p:graphicFrame>
          <p:nvGraphicFramePr>
            <p:cNvPr id="342" name=""/>
            <p:cNvGraphicFramePr/>
            <p:nvPr/>
          </p:nvGraphicFramePr>
          <p:xfrm>
            <a:off x="3581280" y="1981080"/>
            <a:ext cx="619200" cy="55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8128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4" name=""/>
            <p:cNvGraphicFramePr/>
            <p:nvPr/>
          </p:nvGraphicFramePr>
          <p:xfrm>
            <a:off x="2209680" y="1981080"/>
            <a:ext cx="619200" cy="55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0968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1981080" y="1828800"/>
              <a:ext cx="2362320" cy="838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7800" y="1981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9400" y="1981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e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486400" y="1981080"/>
            <a:ext cx="619200" cy="552600"/>
            <a:chOff x="5486400" y="1981080"/>
            <a:chExt cx="619200" cy="552600"/>
          </a:xfrm>
        </p:grpSpPr>
        <p:graphicFrame>
          <p:nvGraphicFramePr>
            <p:cNvPr id="350" name=""/>
            <p:cNvGraphicFramePr/>
            <p:nvPr/>
          </p:nvGraphicFramePr>
          <p:xfrm>
            <a:off x="5486400" y="1981080"/>
            <a:ext cx="619200" cy="55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1981080"/>
                      <a:ext cx="61920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"/>
            <p:cNvSpPr/>
            <p:nvPr/>
          </p:nvSpPr>
          <p:spPr>
            <a:xfrm>
              <a:off x="5564520" y="1981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211120" y="2590920"/>
            <a:ext cx="3896280" cy="368280"/>
            <a:chOff x="2211120" y="2590920"/>
            <a:chExt cx="3896280" cy="368280"/>
          </a:xfrm>
        </p:grpSpPr>
        <p:sp>
          <p:nvSpPr>
            <p:cNvPr id="354" name=""/>
            <p:cNvSpPr/>
            <p:nvPr/>
          </p:nvSpPr>
          <p:spPr>
            <a:xfrm>
              <a:off x="2211120" y="259092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87840" y="259092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9040" y="259092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14240" y="2819520"/>
            <a:ext cx="3200760" cy="2514600"/>
            <a:chOff x="2514240" y="2819520"/>
            <a:chExt cx="3200760" cy="2514600"/>
          </a:xfrm>
        </p:grpSpPr>
        <p:sp>
          <p:nvSpPr>
            <p:cNvPr id="358" name=""/>
            <p:cNvSpPr/>
            <p:nvPr/>
          </p:nvSpPr>
          <p:spPr>
            <a:xfrm flipH="1">
              <a:off x="2514240" y="2895480"/>
              <a:ext cx="1219320" cy="38124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809880" y="2895480"/>
              <a:ext cx="1828800" cy="24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971800"/>
              <a:ext cx="1219320" cy="685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86200" y="2895480"/>
              <a:ext cx="1828800" cy="22860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4600" y="2971800"/>
              <a:ext cx="3200400" cy="685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14600" y="2895480"/>
              <a:ext cx="31240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16040" y="2819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11320" y="2819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e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91000" y="2819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066680" y="2803680"/>
            <a:ext cx="4648320" cy="2530440"/>
            <a:chOff x="1066680" y="2803680"/>
            <a:chExt cx="4648320" cy="2530440"/>
          </a:xfrm>
        </p:grpSpPr>
        <p:sp>
          <p:nvSpPr>
            <p:cNvPr id="368" name=""/>
            <p:cNvSpPr/>
            <p:nvPr/>
          </p:nvSpPr>
          <p:spPr>
            <a:xfrm>
              <a:off x="2438280" y="29718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705640" y="2895480"/>
              <a:ext cx="9360" cy="24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289548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5880" y="35053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66680" y="2819520"/>
              <a:ext cx="990720" cy="685800"/>
            </a:xfrm>
            <a:prstGeom prst="wedgeRoundRectCallout">
              <a:avLst>
                <a:gd name="adj1" fmla="val 57694"/>
                <a:gd name="adj2" fmla="val 82407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43000" y="280368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d: 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000" spc="-1" strike="noStrike">
                  <a:solidFill>
                    <a:srgbClr val="00e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211120" y="3809880"/>
            <a:ext cx="3503880" cy="1219320"/>
            <a:chOff x="2211120" y="3809880"/>
            <a:chExt cx="3503880" cy="1219320"/>
          </a:xfrm>
        </p:grpSpPr>
        <p:sp>
          <p:nvSpPr>
            <p:cNvPr id="375" name=""/>
            <p:cNvSpPr/>
            <p:nvPr/>
          </p:nvSpPr>
          <p:spPr>
            <a:xfrm>
              <a:off x="2287800" y="41148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57360" y="38098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11120" y="441972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14600" y="4800600"/>
              <a:ext cx="114300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4800600"/>
              <a:ext cx="327672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90920" y="449568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2, [1</a:t>
              </a:r>
              <a:r>
                <a:rPr b="0" lang="en-US" sz="2000" spc="-1" strike="noStrike">
                  <a:solidFill>
                    <a:srgbClr val="00e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477120" y="4038480"/>
            <a:ext cx="1904760" cy="1085040"/>
            <a:chOff x="6477120" y="4038480"/>
            <a:chExt cx="1904760" cy="1085040"/>
          </a:xfrm>
        </p:grpSpPr>
        <p:sp>
          <p:nvSpPr>
            <p:cNvPr id="382" name=""/>
            <p:cNvSpPr/>
            <p:nvPr/>
          </p:nvSpPr>
          <p:spPr>
            <a:xfrm>
              <a:off x="6477120" y="4038480"/>
              <a:ext cx="1904760" cy="1067040"/>
            </a:xfrm>
            <a:prstGeom prst="wedgeRoundRectCallout">
              <a:avLst>
                <a:gd name="adj1" fmla="val -87000"/>
                <a:gd name="adj2" fmla="val 44046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51280" y="4114800"/>
              <a:ext cx="1681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d[C] =1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Detection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248520" y="2666880"/>
            <a:ext cx="1600200" cy="457200"/>
            <a:chOff x="6248520" y="2666880"/>
            <a:chExt cx="1600200" cy="457200"/>
          </a:xfrm>
        </p:grpSpPr>
        <p:sp>
          <p:nvSpPr>
            <p:cNvPr id="385" name=""/>
            <p:cNvSpPr/>
            <p:nvPr/>
          </p:nvSpPr>
          <p:spPr>
            <a:xfrm>
              <a:off x="6248520" y="2666880"/>
              <a:ext cx="1447920" cy="457200"/>
            </a:xfrm>
            <a:prstGeom prst="wedgeRoundRectCallout">
              <a:avLst>
                <a:gd name="adj1" fmla="val -97041"/>
                <a:gd name="adj2" fmla="val 29629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8520" y="27172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Num: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tecting Blocking Cas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last proposal was used by me with an earlier proposal of server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’s last proposal will arrive when my algorithm is not running (extra propos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last proposal was used by A with an earlier proposal of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’s latest proposal, Used[me] = Prop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ndling Out-of-Sync Cases: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“Slow Agreement”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nds proposals, tagged “S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d upon blocking detection or upon receipt of “SA”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receipt of “SA” proposal with bigger number than PropNum, respond with sa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ver view only with “full house” of same number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ational for Slow Agreement Algorithm Termin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can only increase if NSView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, it stops increasing (if s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recipient responds with greater or equ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 are strictly incr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number is not sent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571680"/>
            <a:ext cx="815328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ow Typical is the “typical” Case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on the notification service (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y NS good behaviors: symmetric and transitive perception of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vity depends on logical topology, how suspicions propa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ca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ould 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y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NGRESS [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ker et 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 for W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symmetric, can be non-tra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topology can be configu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he servers extend CONGRESS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ket interface with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Experi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over the Inte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US: MIT, Cornell (CU), UC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aiwan: N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srael: HU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for 10 days in one configuration,         2.5 days in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clients at each lo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ly join/leave 10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wo Experiment Configu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219320" y="1752480"/>
          <a:ext cx="285732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285732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486400" y="1752480"/>
          <a:ext cx="2857680" cy="40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752480"/>
                    <a:ext cx="285768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centage of “Typical” Ca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T: 10,786 views, 10,661 one round - 98.8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ites: 98.8%, 98.9%, 98.97%, 98.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T: 2,559 views, 2,555 one round - 99.8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ites: 99.82%, 99.79%, 99.81%, 99.8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helming majority for one rou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on topolo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: Surprise!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660680" y="2944800"/>
            <a:ext cx="6597360" cy="3494160"/>
            <a:chOff x="1660680" y="2944800"/>
            <a:chExt cx="6597360" cy="3494160"/>
          </a:xfrm>
        </p:grpSpPr>
        <p:grpSp>
          <p:nvGrpSpPr>
            <p:cNvPr id="408" name=""/>
            <p:cNvGrpSpPr/>
            <p:nvPr/>
          </p:nvGrpSpPr>
          <p:grpSpPr>
            <a:xfrm>
              <a:off x="1660680" y="2944800"/>
              <a:ext cx="6597360" cy="3494160"/>
              <a:chOff x="1660680" y="2944800"/>
              <a:chExt cx="6597360" cy="3494160"/>
            </a:xfrm>
          </p:grpSpPr>
          <p:sp>
            <p:nvSpPr>
              <p:cNvPr id="409" name=""/>
              <p:cNvSpPr/>
              <p:nvPr/>
            </p:nvSpPr>
            <p:spPr>
              <a:xfrm>
                <a:off x="1660680" y="2944800"/>
                <a:ext cx="6597360" cy="34941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84360" y="3218040"/>
                <a:ext cx="566280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484360" y="5310360"/>
                <a:ext cx="566280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84360" y="4956120"/>
                <a:ext cx="566280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84360" y="4610160"/>
                <a:ext cx="566280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484360" y="4264200"/>
                <a:ext cx="566280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84360" y="3917880"/>
                <a:ext cx="566280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484360" y="3564000"/>
                <a:ext cx="566280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84360" y="3218040"/>
                <a:ext cx="566280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484360" y="3218040"/>
                <a:ext cx="5662800" cy="243828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484360" y="5383080"/>
                <a:ext cx="65160" cy="2732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49520" y="5629320"/>
                <a:ext cx="76320" cy="270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25840" y="5619600"/>
                <a:ext cx="66600" cy="36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92440" y="5610240"/>
                <a:ext cx="65160" cy="46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757600" y="5229360"/>
                <a:ext cx="77760" cy="4269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835360" y="5092560"/>
                <a:ext cx="65160" cy="5637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900520" y="5600880"/>
                <a:ext cx="77760" cy="554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78280" y="5519880"/>
                <a:ext cx="64800" cy="1364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3080" y="5364000"/>
                <a:ext cx="66960" cy="2923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0040" y="5356080"/>
                <a:ext cx="75960" cy="3002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86000" y="5219640"/>
                <a:ext cx="66960" cy="4366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252960" y="5329080"/>
                <a:ext cx="64800" cy="3272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317760" y="3537000"/>
                <a:ext cx="76320" cy="21193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394080" y="3463920"/>
                <a:ext cx="66600" cy="21924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460680" y="4610160"/>
                <a:ext cx="76320" cy="1046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37000" y="5383080"/>
                <a:ext cx="66600" cy="2732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603600" y="5492880"/>
                <a:ext cx="65160" cy="1634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668760" y="5483160"/>
                <a:ext cx="77760" cy="173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46520" y="5556240"/>
                <a:ext cx="65160" cy="100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11680" y="5564160"/>
                <a:ext cx="66600" cy="92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78280" y="5492880"/>
                <a:ext cx="76320" cy="1634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54600" y="5564160"/>
                <a:ext cx="66600" cy="92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021200" y="4856040"/>
                <a:ext cx="75960" cy="8002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097160" y="4983120"/>
                <a:ext cx="65160" cy="6732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162320" y="4573440"/>
                <a:ext cx="66960" cy="10828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29280" y="4537080"/>
                <a:ext cx="75960" cy="11192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305240" y="5292720"/>
                <a:ext cx="66600" cy="3636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71840" y="5437080"/>
                <a:ext cx="65160" cy="2192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437000" y="5510160"/>
                <a:ext cx="77760" cy="146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514760" y="5564160"/>
                <a:ext cx="65160" cy="92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579920" y="5592600"/>
                <a:ext cx="66600" cy="63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46520" y="5473800"/>
                <a:ext cx="76320" cy="1825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22840" y="5537160"/>
                <a:ext cx="66600" cy="119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89440" y="5283360"/>
                <a:ext cx="76320" cy="3729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65760" y="5383080"/>
                <a:ext cx="65160" cy="2732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30920" y="5137200"/>
                <a:ext cx="66600" cy="5191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97520" y="5229360"/>
                <a:ext cx="75960" cy="4269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073480" y="5383080"/>
                <a:ext cx="66960" cy="2732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140440" y="5419800"/>
                <a:ext cx="64800" cy="2365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205240" y="5537160"/>
                <a:ext cx="78120" cy="119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283360" y="5556240"/>
                <a:ext cx="64800" cy="100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48160" y="5564160"/>
                <a:ext cx="77760" cy="92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425920" y="5592600"/>
                <a:ext cx="65160" cy="63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491080" y="5610240"/>
                <a:ext cx="66600" cy="46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557680" y="5556240"/>
                <a:ext cx="76320" cy="100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634000" y="5456160"/>
                <a:ext cx="65160" cy="200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699160" y="5537160"/>
                <a:ext cx="66600" cy="119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65760" y="5537160"/>
                <a:ext cx="76320" cy="1191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42080" y="5573880"/>
                <a:ext cx="66600" cy="824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908680" y="5592600"/>
                <a:ext cx="76320" cy="63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85000" y="5600880"/>
                <a:ext cx="66600" cy="554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51600" y="5600880"/>
                <a:ext cx="65160" cy="554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16760" y="5610240"/>
                <a:ext cx="77760" cy="46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94520" y="5619600"/>
                <a:ext cx="65160" cy="36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59680" y="5619600"/>
                <a:ext cx="66600" cy="36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26280" y="5629320"/>
                <a:ext cx="75960" cy="270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402240" y="5610240"/>
                <a:ext cx="65160" cy="46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67400" y="5619600"/>
                <a:ext cx="66600" cy="36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534000" y="5629320"/>
                <a:ext cx="76320" cy="270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610320" y="5592600"/>
                <a:ext cx="66600" cy="63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676920" y="5629320"/>
                <a:ext cx="76320" cy="270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53240" y="5637240"/>
                <a:ext cx="6660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819840" y="5637240"/>
                <a:ext cx="6516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885000" y="5629320"/>
                <a:ext cx="77760" cy="270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962760" y="5619600"/>
                <a:ext cx="65160" cy="36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027920" y="5619600"/>
                <a:ext cx="66600" cy="36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94520" y="5637240"/>
                <a:ext cx="7632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170840" y="5637240"/>
                <a:ext cx="6516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236000" y="5646600"/>
                <a:ext cx="77760" cy="9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13760" y="5637240"/>
                <a:ext cx="6480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378560" y="5646600"/>
                <a:ext cx="66960" cy="9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445520" y="5637240"/>
                <a:ext cx="7596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521480" y="5637240"/>
                <a:ext cx="6660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588080" y="5646600"/>
                <a:ext cx="65160" cy="9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653240" y="5629320"/>
                <a:ext cx="77760" cy="270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31000" y="5637240"/>
                <a:ext cx="6516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796160" y="5637240"/>
                <a:ext cx="7776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73920" y="5637240"/>
                <a:ext cx="6516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939080" y="5637240"/>
                <a:ext cx="6516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004240" y="5646600"/>
                <a:ext cx="77760" cy="9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082000" y="5637240"/>
                <a:ext cx="65160" cy="190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484360" y="3218040"/>
                <a:ext cx="1800" cy="24382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440080" y="5656320"/>
                <a:ext cx="442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440080" y="5310360"/>
                <a:ext cx="442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440080" y="4956120"/>
                <a:ext cx="442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440080" y="4610160"/>
                <a:ext cx="442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40080" y="4264200"/>
                <a:ext cx="442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440080" y="3917880"/>
                <a:ext cx="442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40080" y="3564000"/>
                <a:ext cx="442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440080" y="3218040"/>
                <a:ext cx="442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484360" y="5656320"/>
                <a:ext cx="566280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248436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54952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62584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69244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5760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83536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290052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297828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04308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11004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18600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325296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331776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339408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346068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353700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360360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66876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74652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81168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387828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395460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402120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409716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416232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422928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430524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437184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443700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451476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457992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464652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472284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478944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486576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93092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499752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07348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514044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520524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528336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534816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542592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549108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555768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563400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569916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576576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584208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590868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598500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605160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611676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619452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625968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632628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640224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646740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653400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661032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667692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675324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681984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688500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696276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702792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09452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717084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23600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731376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737856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744552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752148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758808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765324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773100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779616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7873920" y="5655960"/>
                <a:ext cx="180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793908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800424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808200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8147160" y="5655960"/>
                <a:ext cx="1440" cy="363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50440" y="5592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37400" y="5246640"/>
                <a:ext cx="174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37400" y="4892760"/>
                <a:ext cx="174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37400" y="4546440"/>
                <a:ext cx="174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237400" y="4200480"/>
                <a:ext cx="174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8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180160" y="3854520"/>
                <a:ext cx="232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180160" y="3500280"/>
                <a:ext cx="232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180160" y="3154320"/>
                <a:ext cx="232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8900000">
                <a:off x="2389320" y="57387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8900000">
                <a:off x="2569680" y="5765400"/>
                <a:ext cx="174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8900000">
                <a:off x="2844360" y="5765400"/>
                <a:ext cx="174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8900000">
                <a:off x="3130200" y="5765400"/>
                <a:ext cx="174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8900000">
                <a:off x="3404880" y="5765400"/>
                <a:ext cx="174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8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8900000">
                <a:off x="3644280" y="5783040"/>
                <a:ext cx="232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8900000">
                <a:off x="3918960" y="5783040"/>
                <a:ext cx="232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8900000">
                <a:off x="4204440" y="5783400"/>
                <a:ext cx="232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8900000">
                <a:off x="4477680" y="5783040"/>
                <a:ext cx="232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6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rot="18900000">
              <a:off x="4763520" y="578304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8900000">
              <a:off x="5037840" y="578340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8900000">
              <a:off x="5312520" y="578340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8900000">
              <a:off x="5598360" y="578340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8900000">
              <a:off x="5873040" y="578340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8900000">
              <a:off x="6157080" y="578340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8900000">
              <a:off x="6431760" y="578340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8900000">
              <a:off x="6717600" y="578340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8900000">
              <a:off x="6992280" y="578304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8900000">
              <a:off x="7278120" y="578304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8900000">
              <a:off x="7552440" y="578340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8900000">
              <a:off x="7836840" y="578304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33280" y="6056280"/>
              <a:ext cx="1353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millisecond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1078200" y="4063320"/>
              <a:ext cx="163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number of run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60680" y="2944800"/>
              <a:ext cx="6597360" cy="349416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295280" y="1828800"/>
            <a:ext cx="7286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togram of Moshe d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, configuration 1,  runs up to 4 seconds (9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dern Distributed Applications (in WANs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y available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eo-on-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white-board, shared edito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 command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 strategy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ck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: Part II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95280" y="1828800"/>
            <a:ext cx="7286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togram of Moshe d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, configuration 2,  runs up to 3 seconds (99.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60680" y="2944800"/>
            <a:ext cx="6595920" cy="3494160"/>
          </a:xfrm>
          <a:prstGeom prst="rect">
            <a:avLst/>
          </a:pr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16320" y="3135240"/>
            <a:ext cx="5730840" cy="25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16320" y="5376960"/>
            <a:ext cx="573084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16320" y="5095800"/>
            <a:ext cx="5730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16320" y="4815000"/>
            <a:ext cx="573084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416320" y="4533840"/>
            <a:ext cx="5730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16320" y="4260960"/>
            <a:ext cx="573084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16320" y="3979800"/>
            <a:ext cx="5730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16320" y="3699000"/>
            <a:ext cx="573084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416320" y="3417840"/>
            <a:ext cx="5730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16320" y="3135240"/>
            <a:ext cx="5730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16320" y="3135240"/>
            <a:ext cx="5730840" cy="25243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16320" y="5369040"/>
            <a:ext cx="98280" cy="290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14600" y="5613480"/>
            <a:ext cx="87480" cy="46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02080" y="5630760"/>
            <a:ext cx="99720" cy="28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01800" y="5649840"/>
            <a:ext cx="87480" cy="9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89280" y="5305320"/>
            <a:ext cx="98280" cy="3542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87560" y="4551480"/>
            <a:ext cx="87480" cy="1108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75040" y="5241960"/>
            <a:ext cx="98280" cy="417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73320" y="5495760"/>
            <a:ext cx="98640" cy="163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71960" y="5586480"/>
            <a:ext cx="88920" cy="73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60880" y="5504040"/>
            <a:ext cx="98280" cy="155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359160" y="5168880"/>
            <a:ext cx="87480" cy="4906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46640" y="4959360"/>
            <a:ext cx="98280" cy="7002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44920" y="3462480"/>
            <a:ext cx="87120" cy="2197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32040" y="3425760"/>
            <a:ext cx="98640" cy="2233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30680" y="4587840"/>
            <a:ext cx="100080" cy="1071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30760" y="5268960"/>
            <a:ext cx="87120" cy="390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17880" y="5486400"/>
            <a:ext cx="98640" cy="1731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6520" y="5386320"/>
            <a:ext cx="87120" cy="2732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3640" y="5468760"/>
            <a:ext cx="98640" cy="190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202280" y="5359320"/>
            <a:ext cx="87120" cy="3002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89400" y="5559480"/>
            <a:ext cx="100080" cy="100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89480" y="5576760"/>
            <a:ext cx="98280" cy="82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87760" y="5595840"/>
            <a:ext cx="87480" cy="63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5240" y="5459400"/>
            <a:ext cx="98280" cy="2001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73520" y="5276880"/>
            <a:ext cx="87480" cy="3826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61000" y="5041800"/>
            <a:ext cx="98280" cy="6177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59280" y="5022720"/>
            <a:ext cx="88920" cy="6368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48200" y="5349960"/>
            <a:ext cx="98640" cy="309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46840" y="5486400"/>
            <a:ext cx="98280" cy="1731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45120" y="5532480"/>
            <a:ext cx="87120" cy="127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232240" y="5576760"/>
            <a:ext cx="98640" cy="82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30880" y="5559480"/>
            <a:ext cx="87120" cy="100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18000" y="5532480"/>
            <a:ext cx="100080" cy="127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18080" y="5603760"/>
            <a:ext cx="98640" cy="55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616720" y="5622840"/>
            <a:ext cx="87120" cy="36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03840" y="5603760"/>
            <a:ext cx="98640" cy="55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02480" y="5603760"/>
            <a:ext cx="87120" cy="55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89600" y="5576760"/>
            <a:ext cx="98280" cy="82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87880" y="5586480"/>
            <a:ext cx="88920" cy="73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76800" y="5640480"/>
            <a:ext cx="98640" cy="19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75440" y="5586480"/>
            <a:ext cx="98280" cy="73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73720" y="5640480"/>
            <a:ext cx="87480" cy="19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61200" y="5649840"/>
            <a:ext cx="98280" cy="9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59480" y="5649840"/>
            <a:ext cx="87480" cy="9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546960" y="5630760"/>
            <a:ext cx="98280" cy="28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645240" y="5640480"/>
            <a:ext cx="88920" cy="19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34160" y="5640480"/>
            <a:ext cx="98280" cy="19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32440" y="5649840"/>
            <a:ext cx="98640" cy="9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31080" y="5622840"/>
            <a:ext cx="87120" cy="36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18200" y="5640480"/>
            <a:ext cx="98640" cy="19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116840" y="5640480"/>
            <a:ext cx="88920" cy="19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205760" y="5630760"/>
            <a:ext cx="98280" cy="28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588080" y="5649840"/>
            <a:ext cx="87480" cy="9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961400" y="5649840"/>
            <a:ext cx="87120" cy="9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16320" y="3135240"/>
            <a:ext cx="1440" cy="25243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73480" y="5659560"/>
            <a:ext cx="4284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73480" y="5376960"/>
            <a:ext cx="4284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373480" y="5095800"/>
            <a:ext cx="42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73480" y="4815000"/>
            <a:ext cx="4284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3480" y="4533840"/>
            <a:ext cx="42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73480" y="4260960"/>
            <a:ext cx="4284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73480" y="3979800"/>
            <a:ext cx="42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73480" y="3699000"/>
            <a:ext cx="4284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73480" y="3417840"/>
            <a:ext cx="42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73480" y="3135240"/>
            <a:ext cx="4284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16320" y="5659560"/>
            <a:ext cx="573084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41632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51460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0208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270180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78928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88756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97504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307332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17196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26088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35916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44664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54492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63204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73068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83076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391788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01652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10364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20228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28940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38948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48776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57524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67352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76100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85928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94820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04684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14512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23224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33088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41800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51808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61672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70384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80248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8960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598788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07680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17544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27372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36120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45948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54696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64524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73416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83244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693108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01820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711684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720576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730404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739152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748980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758808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67556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777384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86276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96140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048520" y="5659200"/>
            <a:ext cx="180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8147160" y="5659200"/>
            <a:ext cx="1440" cy="349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83480" y="55958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25880" y="531324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70800" y="503244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170800" y="475128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170800" y="447048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70800" y="419724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70800" y="391644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170800" y="363528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170800" y="335448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170800" y="307188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8900000">
            <a:off x="2332080" y="57416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8900000">
            <a:off x="2514240" y="576720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18900000">
            <a:off x="2798280" y="576720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8900000">
            <a:off x="3072960" y="576720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18900000">
            <a:off x="3357360" y="576720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18900000">
            <a:off x="3642840" y="576720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8900000">
            <a:off x="3927240" y="576720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8900000">
            <a:off x="4155480" y="578628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18900000">
            <a:off x="4440960" y="578664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8900000">
            <a:off x="4725360" y="578628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3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18900000">
            <a:off x="5010840" y="578664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8900000">
            <a:off x="5284080" y="578664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6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18900000">
            <a:off x="5569920" y="578628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8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18900000">
            <a:off x="5853960" y="578664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8900000">
            <a:off x="6128640" y="578664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18900000">
            <a:off x="6412680" y="578664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rot="18900000">
            <a:off x="6698520" y="578664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4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8900000">
            <a:off x="6982560" y="578664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18900000">
            <a:off x="7257240" y="578664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7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8900000">
            <a:off x="7541640" y="578628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8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18900000">
            <a:off x="7827120" y="578664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29040" y="6121440"/>
            <a:ext cx="1090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illisecon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16200000">
            <a:off x="1192680" y="4088520"/>
            <a:ext cx="1321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umber of ru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660680" y="2944800"/>
            <a:ext cx="6595920" cy="3494160"/>
          </a:xfrm>
          <a:prstGeom prst="rect">
            <a:avLst/>
          </a:pr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 over the Internet: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hat is Going on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message loss, running time is close to biggest round-trip-time, ~650 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loss has a big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2 has much less los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ases of good perform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low” versus “Typical”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can take 1 or 2 rounds once it is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on Prop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after 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round is run first, then detection, and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loss - 900 ms., 40% more than u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without 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 by unexpected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low algorithm is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less time than one-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stable Periods: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 Obsolete View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table”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changes;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processes differ in failure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9 of  the 10,786 view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 seconds, 3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0 seconds, 1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st running time 3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of 2,559 view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 seconds, 0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st running time 3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calability Measurem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ed experiment at MIT and UC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NS, based on TCP/IP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s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ect faults to test “slow”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y number of members,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end-to-end latencies at memb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in/leave/suspi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rresponding 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of 150 (50 slow) r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nd-to-End Latency: Scalable!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24382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scalability:   4 servers (cons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3657600" y="1676520"/>
          <a:ext cx="502920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676520"/>
                    <a:ext cx="50292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"/>
          <p:cNvGraphicFramePr/>
          <p:nvPr/>
        </p:nvGraphicFramePr>
        <p:xfrm>
          <a:off x="3809880" y="3962520"/>
          <a:ext cx="47246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962520"/>
                    <a:ext cx="47246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1143000" y="3886200"/>
            <a:ext cx="243828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and member scalability: 4-14 serv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lusion: Moshe Featur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ing obsolete vie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% of the time in one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.8% of the time in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notification service for W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 to configure multiple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work: configure more w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le “divide and conquer”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Retrospectiv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: Role of Theor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applications (compos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 can be met in one round “typically” (unlike Consens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ness proof exposes subtle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void live-lo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detection mechanism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uture Work: The QoS Challeng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istributed applications require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availabl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ed delay, bounded j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hip algorithm terminates in one round under certain circum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leverage on that to guarantee QoS under certain assump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ther primitives guarantee Q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ortant Issues in Building Distributed 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of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picture of game, same shared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ult tolerance, high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licts with consisten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y - WAN, long unpredictable de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eneric Primitives - Middleware, “Building Blocks”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2485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, total order, group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away difficulties, e.g.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order - a basis for repl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k fail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t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specified semantics -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467480" y="1219320"/>
            <a:ext cx="1089000" cy="1095120"/>
            <a:chOff x="7467480" y="1219320"/>
            <a:chExt cx="1089000" cy="1095120"/>
          </a:xfrm>
        </p:grpSpPr>
        <p:graphicFrame>
          <p:nvGraphicFramePr>
            <p:cNvPr id="58" name=""/>
            <p:cNvGraphicFramePr/>
            <p:nvPr/>
          </p:nvGraphicFramePr>
          <p:xfrm>
            <a:off x="7467480" y="1752480"/>
            <a:ext cx="555840" cy="56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480" y="1752480"/>
                      <a:ext cx="55584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8001000" y="1752480"/>
            <a:ext cx="555480" cy="56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01000" y="1752480"/>
                      <a:ext cx="5554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7696080" y="1219320"/>
            <a:ext cx="676440" cy="65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96080" y="1219320"/>
                      <a:ext cx="67644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search Approa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orous modeling, specification, proofs, performanc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and performance tu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743200"/>
            <a:ext cx="304920" cy="1295280"/>
          </a:xfrm>
          <a:custGeom>
            <a:avLst/>
            <a:gdLst>
              <a:gd name="textAreaLeft" fmla="*/ 40680 w 304920"/>
              <a:gd name="textAreaRight" fmla="*/ 264240 w 3049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8228880" y="2743200"/>
            <a:ext cx="304920" cy="1295280"/>
          </a:xfrm>
          <a:custGeom>
            <a:avLst/>
            <a:gdLst>
              <a:gd name="textAreaLeft" fmla="*/ 40680 w 304920"/>
              <a:gd name="textAreaRight" fmla="*/ 264240 w 3049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091120"/>
            <a:ext cx="77756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</a:t>
            </a:r>
            <a:r>
              <a:rPr b="0" lang="en-US" sz="3200" spc="-1" strike="noStrike">
                <a:solidFill>
                  <a:srgbClr val="ff00ff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examples </a:t>
            </a:r>
            <a:r>
              <a:rPr b="0" lang="en-US" sz="3200" spc="-1" strike="noStrike">
                <a:solidFill>
                  <a:srgbClr val="ff00ff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l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92640" y="2197080"/>
            <a:ext cx="2666880" cy="1273320"/>
          </a:xfrm>
          <a:prstGeom prst="ellipse">
            <a:avLst/>
          </a:prstGeom>
          <a:solidFill>
            <a:srgbClr val="00e0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22760" y="2109960"/>
            <a:ext cx="1458720" cy="1319040"/>
          </a:xfrm>
          <a:prstGeom prst="ellipse">
            <a:avLst/>
          </a:prstGeom>
          <a:solidFill>
            <a:srgbClr val="c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0" y="2819520"/>
          <a:ext cx="42552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19520"/>
                    <a:ext cx="425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400800" y="1371600"/>
          <a:ext cx="42552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371600"/>
                    <a:ext cx="425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546360" y="2585880"/>
            <a:ext cx="119160" cy="212760"/>
          </a:xfrm>
          <a:prstGeom prst="rect">
            <a:avLst/>
          </a:pr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0600" y="2693880"/>
            <a:ext cx="63360" cy="160560"/>
          </a:xfrm>
          <a:custGeom>
            <a:avLst/>
            <a:gdLst/>
            <a:ahLst/>
            <a:rect l="l" t="t" r="r" b="b"/>
            <a:pathLst>
              <a:path w="40" h="101">
                <a:moveTo>
                  <a:pt x="16" y="0"/>
                </a:moveTo>
                <a:lnTo>
                  <a:pt x="16" y="10"/>
                </a:lnTo>
                <a:lnTo>
                  <a:pt x="23" y="15"/>
                </a:lnTo>
                <a:lnTo>
                  <a:pt x="27" y="23"/>
                </a:lnTo>
                <a:lnTo>
                  <a:pt x="30" y="32"/>
                </a:lnTo>
                <a:lnTo>
                  <a:pt x="30" y="40"/>
                </a:lnTo>
                <a:lnTo>
                  <a:pt x="30" y="50"/>
                </a:lnTo>
                <a:lnTo>
                  <a:pt x="34" y="60"/>
                </a:lnTo>
                <a:lnTo>
                  <a:pt x="34" y="68"/>
                </a:lnTo>
                <a:lnTo>
                  <a:pt x="37" y="78"/>
                </a:lnTo>
                <a:lnTo>
                  <a:pt x="39" y="87"/>
                </a:lnTo>
                <a:lnTo>
                  <a:pt x="39" y="95"/>
                </a:lnTo>
                <a:lnTo>
                  <a:pt x="32" y="100"/>
                </a:lnTo>
                <a:lnTo>
                  <a:pt x="23" y="100"/>
                </a:lnTo>
                <a:lnTo>
                  <a:pt x="16" y="98"/>
                </a:lnTo>
                <a:lnTo>
                  <a:pt x="12" y="90"/>
                </a:lnTo>
                <a:lnTo>
                  <a:pt x="4" y="80"/>
                </a:lnTo>
                <a:lnTo>
                  <a:pt x="2" y="72"/>
                </a:lnTo>
                <a:lnTo>
                  <a:pt x="0" y="62"/>
                </a:lnTo>
                <a:lnTo>
                  <a:pt x="0" y="53"/>
                </a:lnTo>
                <a:lnTo>
                  <a:pt x="0" y="45"/>
                </a:lnTo>
                <a:lnTo>
                  <a:pt x="2" y="35"/>
                </a:lnTo>
                <a:lnTo>
                  <a:pt x="7" y="28"/>
                </a:lnTo>
                <a:lnTo>
                  <a:pt x="14" y="20"/>
                </a:lnTo>
                <a:lnTo>
                  <a:pt x="18" y="13"/>
                </a:lnTo>
                <a:lnTo>
                  <a:pt x="16" y="0"/>
                </a:lnTo>
              </a:path>
            </a:pathLst>
          </a:cu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4723400">
            <a:off x="5535360" y="1193040"/>
            <a:ext cx="228600" cy="1523880"/>
          </a:xfrm>
          <a:prstGeom prst="upArrow">
            <a:avLst>
              <a:gd name="adj1" fmla="val 76917"/>
              <a:gd name="adj2" fmla="val 194244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2666880"/>
            <a:ext cx="38124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49600" y="213156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079000">
            <a:off x="5410080" y="1828440"/>
            <a:ext cx="10670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nd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oup Communi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abstraction - a group of processes is one logical ent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Groups (join, leave, cra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: Ensemble, Horus, ISIS, Newtop, Psync, Sphynx, Relacs, RMP, Totem, Tran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191120" y="2209680"/>
          <a:ext cx="425160" cy="4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2209680"/>
                    <a:ext cx="425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809880" y="2819520"/>
          <a:ext cx="425520" cy="39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2819520"/>
                    <a:ext cx="425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3686040" y="2039760"/>
            <a:ext cx="1570680" cy="1540080"/>
            <a:chOff x="3686040" y="2039760"/>
            <a:chExt cx="1570680" cy="1540080"/>
          </a:xfrm>
        </p:grpSpPr>
        <p:grpSp>
          <p:nvGrpSpPr>
            <p:cNvPr id="88" name=""/>
            <p:cNvGrpSpPr/>
            <p:nvPr/>
          </p:nvGrpSpPr>
          <p:grpSpPr>
            <a:xfrm>
              <a:off x="3711240" y="2056680"/>
              <a:ext cx="1545480" cy="1523160"/>
              <a:chOff x="3711240" y="2056680"/>
              <a:chExt cx="1545480" cy="15231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3711240" y="2056680"/>
                <a:ext cx="1545480" cy="1523160"/>
                <a:chOff x="3711240" y="2056680"/>
                <a:chExt cx="1545480" cy="15231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711240" y="2056680"/>
                  <a:ext cx="1311840" cy="880560"/>
                </a:xfrm>
                <a:custGeom>
                  <a:avLst/>
                  <a:gdLst/>
                  <a:ahLst/>
                  <a:rect l="l" t="t" r="r" b="b"/>
                  <a:pathLst>
                    <a:path w="724" h="460">
                      <a:moveTo>
                        <a:pt x="15" y="459"/>
                      </a:moveTo>
                      <a:lnTo>
                        <a:pt x="4" y="405"/>
                      </a:lnTo>
                      <a:lnTo>
                        <a:pt x="0" y="353"/>
                      </a:lnTo>
                      <a:lnTo>
                        <a:pt x="2" y="316"/>
                      </a:lnTo>
                      <a:lnTo>
                        <a:pt x="9" y="284"/>
                      </a:lnTo>
                      <a:lnTo>
                        <a:pt x="20" y="248"/>
                      </a:lnTo>
                      <a:lnTo>
                        <a:pt x="37" y="211"/>
                      </a:lnTo>
                      <a:lnTo>
                        <a:pt x="58" y="173"/>
                      </a:lnTo>
                      <a:lnTo>
                        <a:pt x="80" y="143"/>
                      </a:lnTo>
                      <a:lnTo>
                        <a:pt x="106" y="112"/>
                      </a:lnTo>
                      <a:lnTo>
                        <a:pt x="136" y="87"/>
                      </a:lnTo>
                      <a:lnTo>
                        <a:pt x="166" y="64"/>
                      </a:lnTo>
                      <a:lnTo>
                        <a:pt x="199" y="46"/>
                      </a:lnTo>
                      <a:lnTo>
                        <a:pt x="239" y="30"/>
                      </a:lnTo>
                      <a:lnTo>
                        <a:pt x="284" y="16"/>
                      </a:lnTo>
                      <a:lnTo>
                        <a:pt x="323" y="6"/>
                      </a:lnTo>
                      <a:lnTo>
                        <a:pt x="371" y="0"/>
                      </a:lnTo>
                      <a:lnTo>
                        <a:pt x="431" y="0"/>
                      </a:lnTo>
                      <a:lnTo>
                        <a:pt x="476" y="8"/>
                      </a:lnTo>
                      <a:lnTo>
                        <a:pt x="530" y="20"/>
                      </a:lnTo>
                      <a:lnTo>
                        <a:pt x="584" y="42"/>
                      </a:lnTo>
                      <a:lnTo>
                        <a:pt x="632" y="68"/>
                      </a:lnTo>
                      <a:lnTo>
                        <a:pt x="665" y="95"/>
                      </a:lnTo>
                      <a:lnTo>
                        <a:pt x="697" y="124"/>
                      </a:lnTo>
                      <a:lnTo>
                        <a:pt x="723" y="155"/>
                      </a:lnTo>
                      <a:lnTo>
                        <a:pt x="654" y="107"/>
                      </a:lnTo>
                      <a:lnTo>
                        <a:pt x="617" y="87"/>
                      </a:lnTo>
                      <a:lnTo>
                        <a:pt x="578" y="73"/>
                      </a:lnTo>
                      <a:lnTo>
                        <a:pt x="528" y="58"/>
                      </a:lnTo>
                      <a:lnTo>
                        <a:pt x="481" y="52"/>
                      </a:lnTo>
                      <a:lnTo>
                        <a:pt x="429" y="50"/>
                      </a:lnTo>
                      <a:lnTo>
                        <a:pt x="390" y="52"/>
                      </a:lnTo>
                      <a:lnTo>
                        <a:pt x="349" y="58"/>
                      </a:lnTo>
                      <a:lnTo>
                        <a:pt x="308" y="68"/>
                      </a:lnTo>
                      <a:lnTo>
                        <a:pt x="269" y="80"/>
                      </a:lnTo>
                      <a:lnTo>
                        <a:pt x="226" y="100"/>
                      </a:lnTo>
                      <a:lnTo>
                        <a:pt x="192" y="119"/>
                      </a:lnTo>
                      <a:lnTo>
                        <a:pt x="164" y="141"/>
                      </a:lnTo>
                      <a:lnTo>
                        <a:pt x="132" y="165"/>
                      </a:lnTo>
                      <a:lnTo>
                        <a:pt x="106" y="191"/>
                      </a:lnTo>
                      <a:lnTo>
                        <a:pt x="80" y="227"/>
                      </a:lnTo>
                      <a:lnTo>
                        <a:pt x="56" y="265"/>
                      </a:lnTo>
                      <a:lnTo>
                        <a:pt x="41" y="302"/>
                      </a:lnTo>
                      <a:lnTo>
                        <a:pt x="28" y="345"/>
                      </a:lnTo>
                      <a:lnTo>
                        <a:pt x="20" y="397"/>
                      </a:lnTo>
                      <a:lnTo>
                        <a:pt x="15" y="459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808800" y="2494800"/>
                  <a:ext cx="1447920" cy="1085040"/>
                </a:xfrm>
                <a:custGeom>
                  <a:avLst/>
                  <a:gdLst/>
                  <a:ahLst/>
                  <a:rect l="l" t="t" r="r" b="b"/>
                  <a:pathLst>
                    <a:path w="799" h="567">
                      <a:moveTo>
                        <a:pt x="0" y="344"/>
                      </a:moveTo>
                      <a:lnTo>
                        <a:pt x="46" y="392"/>
                      </a:lnTo>
                      <a:lnTo>
                        <a:pt x="95" y="435"/>
                      </a:lnTo>
                      <a:lnTo>
                        <a:pt x="141" y="459"/>
                      </a:lnTo>
                      <a:lnTo>
                        <a:pt x="206" y="485"/>
                      </a:lnTo>
                      <a:lnTo>
                        <a:pt x="258" y="499"/>
                      </a:lnTo>
                      <a:lnTo>
                        <a:pt x="306" y="505"/>
                      </a:lnTo>
                      <a:lnTo>
                        <a:pt x="362" y="505"/>
                      </a:lnTo>
                      <a:lnTo>
                        <a:pt x="403" y="501"/>
                      </a:lnTo>
                      <a:lnTo>
                        <a:pt x="453" y="493"/>
                      </a:lnTo>
                      <a:lnTo>
                        <a:pt x="503" y="479"/>
                      </a:lnTo>
                      <a:lnTo>
                        <a:pt x="544" y="459"/>
                      </a:lnTo>
                      <a:lnTo>
                        <a:pt x="583" y="437"/>
                      </a:lnTo>
                      <a:lnTo>
                        <a:pt x="617" y="414"/>
                      </a:lnTo>
                      <a:lnTo>
                        <a:pt x="652" y="382"/>
                      </a:lnTo>
                      <a:lnTo>
                        <a:pt x="687" y="346"/>
                      </a:lnTo>
                      <a:lnTo>
                        <a:pt x="714" y="312"/>
                      </a:lnTo>
                      <a:lnTo>
                        <a:pt x="729" y="277"/>
                      </a:lnTo>
                      <a:lnTo>
                        <a:pt x="748" y="223"/>
                      </a:lnTo>
                      <a:lnTo>
                        <a:pt x="761" y="166"/>
                      </a:lnTo>
                      <a:lnTo>
                        <a:pt x="763" y="116"/>
                      </a:lnTo>
                      <a:lnTo>
                        <a:pt x="755" y="60"/>
                      </a:lnTo>
                      <a:lnTo>
                        <a:pt x="735" y="0"/>
                      </a:lnTo>
                      <a:lnTo>
                        <a:pt x="755" y="32"/>
                      </a:lnTo>
                      <a:lnTo>
                        <a:pt x="776" y="79"/>
                      </a:lnTo>
                      <a:lnTo>
                        <a:pt x="787" y="122"/>
                      </a:lnTo>
                      <a:lnTo>
                        <a:pt x="798" y="162"/>
                      </a:lnTo>
                      <a:lnTo>
                        <a:pt x="796" y="196"/>
                      </a:lnTo>
                      <a:lnTo>
                        <a:pt x="794" y="243"/>
                      </a:lnTo>
                      <a:lnTo>
                        <a:pt x="767" y="331"/>
                      </a:lnTo>
                      <a:lnTo>
                        <a:pt x="742" y="380"/>
                      </a:lnTo>
                      <a:lnTo>
                        <a:pt x="710" y="423"/>
                      </a:lnTo>
                      <a:lnTo>
                        <a:pt x="674" y="459"/>
                      </a:lnTo>
                      <a:lnTo>
                        <a:pt x="639" y="485"/>
                      </a:lnTo>
                      <a:lnTo>
                        <a:pt x="592" y="515"/>
                      </a:lnTo>
                      <a:lnTo>
                        <a:pt x="544" y="536"/>
                      </a:lnTo>
                      <a:lnTo>
                        <a:pt x="498" y="550"/>
                      </a:lnTo>
                      <a:lnTo>
                        <a:pt x="440" y="564"/>
                      </a:lnTo>
                      <a:lnTo>
                        <a:pt x="397" y="566"/>
                      </a:lnTo>
                      <a:lnTo>
                        <a:pt x="349" y="566"/>
                      </a:lnTo>
                      <a:lnTo>
                        <a:pt x="302" y="558"/>
                      </a:lnTo>
                      <a:lnTo>
                        <a:pt x="249" y="548"/>
                      </a:lnTo>
                      <a:lnTo>
                        <a:pt x="215" y="536"/>
                      </a:lnTo>
                      <a:lnTo>
                        <a:pt x="169" y="513"/>
                      </a:lnTo>
                      <a:lnTo>
                        <a:pt x="130" y="493"/>
                      </a:lnTo>
                      <a:lnTo>
                        <a:pt x="93" y="465"/>
                      </a:lnTo>
                      <a:lnTo>
                        <a:pt x="54" y="427"/>
                      </a:lnTo>
                      <a:lnTo>
                        <a:pt x="17" y="378"/>
                      </a:lnTo>
                      <a:lnTo>
                        <a:pt x="0" y="34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16280" y="2077920"/>
                <a:ext cx="1536480" cy="1434960"/>
                <a:chOff x="3716280" y="2077920"/>
                <a:chExt cx="1536480" cy="14349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03400" y="3161160"/>
                  <a:ext cx="371520" cy="351720"/>
                </a:xfrm>
                <a:custGeom>
                  <a:avLst/>
                  <a:gdLst/>
                  <a:ahLst/>
                  <a:rect l="l" t="t" r="r" b="b"/>
                  <a:pathLst>
                    <a:path w="205" h="184">
                      <a:moveTo>
                        <a:pt x="0" y="0"/>
                      </a:moveTo>
                      <a:lnTo>
                        <a:pt x="21" y="37"/>
                      </a:lnTo>
                      <a:lnTo>
                        <a:pt x="42" y="65"/>
                      </a:lnTo>
                      <a:lnTo>
                        <a:pt x="64" y="91"/>
                      </a:lnTo>
                      <a:lnTo>
                        <a:pt x="98" y="122"/>
                      </a:lnTo>
                      <a:lnTo>
                        <a:pt x="124" y="141"/>
                      </a:lnTo>
                      <a:lnTo>
                        <a:pt x="157" y="160"/>
                      </a:lnTo>
                      <a:lnTo>
                        <a:pt x="204" y="183"/>
                      </a:lnTo>
                      <a:lnTo>
                        <a:pt x="151" y="116"/>
                      </a:lnTo>
                      <a:lnTo>
                        <a:pt x="121" y="100"/>
                      </a:lnTo>
                      <a:lnTo>
                        <a:pt x="99" y="86"/>
                      </a:lnTo>
                      <a:lnTo>
                        <a:pt x="68" y="67"/>
                      </a:lnTo>
                      <a:lnTo>
                        <a:pt x="44" y="45"/>
                      </a:lnTo>
                      <a:lnTo>
                        <a:pt x="25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121000" y="2483640"/>
                  <a:ext cx="131760" cy="702360"/>
                </a:xfrm>
                <a:custGeom>
                  <a:avLst/>
                  <a:gdLst/>
                  <a:ahLst/>
                  <a:rect l="l" t="t" r="r" b="b"/>
                  <a:pathLst>
                    <a:path w="73" h="367">
                      <a:moveTo>
                        <a:pt x="13" y="0"/>
                      </a:moveTo>
                      <a:lnTo>
                        <a:pt x="27" y="25"/>
                      </a:lnTo>
                      <a:lnTo>
                        <a:pt x="36" y="47"/>
                      </a:lnTo>
                      <a:lnTo>
                        <a:pt x="46" y="69"/>
                      </a:lnTo>
                      <a:lnTo>
                        <a:pt x="53" y="90"/>
                      </a:lnTo>
                      <a:lnTo>
                        <a:pt x="59" y="110"/>
                      </a:lnTo>
                      <a:lnTo>
                        <a:pt x="69" y="146"/>
                      </a:lnTo>
                      <a:lnTo>
                        <a:pt x="72" y="181"/>
                      </a:lnTo>
                      <a:lnTo>
                        <a:pt x="70" y="234"/>
                      </a:lnTo>
                      <a:lnTo>
                        <a:pt x="65" y="270"/>
                      </a:lnTo>
                      <a:lnTo>
                        <a:pt x="57" y="300"/>
                      </a:lnTo>
                      <a:lnTo>
                        <a:pt x="45" y="330"/>
                      </a:lnTo>
                      <a:lnTo>
                        <a:pt x="29" y="366"/>
                      </a:lnTo>
                      <a:lnTo>
                        <a:pt x="0" y="297"/>
                      </a:lnTo>
                      <a:lnTo>
                        <a:pt x="13" y="267"/>
                      </a:lnTo>
                      <a:lnTo>
                        <a:pt x="20" y="251"/>
                      </a:lnTo>
                      <a:lnTo>
                        <a:pt x="27" y="230"/>
                      </a:lnTo>
                      <a:lnTo>
                        <a:pt x="32" y="208"/>
                      </a:lnTo>
                      <a:lnTo>
                        <a:pt x="36" y="176"/>
                      </a:lnTo>
                      <a:lnTo>
                        <a:pt x="38" y="148"/>
                      </a:lnTo>
                      <a:lnTo>
                        <a:pt x="38" y="108"/>
                      </a:lnTo>
                      <a:lnTo>
                        <a:pt x="32" y="71"/>
                      </a:lnTo>
                      <a:lnTo>
                        <a:pt x="25" y="40"/>
                      </a:lnTo>
                      <a:lnTo>
                        <a:pt x="2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413960" y="2077920"/>
                  <a:ext cx="531000" cy="204840"/>
                </a:xfrm>
                <a:custGeom>
                  <a:avLst/>
                  <a:gdLst/>
                  <a:ahLst/>
                  <a:rect l="l" t="t" r="r" b="b"/>
                  <a:pathLst>
                    <a:path w="293" h="107">
                      <a:moveTo>
                        <a:pt x="0" y="0"/>
                      </a:moveTo>
                      <a:lnTo>
                        <a:pt x="23" y="39"/>
                      </a:lnTo>
                      <a:lnTo>
                        <a:pt x="57" y="37"/>
                      </a:lnTo>
                      <a:lnTo>
                        <a:pt x="88" y="39"/>
                      </a:lnTo>
                      <a:lnTo>
                        <a:pt x="118" y="42"/>
                      </a:lnTo>
                      <a:lnTo>
                        <a:pt x="145" y="47"/>
                      </a:lnTo>
                      <a:lnTo>
                        <a:pt x="172" y="53"/>
                      </a:lnTo>
                      <a:lnTo>
                        <a:pt x="190" y="59"/>
                      </a:lnTo>
                      <a:lnTo>
                        <a:pt x="215" y="68"/>
                      </a:lnTo>
                      <a:lnTo>
                        <a:pt x="243" y="80"/>
                      </a:lnTo>
                      <a:lnTo>
                        <a:pt x="292" y="106"/>
                      </a:lnTo>
                      <a:lnTo>
                        <a:pt x="264" y="79"/>
                      </a:lnTo>
                      <a:lnTo>
                        <a:pt x="243" y="66"/>
                      </a:lnTo>
                      <a:lnTo>
                        <a:pt x="217" y="50"/>
                      </a:lnTo>
                      <a:lnTo>
                        <a:pt x="201" y="41"/>
                      </a:lnTo>
                      <a:lnTo>
                        <a:pt x="164" y="26"/>
                      </a:lnTo>
                      <a:lnTo>
                        <a:pt x="141" y="18"/>
                      </a:lnTo>
                      <a:lnTo>
                        <a:pt x="121" y="12"/>
                      </a:lnTo>
                      <a:lnTo>
                        <a:pt x="103" y="8"/>
                      </a:lnTo>
                      <a:lnTo>
                        <a:pt x="75" y="4"/>
                      </a:lnTo>
                      <a:lnTo>
                        <a:pt x="46" y="1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716280" y="2376360"/>
                  <a:ext cx="166680" cy="497160"/>
                </a:xfrm>
                <a:custGeom>
                  <a:avLst/>
                  <a:gdLst/>
                  <a:ahLst/>
                  <a:rect l="l" t="t" r="r" b="b"/>
                  <a:pathLst>
                    <a:path w="92" h="260">
                      <a:moveTo>
                        <a:pt x="0" y="199"/>
                      </a:moveTo>
                      <a:lnTo>
                        <a:pt x="2" y="178"/>
                      </a:lnTo>
                      <a:lnTo>
                        <a:pt x="4" y="156"/>
                      </a:lnTo>
                      <a:lnTo>
                        <a:pt x="10" y="121"/>
                      </a:lnTo>
                      <a:lnTo>
                        <a:pt x="17" y="93"/>
                      </a:lnTo>
                      <a:lnTo>
                        <a:pt x="27" y="68"/>
                      </a:lnTo>
                      <a:lnTo>
                        <a:pt x="39" y="41"/>
                      </a:lnTo>
                      <a:lnTo>
                        <a:pt x="50" y="22"/>
                      </a:lnTo>
                      <a:lnTo>
                        <a:pt x="64" y="0"/>
                      </a:lnTo>
                      <a:lnTo>
                        <a:pt x="91" y="34"/>
                      </a:lnTo>
                      <a:lnTo>
                        <a:pt x="75" y="53"/>
                      </a:lnTo>
                      <a:lnTo>
                        <a:pt x="64" y="71"/>
                      </a:lnTo>
                      <a:lnTo>
                        <a:pt x="55" y="88"/>
                      </a:lnTo>
                      <a:lnTo>
                        <a:pt x="42" y="112"/>
                      </a:lnTo>
                      <a:lnTo>
                        <a:pt x="34" y="132"/>
                      </a:lnTo>
                      <a:lnTo>
                        <a:pt x="29" y="153"/>
                      </a:lnTo>
                      <a:lnTo>
                        <a:pt x="23" y="173"/>
                      </a:lnTo>
                      <a:lnTo>
                        <a:pt x="18" y="195"/>
                      </a:lnTo>
                      <a:lnTo>
                        <a:pt x="15" y="222"/>
                      </a:lnTo>
                      <a:lnTo>
                        <a:pt x="12" y="248"/>
                      </a:lnTo>
                      <a:lnTo>
                        <a:pt x="7" y="259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3745800" y="2158200"/>
              <a:ext cx="1500840" cy="141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3686040" y="2039760"/>
              <a:ext cx="1498680" cy="1416600"/>
              <a:chOff x="3686040" y="2039760"/>
              <a:chExt cx="1498680" cy="1416600"/>
            </a:xfrm>
          </p:grpSpPr>
          <p:sp>
            <p:nvSpPr>
              <p:cNvPr id="99" name=""/>
              <p:cNvSpPr/>
              <p:nvPr/>
            </p:nvSpPr>
            <p:spPr>
              <a:xfrm>
                <a:off x="3715200" y="2073960"/>
                <a:ext cx="1438920" cy="1351440"/>
              </a:xfrm>
              <a:prstGeom prst="ellipse">
                <a:avLst/>
              </a:prstGeom>
              <a:noFill/>
              <a:ln w="7632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686040" y="2039760"/>
                <a:ext cx="1498680" cy="14166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24200" y="2077920"/>
                <a:ext cx="1420560" cy="1346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 flipV="1">
            <a:off x="4343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743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95680" y="2743200"/>
            <a:ext cx="0" cy="25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29718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038480" y="2286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769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010480" y="3080520"/>
            <a:ext cx="1049040" cy="649800"/>
            <a:chOff x="5010480" y="3080520"/>
            <a:chExt cx="1049040" cy="649800"/>
          </a:xfrm>
        </p:grpSpPr>
        <p:sp>
          <p:nvSpPr>
            <p:cNvPr id="109" name=""/>
            <p:cNvSpPr/>
            <p:nvPr/>
          </p:nvSpPr>
          <p:spPr>
            <a:xfrm>
              <a:off x="5087520" y="3125520"/>
              <a:ext cx="863280" cy="555120"/>
            </a:xfrm>
            <a:custGeom>
              <a:avLst/>
              <a:gdLst/>
              <a:ahLst/>
              <a:rect l="l" t="t" r="r" b="b"/>
              <a:pathLst>
                <a:path w="544" h="350">
                  <a:moveTo>
                    <a:pt x="0" y="97"/>
                  </a:moveTo>
                  <a:lnTo>
                    <a:pt x="489" y="349"/>
                  </a:lnTo>
                  <a:lnTo>
                    <a:pt x="543" y="238"/>
                  </a:lnTo>
                  <a:lnTo>
                    <a:pt x="60" y="0"/>
                  </a:lnTo>
                  <a:lnTo>
                    <a:pt x="0" y="97"/>
                  </a:lnTo>
                </a:path>
              </a:pathLst>
            </a:cu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9440000">
              <a:off x="5048640" y="3115800"/>
              <a:ext cx="180720" cy="18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4" y="13619"/>
                  </a:moveTo>
                  <a:arcTo wR="10800" hR="10800" stAng="9892286" swAng="105540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4" y="13619"/>
                  </a:moveTo>
                  <a:arcTo wR="10800" hR="10800" stAng="9892286" swAng="10554012"/>
                </a:path>
              </a:pathLst>
            </a:custGeom>
            <a:solidFill>
              <a:srgbClr val="5f3f1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9440000">
              <a:off x="5064480" y="3127680"/>
              <a:ext cx="176760" cy="18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" y="12094"/>
                  </a:moveTo>
                  <a:arcTo wR="10800" hR="10800" stAng="10387096" swAng="10123609"/>
                  <a:lnTo>
                    <a:pt x="10800" y="10800"/>
                  </a:lnTo>
                  <a:close/>
                </a:path>
                <a:path fill="none" w="21600" h="21600">
                  <a:moveTo>
                    <a:pt x="78" y="12094"/>
                  </a:moveTo>
                  <a:arcTo wR="10800" hR="10800" stAng="10387096" swAng="10123609"/>
                </a:path>
              </a:pathLst>
            </a:cu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51160" y="3176280"/>
              <a:ext cx="145440" cy="16632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22" y="67"/>
                  </a:moveTo>
                  <a:lnTo>
                    <a:pt x="15" y="61"/>
                  </a:lnTo>
                  <a:lnTo>
                    <a:pt x="10" y="54"/>
                  </a:lnTo>
                  <a:lnTo>
                    <a:pt x="7" y="46"/>
                  </a:lnTo>
                  <a:lnTo>
                    <a:pt x="4" y="36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2" y="8"/>
                  </a:lnTo>
                  <a:lnTo>
                    <a:pt x="4" y="0"/>
                  </a:lnTo>
                  <a:lnTo>
                    <a:pt x="80" y="37"/>
                  </a:lnTo>
                  <a:lnTo>
                    <a:pt x="76" y="44"/>
                  </a:lnTo>
                  <a:lnTo>
                    <a:pt x="76" y="52"/>
                  </a:lnTo>
                  <a:lnTo>
                    <a:pt x="75" y="59"/>
                  </a:lnTo>
                  <a:lnTo>
                    <a:pt x="75" y="67"/>
                  </a:lnTo>
                  <a:lnTo>
                    <a:pt x="77" y="79"/>
                  </a:lnTo>
                  <a:lnTo>
                    <a:pt x="84" y="94"/>
                  </a:lnTo>
                  <a:lnTo>
                    <a:pt x="91" y="104"/>
                  </a:lnTo>
                  <a:lnTo>
                    <a:pt x="22" y="67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9440000">
              <a:off x="5045400" y="3118320"/>
              <a:ext cx="183240" cy="1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0" y="13640"/>
                  </a:moveTo>
                  <a:arcTo wR="10800" hR="10800" stAng="9885106" swAng="5060106"/>
                  <a:lnTo>
                    <a:pt x="10800" y="10800"/>
                  </a:lnTo>
                  <a:close/>
                </a:path>
                <a:path fill="none" w="21600" h="21600">
                  <a:moveTo>
                    <a:pt x="380" y="13640"/>
                  </a:moveTo>
                  <a:arcTo wR="10800" hR="10800" stAng="9885106" swAng="506010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9440000">
              <a:off x="5168880" y="3175200"/>
              <a:ext cx="182520" cy="1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13419"/>
                  </a:moveTo>
                  <a:arcTo wR="10800" hR="10800" stAng="9958075" swAng="1059438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13419"/>
                  </a:moveTo>
                  <a:arcTo wR="10800" hR="10800" stAng="9958075" swAng="10594381"/>
                </a:path>
              </a:pathLst>
            </a:custGeom>
            <a:solidFill>
              <a:srgbClr val="7f3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146200" y="3145680"/>
              <a:ext cx="272520" cy="262440"/>
              <a:chOff x="5146200" y="3145680"/>
              <a:chExt cx="272520" cy="2624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5146200" y="3145680"/>
                <a:ext cx="251640" cy="251640"/>
                <a:chOff x="5146200" y="3145680"/>
                <a:chExt cx="251640" cy="251640"/>
              </a:xfrm>
            </p:grpSpPr>
            <p:sp>
              <p:nvSpPr>
                <p:cNvPr id="117" name=""/>
                <p:cNvSpPr/>
                <p:nvPr/>
              </p:nvSpPr>
              <p:spPr>
                <a:xfrm rot="19440000">
                  <a:off x="5184360" y="3191040"/>
                  <a:ext cx="172080" cy="1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5" y="12994"/>
                      </a:moveTo>
                      <a:arcTo wR="10800" hR="10800" stAng="10096611" swAng="105831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5" y="12994"/>
                      </a:moveTo>
                      <a:arcTo wR="10800" hR="10800" stAng="10096611" swAng="10583169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19440000">
                  <a:off x="5187240" y="3192120"/>
                  <a:ext cx="170280" cy="166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4" y="13034"/>
                      </a:moveTo>
                      <a:arcTo wR="10800" hR="10800" stAng="10083597" swAng="43514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4" y="13034"/>
                      </a:moveTo>
                      <a:arcTo wR="10800" hR="10800" stAng="10083597" swAng="4351467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19440000">
                  <a:off x="5181840" y="3181320"/>
                  <a:ext cx="1800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0" y="13242"/>
                      </a:moveTo>
                      <a:arcTo wR="10800" hR="10800" stAng="10015841" swAng="106688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0" y="13242"/>
                      </a:moveTo>
                      <a:arcTo wR="10800" hR="10800" stAng="10015841" swAng="1066885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 rot="19440000">
                <a:off x="5204160" y="3192120"/>
                <a:ext cx="178560" cy="18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5" y="13222"/>
                    </a:moveTo>
                    <a:arcTo wR="10800" hR="10800" stAng="10022487" swAng="10653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5" y="13222"/>
                    </a:moveTo>
                    <a:arcTo wR="10800" hR="10800" stAng="10022487" swAng="10653848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183640" y="3164400"/>
              <a:ext cx="268200" cy="263160"/>
              <a:chOff x="5183640" y="3164400"/>
              <a:chExt cx="268200" cy="2631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183640" y="3164400"/>
                <a:ext cx="251280" cy="251640"/>
                <a:chOff x="5183640" y="3164400"/>
                <a:chExt cx="251280" cy="251640"/>
              </a:xfrm>
            </p:grpSpPr>
            <p:sp>
              <p:nvSpPr>
                <p:cNvPr id="123" name=""/>
                <p:cNvSpPr/>
                <p:nvPr/>
              </p:nvSpPr>
              <p:spPr>
                <a:xfrm rot="19440000">
                  <a:off x="5222160" y="3206880"/>
                  <a:ext cx="170640" cy="170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7" y="13185"/>
                      </a:moveTo>
                      <a:arcTo wR="10800" hR="10800" stAng="10034548" swAng="106613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7" y="13185"/>
                      </a:moveTo>
                      <a:arcTo wR="10800" hR="10800" stAng="10034548" swAng="10661343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9440000">
                  <a:off x="5221080" y="3207240"/>
                  <a:ext cx="173160" cy="170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1" y="12975"/>
                      </a:moveTo>
                      <a:arcTo wR="10800" hR="10800" stAng="10102947" swAng="43490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1" y="12975"/>
                      </a:moveTo>
                      <a:arcTo wR="10800" hR="10800" stAng="10102947" swAng="4349095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9440000">
                  <a:off x="5219280" y="3200040"/>
                  <a:ext cx="180000" cy="18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6" y="13044"/>
                      </a:moveTo>
                      <a:arcTo wR="10800" hR="10800" stAng="10080441" swAng="106118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6" y="13044"/>
                      </a:moveTo>
                      <a:arcTo wR="10800" hR="10800" stAng="10080441" swAng="106118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 rot="19440000">
                <a:off x="5237640" y="3214080"/>
                <a:ext cx="17892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0" y="13063"/>
                    </a:moveTo>
                    <a:arcTo wR="10800" hR="10800" stAng="10074315" swAng="105354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0" y="13063"/>
                    </a:moveTo>
                    <a:arcTo wR="10800" hR="10800" stAng="10074315" swAng="10535424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221440" y="3191040"/>
              <a:ext cx="241560" cy="240840"/>
              <a:chOff x="5221440" y="3191040"/>
              <a:chExt cx="241560" cy="240840"/>
            </a:xfrm>
          </p:grpSpPr>
          <p:sp>
            <p:nvSpPr>
              <p:cNvPr id="128" name=""/>
              <p:cNvSpPr/>
              <p:nvPr/>
            </p:nvSpPr>
            <p:spPr>
              <a:xfrm rot="19440000">
                <a:off x="5254560" y="3226320"/>
                <a:ext cx="174960" cy="17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1" y="12975"/>
                    </a:moveTo>
                    <a:arcTo wR="10800" hR="10800" stAng="10103059" swAng="106479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1" y="12975"/>
                    </a:moveTo>
                    <a:arcTo wR="10800" hR="10800" stAng="10103059" swAng="10647986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40000">
                <a:off x="5256000" y="3226680"/>
                <a:ext cx="173160" cy="16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5" y="12994"/>
                    </a:moveTo>
                    <a:arcTo wR="10800" hR="10800" stAng="10096728" swAng="4368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5" y="12994"/>
                    </a:moveTo>
                    <a:arcTo wR="10800" hR="10800" stAng="10096728" swAng="4368632"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217480" y="3182040"/>
              <a:ext cx="266760" cy="258840"/>
              <a:chOff x="5217480" y="3182040"/>
              <a:chExt cx="266760" cy="258840"/>
            </a:xfrm>
          </p:grpSpPr>
          <p:sp>
            <p:nvSpPr>
              <p:cNvPr id="131" name=""/>
              <p:cNvSpPr/>
              <p:nvPr/>
            </p:nvSpPr>
            <p:spPr>
              <a:xfrm rot="19440000">
                <a:off x="5253120" y="3218040"/>
                <a:ext cx="18108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" y="12864"/>
                    </a:moveTo>
                    <a:arcTo wR="10800" hR="10800" stAng="10139023" swAng="106563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" y="12864"/>
                    </a:moveTo>
                    <a:arcTo wR="10800" hR="10800" stAng="10139023" swAng="1065631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9440000">
                <a:off x="5268960" y="3230280"/>
                <a:ext cx="18108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" y="12917"/>
                    </a:moveTo>
                    <a:arcTo wR="10800" hR="10800" stAng="10121613" swAng="106527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" y="12917"/>
                    </a:moveTo>
                    <a:arcTo wR="10800" hR="10800" stAng="10121613" swAng="10652793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087520" y="3125520"/>
              <a:ext cx="867600" cy="558000"/>
              <a:chOff x="5087520" y="3125520"/>
              <a:chExt cx="867600" cy="558000"/>
            </a:xfrm>
          </p:grpSpPr>
          <p:sp>
            <p:nvSpPr>
              <p:cNvPr id="134" name=""/>
              <p:cNvSpPr/>
              <p:nvPr/>
            </p:nvSpPr>
            <p:spPr>
              <a:xfrm>
                <a:off x="5187240" y="3125520"/>
                <a:ext cx="767880" cy="37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87520" y="3282120"/>
                <a:ext cx="788760" cy="40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251680" y="3198600"/>
              <a:ext cx="260640" cy="251280"/>
              <a:chOff x="5251680" y="3198600"/>
              <a:chExt cx="260640" cy="2512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5256360" y="3204000"/>
                <a:ext cx="241560" cy="244800"/>
                <a:chOff x="5256360" y="3204000"/>
                <a:chExt cx="241560" cy="244800"/>
              </a:xfrm>
            </p:grpSpPr>
            <p:sp>
              <p:nvSpPr>
                <p:cNvPr id="138" name=""/>
                <p:cNvSpPr/>
                <p:nvPr/>
              </p:nvSpPr>
              <p:spPr>
                <a:xfrm rot="19440000">
                  <a:off x="5289840" y="3243240"/>
                  <a:ext cx="174600" cy="170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7" y="12802"/>
                      </a:moveTo>
                      <a:arcTo wR="10800" hR="10800" stAng="10159120" swAng="106617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7" y="12802"/>
                      </a:moveTo>
                      <a:arcTo wR="10800" hR="10800" stAng="10159120" swAng="10661730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9440000">
                  <a:off x="5289480" y="3238920"/>
                  <a:ext cx="173880" cy="169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4" y="12784"/>
                      </a:moveTo>
                      <a:arcTo wR="10800" hR="10800" stAng="10164814" swAng="42872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4" y="12784"/>
                      </a:moveTo>
                      <a:arcTo wR="10800" hR="10800" stAng="10164814" swAng="4287228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rot="19440000">
                <a:off x="5286240" y="3234600"/>
                <a:ext cx="181440" cy="177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" y="12698"/>
                    </a:moveTo>
                    <a:arcTo wR="10800" hR="10800" stAng="10192612" swAng="105359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" y="12698"/>
                    </a:moveTo>
                    <a:arcTo wR="10800" hR="10800" stAng="10192612" swAng="1053599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440000">
                <a:off x="5304240" y="3246480"/>
                <a:ext cx="175320" cy="16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1" y="13206"/>
                    </a:moveTo>
                    <a:arcTo wR="10800" hR="10800" stAng="10027820" swAng="106444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1" y="13206"/>
                    </a:moveTo>
                    <a:arcTo wR="10800" hR="10800" stAng="10027820" swAng="10644458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297040" y="3300120"/>
              <a:ext cx="585360" cy="372600"/>
            </a:xfrm>
            <a:custGeom>
              <a:avLst/>
              <a:gdLst/>
              <a:ahLst/>
              <a:rect l="l" t="t" r="r" b="b"/>
              <a:pathLst>
                <a:path w="369" h="235">
                  <a:moveTo>
                    <a:pt x="7" y="0"/>
                  </a:moveTo>
                  <a:lnTo>
                    <a:pt x="2" y="9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2" y="32"/>
                  </a:lnTo>
                  <a:lnTo>
                    <a:pt x="3" y="40"/>
                  </a:lnTo>
                  <a:lnTo>
                    <a:pt x="6" y="47"/>
                  </a:lnTo>
                  <a:lnTo>
                    <a:pt x="10" y="54"/>
                  </a:lnTo>
                  <a:lnTo>
                    <a:pt x="17" y="63"/>
                  </a:lnTo>
                  <a:lnTo>
                    <a:pt x="348" y="234"/>
                  </a:lnTo>
                  <a:lnTo>
                    <a:pt x="368" y="173"/>
                  </a:lnTo>
                  <a:lnTo>
                    <a:pt x="7" y="0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440000">
              <a:off x="5836680" y="3506040"/>
              <a:ext cx="185400" cy="187200"/>
            </a:xfrm>
            <a:prstGeom prst="ellipse">
              <a:avLst/>
            </a:prstGeom>
            <a:solidFill>
              <a:srgbClr val="7f5f3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irtual Synchrony</a:t>
            </a:r>
            <a:br>
              <a:rPr sz="44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[</a:t>
            </a: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Birman, Joseph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87]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members all see events in same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: messages, process crash/jo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ful abstraction for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 for fault tolerance, high avail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component: 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group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s changes in set of group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8:50:00Z</dcterms:created>
  <dc:creator>Idit Keidar</dc:creator>
  <dc:description/>
  <dc:language>en-US</dc:language>
  <cp:lastModifiedBy>idish</cp:lastModifiedBy>
  <cp:lastPrinted>2000-07-10T20:12:10Z</cp:lastPrinted>
  <dcterms:modified xsi:type="dcterms:W3CDTF">2000-10-31T15:44:19Z</dcterms:modified>
  <cp:revision>582</cp:revision>
  <dc:subject/>
  <dc:title>Moshe: A group membership service for WANs</dc:title>
</cp:coreProperties>
</file>