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48B-3BF8-4E89-9C58-B749C4CB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360" y="4150440"/>
            <a:ext cx="7848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AE8-809E-42EF-BF3B-E49F964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1920" y="198108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360" y="415044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1920" y="415044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29E-505A-40BC-ACB9-22C9F5D9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5268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3920" y="1981080"/>
            <a:ext cx="25268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7480" y="1981080"/>
            <a:ext cx="25268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360" y="4150440"/>
            <a:ext cx="25268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3920" y="4150440"/>
            <a:ext cx="25268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7480" y="4150440"/>
            <a:ext cx="25268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3B5-F342-46F4-9C5E-CF04D696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540-8021-4EA8-B49C-21329451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973-6F37-49D7-91E9-C91DA7E0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29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1920" y="1981080"/>
            <a:ext cx="3829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4B9-322E-4116-BD65-F616602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D32-040B-445F-AD76-30E93527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571680"/>
            <a:ext cx="7848360" cy="54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A41-697F-4501-9E23-699DA195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1920" y="1981080"/>
            <a:ext cx="3829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360" y="415044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983-8082-42CF-B8C5-E703A73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296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1920" y="198108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1920" y="415044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1E5-D51F-4970-9278-67C9934A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1920" y="1981080"/>
            <a:ext cx="382968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4150440"/>
            <a:ext cx="7848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F27-BD28-4D66-B90A-EA43289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F6B454-4F78-494D-BB58-67BE8709F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09480" cy="6834240"/>
            <a:chOff x="228600" y="0"/>
            <a:chExt cx="609480" cy="6834240"/>
          </a:xfrm>
        </p:grpSpPr>
        <p:sp>
          <p:nvSpPr>
            <p:cNvPr id="6" name=""/>
            <p:cNvSpPr/>
            <p:nvPr/>
          </p:nvSpPr>
          <p:spPr>
            <a:xfrm>
              <a:off x="228600" y="0"/>
              <a:ext cx="608400" cy="68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0"/>
              <a:ext cx="609480" cy="6834240"/>
            </a:xfrm>
            <a:custGeom>
              <a:avLst/>
              <a:gdLst/>
              <a:ahLst/>
              <a:rect l="l" t="t" r="r" b="b"/>
              <a:pathLst>
                <a:path w="491" h="4305">
                  <a:moveTo>
                    <a:pt x="0" y="0"/>
                  </a:moveTo>
                  <a:lnTo>
                    <a:pt x="0" y="4304"/>
                  </a:lnTo>
                  <a:lnTo>
                    <a:pt x="163" y="4304"/>
                  </a:lnTo>
                  <a:lnTo>
                    <a:pt x="163" y="0"/>
                  </a:lnTo>
                  <a:lnTo>
                    <a:pt x="327" y="0"/>
                  </a:lnTo>
                  <a:lnTo>
                    <a:pt x="327" y="4304"/>
                  </a:lnTo>
                  <a:lnTo>
                    <a:pt x="490" y="4304"/>
                  </a:lnTo>
                  <a:lnTo>
                    <a:pt x="490" y="0"/>
                  </a:lnTo>
                  <a:lnTo>
                    <a:pt x="490" y="148"/>
                  </a:lnTo>
                  <a:lnTo>
                    <a:pt x="0" y="148"/>
                  </a:lnTo>
                  <a:lnTo>
                    <a:pt x="0" y="297"/>
                  </a:lnTo>
                  <a:lnTo>
                    <a:pt x="490" y="297"/>
                  </a:lnTo>
                  <a:lnTo>
                    <a:pt x="490" y="445"/>
                  </a:lnTo>
                  <a:lnTo>
                    <a:pt x="0" y="445"/>
                  </a:lnTo>
                  <a:lnTo>
                    <a:pt x="0" y="594"/>
                  </a:lnTo>
                  <a:lnTo>
                    <a:pt x="490" y="594"/>
                  </a:lnTo>
                  <a:lnTo>
                    <a:pt x="490" y="742"/>
                  </a:lnTo>
                  <a:lnTo>
                    <a:pt x="0" y="742"/>
                  </a:lnTo>
                  <a:lnTo>
                    <a:pt x="0" y="890"/>
                  </a:lnTo>
                  <a:lnTo>
                    <a:pt x="490" y="890"/>
                  </a:lnTo>
                  <a:lnTo>
                    <a:pt x="490" y="1039"/>
                  </a:lnTo>
                  <a:lnTo>
                    <a:pt x="0" y="1039"/>
                  </a:lnTo>
                  <a:lnTo>
                    <a:pt x="0" y="1187"/>
                  </a:lnTo>
                  <a:lnTo>
                    <a:pt x="490" y="1187"/>
                  </a:lnTo>
                  <a:lnTo>
                    <a:pt x="490" y="1336"/>
                  </a:lnTo>
                  <a:lnTo>
                    <a:pt x="0" y="1336"/>
                  </a:lnTo>
                  <a:lnTo>
                    <a:pt x="0" y="1484"/>
                  </a:lnTo>
                  <a:lnTo>
                    <a:pt x="490" y="1484"/>
                  </a:lnTo>
                  <a:lnTo>
                    <a:pt x="490" y="1633"/>
                  </a:lnTo>
                  <a:lnTo>
                    <a:pt x="0" y="1633"/>
                  </a:lnTo>
                  <a:lnTo>
                    <a:pt x="0" y="1781"/>
                  </a:lnTo>
                  <a:lnTo>
                    <a:pt x="490" y="1781"/>
                  </a:lnTo>
                  <a:lnTo>
                    <a:pt x="490" y="1929"/>
                  </a:lnTo>
                  <a:lnTo>
                    <a:pt x="0" y="1929"/>
                  </a:lnTo>
                  <a:lnTo>
                    <a:pt x="0" y="2078"/>
                  </a:lnTo>
                  <a:lnTo>
                    <a:pt x="490" y="2078"/>
                  </a:lnTo>
                  <a:lnTo>
                    <a:pt x="490" y="2226"/>
                  </a:lnTo>
                  <a:lnTo>
                    <a:pt x="0" y="2226"/>
                  </a:lnTo>
                  <a:lnTo>
                    <a:pt x="0" y="2375"/>
                  </a:lnTo>
                  <a:lnTo>
                    <a:pt x="490" y="2375"/>
                  </a:lnTo>
                  <a:lnTo>
                    <a:pt x="490" y="2523"/>
                  </a:lnTo>
                  <a:lnTo>
                    <a:pt x="0" y="2523"/>
                  </a:lnTo>
                  <a:lnTo>
                    <a:pt x="0" y="2671"/>
                  </a:lnTo>
                  <a:lnTo>
                    <a:pt x="490" y="2671"/>
                  </a:lnTo>
                  <a:lnTo>
                    <a:pt x="490" y="2820"/>
                  </a:lnTo>
                  <a:lnTo>
                    <a:pt x="0" y="2820"/>
                  </a:lnTo>
                  <a:lnTo>
                    <a:pt x="0" y="2968"/>
                  </a:lnTo>
                  <a:lnTo>
                    <a:pt x="490" y="2968"/>
                  </a:lnTo>
                  <a:lnTo>
                    <a:pt x="490" y="3117"/>
                  </a:lnTo>
                  <a:lnTo>
                    <a:pt x="0" y="3117"/>
                  </a:lnTo>
                  <a:lnTo>
                    <a:pt x="0" y="3265"/>
                  </a:lnTo>
                  <a:lnTo>
                    <a:pt x="490" y="3265"/>
                  </a:lnTo>
                  <a:lnTo>
                    <a:pt x="490" y="3414"/>
                  </a:lnTo>
                  <a:lnTo>
                    <a:pt x="0" y="3414"/>
                  </a:lnTo>
                  <a:lnTo>
                    <a:pt x="0" y="3562"/>
                  </a:lnTo>
                  <a:lnTo>
                    <a:pt x="490" y="3562"/>
                  </a:lnTo>
                  <a:lnTo>
                    <a:pt x="490" y="3710"/>
                  </a:lnTo>
                  <a:lnTo>
                    <a:pt x="0" y="3710"/>
                  </a:lnTo>
                  <a:lnTo>
                    <a:pt x="0" y="3859"/>
                  </a:lnTo>
                  <a:lnTo>
                    <a:pt x="490" y="3859"/>
                  </a:lnTo>
                  <a:lnTo>
                    <a:pt x="490" y="4007"/>
                  </a:lnTo>
                  <a:lnTo>
                    <a:pt x="0" y="4007"/>
                  </a:lnTo>
                  <a:lnTo>
                    <a:pt x="0" y="4156"/>
                  </a:lnTo>
                  <a:lnTo>
                    <a:pt x="490" y="4156"/>
                  </a:lnTo>
                  <a:lnTo>
                    <a:pt x="490" y="4304"/>
                  </a:lnTo>
                  <a:lnTo>
                    <a:pt x="0" y="4304"/>
                  </a:lnTo>
                  <a:lnTo>
                    <a:pt x="0" y="4304"/>
                  </a:lnTo>
                  <a:lnTo>
                    <a:pt x="490" y="4304"/>
                  </a:lnTo>
                  <a:lnTo>
                    <a:pt x="49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ilability Study of Dynamic Voting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yle Ingols and Idit Kei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T Lab for Computer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EE6-7D59-4DB7-931D-85EA003DD0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tu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ilures, only part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probability to being faulty as det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tage to 2-phase com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frequent connectivity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ject fault with fixed probability in each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stable period - see if primary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DA8-6CBA-4B82-BA28-AC04D5FD5F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s differ greatly in avail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in their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degrada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changes become more freq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phase commit suffers due to single point of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phase commit suffers because it’s more likely to be interru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KD - no degradation in lengthy exec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A26-3736-4C6D-804C-55AACE503C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any kind may fail to consider important cas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less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number of processes needed for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up recovery by pipelining / parallelizing multiple 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B20-B352-4B26-84DE-838561718067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ry Compon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fault-tolerance with part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can partition to several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component is pri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members of primary component can modify shar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rimary contains majority (quoru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E9C-1917-48BE-A4A5-940522AADD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ynamic Voting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 quorums adaptiv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rimary component contains majority of previous 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{1, 2, 3, 4, 5, 6, 7, 8, 9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{1, 2, 3, 4, 5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{2, 3, 4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{3, 4,    6,             10, 11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EE8-00E2-4BAB-8D1B-76702C9FCB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ynamic Voting Benef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univer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rocesses can join at any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es that leave likely to not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avail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ed failures may reduce chance of connected maj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34D-EFA0-44F7-ABD5-474791474E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ious Availability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hastic analysis, stochastic Petri nets, simulations, empirical measurements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static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 dynamic voting leads to primary component being formed most of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C31-4428-479B-92E0-B27D733B8A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ious Studies Overlooked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2971800"/>
            <a:ext cx="7542360" cy="1295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to new primary cannot be atomic in a distributed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980-22AA-4262-AF84-22CE35011E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, all connected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{1, 2, 3, 4, 5}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 2 suspect 4, 5, move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{1, 2, 3}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do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ve with them, det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 2 suspect 3, move to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{1, 2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same time, 3, 4, 5 move to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{3, 4, 5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wo primari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034-1EDE-4471-8EFC-CF0133FBA7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f failure Occurs in the Middle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uggested algorithms are 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example on previous 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algorithms differ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How fast they rec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How many processes need to reconnect to allow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 studies overlooked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871-E9DF-4DDA-9BED-4388BDEB81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571680"/>
            <a:ext cx="7848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(Correct)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P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2-phase-com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point of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-Resilient 1-Pending (MR1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3-phase-com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very takes 2 communication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, algorithm for new primary takes 2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KD - pipeline recovery and new algorith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83F-4336-41F5-8215-F7AD30A129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>Idit Keidar</dc:creator>
  <dc:description/>
  <dc:language>en-US</dc:language>
  <cp:lastModifiedBy>KEIDAR-MX</cp:lastModifiedBy>
  <cp:lastPrinted>2000-05-12T23:09:19Z</cp:lastPrinted>
  <dcterms:modified xsi:type="dcterms:W3CDTF">2001-04-18T16:01:28Z</dcterms:modified>
  <cp:revision>1372</cp:revision>
  <dc:subject/>
  <dc:title>Paradigms for distributed systems: GCS and QoS preserving totally ordered multicast</dc:title>
</cp:coreProperties>
</file>