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22364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B06497-C509-4D60-A074-41208928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quence of externally observable actions  is called a tr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ecifications are widely used to specify data abstractions, concurrent systems, distributed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low to specify “safety properties”, properties that state that nothing bad ever happe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pecifications need to be complimented with specifications of “liveness properties” which state that something good eventually happe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is specified by all the traces of the specification state machine that satisfy the liveness proper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095-9031-4136-B752-9411252A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418932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C84-489D-4338-8B66-36E4827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147-E383-4DC6-9B96-B4DB593E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68C-4B40-457F-A7CD-ABA9DD01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348A-EF9C-4B3B-B34A-5F6EADD6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898D-7574-45B5-82E0-E9C2A07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5F53-4F9D-4D7A-83AC-11EC455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9BA5-1BF6-41CF-9182-FD1DCE4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D9A8-7EC4-4DBF-88F6-56E1FC6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F8C-6738-4EDB-8271-D5FB6E7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A4F4-E5D8-4291-9C0F-4D10B48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E95-A4E8-4338-B901-9DA4752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1AC-66D4-4D22-8F61-DDE32A1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BE5-FA5E-4522-8D6B-A22C836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418932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68F-934F-4E23-9E05-2F291B9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841-06D9-4BD4-BD77-B6C71613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418932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832-4E43-4A41-B455-92D7BA8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96D-501E-4C9D-84EB-552325A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6BC-0076-4ADA-8834-3C6BD99A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17A-2067-4233-8371-F50E02B3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2A7-2D3D-4CC1-AF8E-8C5DAC0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C5E-B526-454E-9A91-434DBCF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418932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B46-4DD7-4210-9394-FA51A13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18932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1FA-B6F6-49C2-9CA0-3E63921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845784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FBB-950B-40CC-B8CE-9A63FC1E1FD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61E-B325-40BD-B8E0-75EF03B66A49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 Inheritance-Based Technique for Building Simulation Proofs Incrementall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99840" y="3962520"/>
            <a:ext cx="6451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it Keidar, Roger  Khazan, Nancy Lynch, Alex Shvarts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 Lab for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of Distributed System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F25-1A5D-4517-88A6-CDCBFDDC6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pecifying </a:t>
            </a: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d Modeling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ystem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tate machi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Lampson; Schneider ’9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med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n which states each action is enabled and how it modifie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ons ar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ternally 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is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rnally 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cution: “state, action, state, action, 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ehavior: all possible sequences of externally observable ac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4DB-8CC3-4BE2-AB01-85C3F5834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 -- Monotonic Seque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0720" y="1447560"/>
            <a:ext cx="632484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p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ger last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, init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ff: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:=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029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ple Tra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, 3, 4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10, -5, 1, 2, 3, 5, 8, 13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7AF-E3F2-41B5-AEBA-EE9C0C6029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at “Implements” Mean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ification 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trace of A is a trace of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048120"/>
            <a:ext cx="6705360" cy="6858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mplements”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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“trace inclus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is indistinguishable from S by looking only at A’s tr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7E2-8FFA-4236-AA27-A67550932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 -- Fib Seque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15200" cy="380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b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ger n=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m=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 == n +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ff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 :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 :=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e: 1, 2, 3, 5, 8, 13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lso trace of monotonic sequenc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pS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D49-FF26-4290-B202-3723444B5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ving that A Implements 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mapping / abstraction function  F : {the states of A}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the states of S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66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maps initial states of A to initial stat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66"/>
              </a:buClr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action of A and for every state 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t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’) is a step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sequence of actions of S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in F(t), ends in F(t’)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same trace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ce I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ADE-0EF3-4C75-8052-29D82BA50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838080" y="380880"/>
            <a:ext cx="8001000" cy="4559040"/>
            <a:chOff x="838080" y="380880"/>
            <a:chExt cx="8001000" cy="4559040"/>
          </a:xfrm>
        </p:grpSpPr>
        <p:grpSp>
          <p:nvGrpSpPr>
            <p:cNvPr id="169" name=""/>
            <p:cNvGrpSpPr/>
            <p:nvPr/>
          </p:nvGrpSpPr>
          <p:grpSpPr>
            <a:xfrm>
              <a:off x="1829520" y="1217520"/>
              <a:ext cx="6204600" cy="3722400"/>
              <a:chOff x="1829520" y="1217520"/>
              <a:chExt cx="6204600" cy="3722400"/>
            </a:xfrm>
          </p:grpSpPr>
          <p:sp>
            <p:nvSpPr>
              <p:cNvPr id="170" name=""/>
              <p:cNvSpPr/>
              <p:nvPr/>
            </p:nvSpPr>
            <p:spPr>
              <a:xfrm>
                <a:off x="3610440" y="1447560"/>
                <a:ext cx="897480" cy="9586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(t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72560" y="1447560"/>
                <a:ext cx="961560" cy="9586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(t’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36080" y="1511640"/>
                <a:ext cx="2372040" cy="830880"/>
              </a:xfrm>
              <a:prstGeom prst="rightArrow">
                <a:avLst>
                  <a:gd name="adj1" fmla="val 50000"/>
                  <a:gd name="adj2" fmla="val 71371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ction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38600" y="2470680"/>
                <a:ext cx="641160" cy="1086480"/>
              </a:xfrm>
              <a:prstGeom prst="upArrow">
                <a:avLst>
                  <a:gd name="adj1" fmla="val 50000"/>
                  <a:gd name="adj2" fmla="val 42364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65160" y="2470680"/>
                <a:ext cx="640800" cy="1086480"/>
              </a:xfrm>
              <a:prstGeom prst="upArrow">
                <a:avLst>
                  <a:gd name="adj1" fmla="val 50000"/>
                  <a:gd name="adj2" fmla="val 42388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10440" y="3749040"/>
                <a:ext cx="897480" cy="958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72560" y="3685320"/>
                <a:ext cx="961560" cy="958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t’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36080" y="3749040"/>
                <a:ext cx="2372040" cy="830880"/>
              </a:xfrm>
              <a:prstGeom prst="rightArrow">
                <a:avLst>
                  <a:gd name="adj1" fmla="val 50000"/>
                  <a:gd name="adj2" fmla="val 7137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ction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57400" y="1217520"/>
                <a:ext cx="1269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Spec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S: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29520" y="3505320"/>
                <a:ext cx="18280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: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38080" y="3808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4876920"/>
            <a:ext cx="792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(S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olds whenever pre(A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A after eff(A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executed maps into state of S after eff(S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assuming pre-states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f A Simulates 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of S: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4DA-E132-4431-8246-58BBE2844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bSeq Implements UpSeq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3124080" cy="2133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Seq.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:=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1523880"/>
            <a:ext cx="2971800" cy="2133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bSeq.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==n+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:=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:=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920" y="1523160"/>
            <a:ext cx="2057400" cy="1143720"/>
            <a:chOff x="3733920" y="1523160"/>
            <a:chExt cx="2057400" cy="1143720"/>
          </a:xfrm>
        </p:grpSpPr>
        <p:sp>
          <p:nvSpPr>
            <p:cNvPr id="187" name=""/>
            <p:cNvSpPr/>
            <p:nvPr/>
          </p:nvSpPr>
          <p:spPr>
            <a:xfrm>
              <a:off x="3733920" y="1905120"/>
              <a:ext cx="2057400" cy="761760"/>
            </a:xfrm>
            <a:prstGeom prst="leftArrow">
              <a:avLst>
                <a:gd name="adj1" fmla="val 50000"/>
                <a:gd name="adj2" fmla="val 6752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last:=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640" y="152316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143000" y="4267800"/>
            <a:ext cx="7772400" cy="2043720"/>
            <a:chOff x="1143000" y="4267800"/>
            <a:chExt cx="7772400" cy="2043720"/>
          </a:xfrm>
        </p:grpSpPr>
        <p:sp>
          <p:nvSpPr>
            <p:cNvPr id="190" name=""/>
            <p:cNvSpPr/>
            <p:nvPr/>
          </p:nvSpPr>
          <p:spPr>
            <a:xfrm>
              <a:off x="4724280" y="5867280"/>
              <a:ext cx="30492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5867280"/>
              <a:ext cx="990360" cy="381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0080" y="4800600"/>
              <a:ext cx="3200400" cy="533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4800600"/>
              <a:ext cx="335268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4267800"/>
              <a:ext cx="7772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or simulation proof, need to show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(FibSeq.print(x))</a:t>
              </a:r>
              <a:r>
                <a:rPr b="1" lang="en-US" sz="3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(UpSeq.print(x)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(x=n+m)</a:t>
              </a:r>
              <a:r>
                <a:rPr b="1" lang="en-US" sz="3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(x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last=m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; relies on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 n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still equals  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in post-st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53D-AEC1-49A5-A228-32A0CF1B7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imulation Proofs -- Benefi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.g., Abadi and Lamport ‘9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inite trace inclusion can be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 about single steps, not about exec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able by humans and/or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1EA-535D-4C90-A034-62172DAAA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266256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The Challenge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use of Simulation Proo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C19-B121-44E9-8CAB-80B0302DD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ur </a:t>
            </a: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of Reuse Goa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05120" y="1523880"/>
            <a:ext cx="6095520" cy="2514600"/>
            <a:chOff x="1905120" y="1523880"/>
            <a:chExt cx="6095520" cy="2514600"/>
          </a:xfrm>
        </p:grpSpPr>
        <p:sp>
          <p:nvSpPr>
            <p:cNvPr id="200" name=""/>
            <p:cNvSpPr/>
            <p:nvPr/>
          </p:nvSpPr>
          <p:spPr>
            <a:xfrm>
              <a:off x="1905120" y="1523880"/>
              <a:ext cx="1880280" cy="83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5120" y="3200400"/>
              <a:ext cx="1880280" cy="83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20360" y="1523880"/>
              <a:ext cx="1880280" cy="838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3200400"/>
              <a:ext cx="1880280" cy="838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0560" y="1583640"/>
              <a:ext cx="2139840" cy="598680"/>
            </a:xfrm>
            <a:prstGeom prst="leftArrow">
              <a:avLst>
                <a:gd name="adj1" fmla="val 50000"/>
                <a:gd name="adj2" fmla="val 8935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mul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680" y="2421720"/>
              <a:ext cx="648000" cy="718200"/>
            </a:xfrm>
            <a:prstGeom prst="upArrow">
              <a:avLst>
                <a:gd name="adj1" fmla="val 50000"/>
                <a:gd name="adj2" fmla="val 27708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39120" y="2421720"/>
              <a:ext cx="648360" cy="718200"/>
            </a:xfrm>
            <a:prstGeom prst="upArrow">
              <a:avLst>
                <a:gd name="adj1" fmla="val 50000"/>
                <a:gd name="adj2" fmla="val 2769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0560" y="3319920"/>
              <a:ext cx="2139840" cy="598680"/>
            </a:xfrm>
            <a:prstGeom prst="leftArrow">
              <a:avLst>
                <a:gd name="adj1" fmla="val 50000"/>
                <a:gd name="adj2" fmla="val 8935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?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ormal frame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’ simulates S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ithout rep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ent’s p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01E-BF38-4495-ACA3-AECBD0B5D1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tate of the Art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oftware Engineering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complexity of software 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: interacting syste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techniques: OO,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modeling and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: compositional theor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techniques: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g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ufficiently cost-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5CC-D5D4-4CAD-BE44-EC96C5917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y Not Immediat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676520"/>
            <a:ext cx="6858000" cy="3809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2209680"/>
            <a:ext cx="403884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3124080"/>
            <a:ext cx="2514600" cy="16765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2743200"/>
            <a:ext cx="3353040" cy="22860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2743200"/>
            <a:ext cx="3352680" cy="22860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743200"/>
            <a:ext cx="3353040" cy="22860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ED0-8959-46FF-A250-CC85F20BA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04240" y="2205000"/>
            <a:ext cx="630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The Solution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mal Framework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mental Specific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d Simulation Proo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809-9AC2-4620-9237-06FFED383D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We Did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interface extens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specifying and model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Proof Reuse”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s simulation between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uses and extends simulation between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uires proving conditions about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olves reasoning only abou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D19-8D69-4E0A-A637-BA3B9EDBCB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pecialization Construc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econdition-effect notation, child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new stat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parent actions with new pre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effects that modify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w variables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362320"/>
            <a:ext cx="7772400" cy="6858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’ = specialize(A)(NewVars, ActionRestri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599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may only restrict paren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113-F00E-4BDD-B2C9-5300CAAAD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call: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Monotonic Seque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80720" y="1447560"/>
            <a:ext cx="632484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p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ger last, init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ff: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:=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029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ple Tra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, 3, 4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10, -5, 1, 2, 3, 5, 8, 13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263-9541-472D-97DD-6ED2D0C463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399960"/>
            <a:ext cx="79246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pecialization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UpSeq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: Accelerating Sequence, “Guiness”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n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pecialize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p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 Stat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ger diff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, init an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 Restr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 pre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-las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if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 eff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ff:= x-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ple Trace: 1, 2, 3, 5, 8, 13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trac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pS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9C5-49BA-4457-BE81-40B221CFCA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Using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“Proof Reuse” Theorem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to show simulation from  A’ to 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imulation mapping F from A to 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apping F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ates of A’ to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w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son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u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S’ restricts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reconditions are enab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pping F’ is preser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new effec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ows to re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of of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B76-EFED-4EF4-8F30-15BA164043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05740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19112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057400"/>
            <a:ext cx="221004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Se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133720"/>
            <a:ext cx="2514600" cy="761760"/>
          </a:xfrm>
          <a:prstGeom prst="leftArrow">
            <a:avLst>
              <a:gd name="adj1" fmla="val 50000"/>
              <a:gd name="adj2" fmla="val 8252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200400"/>
            <a:ext cx="762120" cy="914400"/>
          </a:xfrm>
          <a:prstGeom prst="upArrow">
            <a:avLst>
              <a:gd name="adj1" fmla="val 50000"/>
              <a:gd name="adj2" fmla="val 2999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5800" y="1767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3200400"/>
            <a:ext cx="4876920" cy="2057400"/>
            <a:chOff x="3657600" y="3200400"/>
            <a:chExt cx="4876920" cy="2057400"/>
          </a:xfrm>
        </p:grpSpPr>
        <p:sp>
          <p:nvSpPr>
            <p:cNvPr id="239" name=""/>
            <p:cNvSpPr/>
            <p:nvPr/>
          </p:nvSpPr>
          <p:spPr>
            <a:xfrm>
              <a:off x="6324480" y="4191120"/>
              <a:ext cx="2210040" cy="1066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bSe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4267080"/>
              <a:ext cx="2514600" cy="762120"/>
            </a:xfrm>
            <a:prstGeom prst="leftArrow">
              <a:avLst>
                <a:gd name="adj1" fmla="val 50000"/>
                <a:gd name="adj2" fmla="val 8248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?!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11400" y="380916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3200400"/>
              <a:ext cx="762120" cy="914400"/>
            </a:xfrm>
            <a:prstGeom prst="upArrow">
              <a:avLst>
                <a:gd name="adj1" fmla="val 50000"/>
                <a:gd name="adj2" fmla="val 2999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3A9-4DFA-4730-A9F9-DED9A360EB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bSeq Implements GnSeq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600200"/>
            <a:ext cx="4343400" cy="2895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Seq.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: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: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st:=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1600200"/>
            <a:ext cx="2819520" cy="2133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bSeq.prin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==n+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:=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:=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676520"/>
            <a:ext cx="4190760" cy="2133360"/>
            <a:chOff x="1219320" y="1676520"/>
            <a:chExt cx="4190760" cy="2133360"/>
          </a:xfrm>
        </p:grpSpPr>
        <p:sp>
          <p:nvSpPr>
            <p:cNvPr id="247" name=""/>
            <p:cNvSpPr/>
            <p:nvPr/>
          </p:nvSpPr>
          <p:spPr>
            <a:xfrm>
              <a:off x="1219320" y="1676520"/>
              <a:ext cx="4190760" cy="6858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nSeq.print(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2743200"/>
              <a:ext cx="4190760" cy="10666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e: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x-last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dif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ff: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diff:=x-la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886200" y="1447920"/>
            <a:ext cx="2057400" cy="761760"/>
          </a:xfrm>
          <a:prstGeom prst="leftArrow">
            <a:avLst>
              <a:gd name="adj1" fmla="val 50000"/>
              <a:gd name="adj2" fmla="val 6752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ast:=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1981080"/>
            <a:ext cx="2590920" cy="762120"/>
          </a:xfrm>
          <a:prstGeom prst="leftArrow">
            <a:avLst>
              <a:gd name="adj1" fmla="val 50000"/>
              <a:gd name="adj2" fmla="val 8499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ff:=m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66680" y="4556880"/>
            <a:ext cx="7772400" cy="1982880"/>
            <a:chOff x="1066680" y="4556880"/>
            <a:chExt cx="7772400" cy="1982880"/>
          </a:xfrm>
        </p:grpSpPr>
        <p:sp>
          <p:nvSpPr>
            <p:cNvPr id="252" name=""/>
            <p:cNvSpPr/>
            <p:nvPr/>
          </p:nvSpPr>
          <p:spPr>
            <a:xfrm>
              <a:off x="1523880" y="5181480"/>
              <a:ext cx="297180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1120" y="6095880"/>
              <a:ext cx="83808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05520" y="5181480"/>
              <a:ext cx="3581280" cy="38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6095880"/>
              <a:ext cx="914400" cy="38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6680" y="4556880"/>
              <a:ext cx="77724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or simulation proof, need to show 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(FibSeq.print(x)) </a:t>
              </a:r>
              <a:r>
                <a:rPr b="1" lang="en-US" sz="3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ewpre(GnSeq.print(x)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(x=n+m)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(x-last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 diff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dif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still equals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m-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in post-state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332-866D-4999-8EBC-1B1B02D9136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905120" y="266256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Experience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Using the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9DA-17B0-47BF-A73F-2F1F8224E4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ur Work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calable Formal Metho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cremental techniqu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ing formal proofs abou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ved as part of our experience modeling complex group communic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ware with intricat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Keidar, Khazan, ICDCS 20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746-C24C-4715-A3E4-2D6196B20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Group Communic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ful building blocks for fault tolerant distribu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multicast to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membership “who is in the gro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Synchrony semantics synchronize  messages and membership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see events in sa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specification, modeling, and verification: a challen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3ED-5A94-484D-8400-A6DD429B8C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Keidar and Khazan, ICDCS 2000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a full-fledged group communic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description, matching C++ implementation (9,000 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specification matching services we use (developed by other teams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 server (20,000 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communication service (4,000 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of from algorithm to 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472-98C7-4946-9175-BBBC831D26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mental Specification, Algorithm and Proof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communication in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 hal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of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 pp., 7 major invariants, history v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Synchrony + Transitional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modification: full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of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.5 pp., 1 invar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of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.5 pp., 3 invariants, prophecy v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of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.5 pp., 3 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044-C466-4D14-B237-94B6A99454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Modeling Methodolog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ite to parent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parent for potential children to specif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eterminism at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specif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herence,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“abstract” or “virtual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forwarding of messages to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parent arbitrary forwarding, but forwarded messages go into “right”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specifies forwardin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291-8D23-452C-87DC-9AE7C6734C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enefits of Reus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complex algorithm step by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see which part of algorithm corresponds to which part of 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: re-use of data structures (as opposed to compositional layered approa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able pro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attention on specific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to re-prove that previous proof preserves (contrast with lay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E3D-5829-491B-ADF7-B02D04C020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ummary of  Contribu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Formal frame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incremental development of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ulation 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simulation proof may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pro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reason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modified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ly used to model and validate complex communication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CDCS 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extends IOA programming and modeling langu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Garland&amp;Lync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for other state-machi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172-3732-4910-A814-B8FD4528AF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162-7F46-4A8F-AA26-020BC11E8D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Non-triviality illustr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1676520"/>
            <a:ext cx="6858000" cy="3809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2209680"/>
            <a:ext cx="403884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3124080"/>
            <a:ext cx="2514600" cy="16765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F0C-CB51-4F30-96C4-1BD8EA2F849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81080" y="2743200"/>
            <a:ext cx="3353040" cy="22860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of 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12D-8AA3-4885-99B5-0AD10CBA011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05740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eq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419112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Seq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2057400"/>
            <a:ext cx="221004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Seq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133720"/>
            <a:ext cx="2514600" cy="761760"/>
          </a:xfrm>
          <a:prstGeom prst="leftArrow">
            <a:avLst>
              <a:gd name="adj1" fmla="val 50000"/>
              <a:gd name="adj2" fmla="val 8252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3200400"/>
            <a:ext cx="762120" cy="914400"/>
          </a:xfrm>
          <a:prstGeom prst="upArrow">
            <a:avLst>
              <a:gd name="adj1" fmla="val 50000"/>
              <a:gd name="adj2" fmla="val 2999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9593600">
            <a:off x="3809880" y="3428640"/>
            <a:ext cx="2514600" cy="762120"/>
          </a:xfrm>
          <a:prstGeom prst="leftArrow">
            <a:avLst>
              <a:gd name="adj1" fmla="val 50000"/>
              <a:gd name="adj2" fmla="val 824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049-C93D-490D-91B5-75798611D44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alk Outlin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: need formal framework for incremental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, in a nut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: specifications, simulation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llenge: reuse simulation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reus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 using th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C4B-537E-42F4-AF07-A66057906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y not immediat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4343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’ specializes A, which in turn implements 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’ implement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 specializes S, thu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’ also implement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’ implements S’ ?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1523880"/>
            <a:ext cx="7010280" cy="21337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ces(A’)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Traces(A)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Traces(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ces(S’)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Traces(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ces(A’)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Traces(S’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28954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812-9308-4A47-943A-54901C18C82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533304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new preconditions and effects are in addition to those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pS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4CD-117C-4685-B743-A1DD11C79E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malism and Not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malism to express specifications, systems, incremental construct, 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/O Automat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for formal specs an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rogramming and model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precondition-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typed, with initi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specified by preconditions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D38-B69C-4178-B2FA-6C439BE69EA0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266256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Our Approach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 a Nutsh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4D6-5706-48B5-A2DE-38A6437E0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Ide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1752480"/>
            <a:ext cx="7010640" cy="1447920"/>
            <a:chOff x="1523880" y="1752480"/>
            <a:chExt cx="7010640" cy="1447920"/>
          </a:xfrm>
        </p:grpSpPr>
        <p:sp>
          <p:nvSpPr>
            <p:cNvPr id="133" name=""/>
            <p:cNvSpPr/>
            <p:nvPr/>
          </p:nvSpPr>
          <p:spPr>
            <a:xfrm>
              <a:off x="1523880" y="1752480"/>
              <a:ext cx="2286000" cy="144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W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echniqu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120" y="1752480"/>
              <a:ext cx="3200400" cy="144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ormal Model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 Verif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echniqu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09680" y="2887200"/>
            <a:ext cx="4572000" cy="2980080"/>
            <a:chOff x="2209680" y="2887200"/>
            <a:chExt cx="4572000" cy="2980080"/>
          </a:xfrm>
        </p:grpSpPr>
        <p:sp>
          <p:nvSpPr>
            <p:cNvPr id="136" name=""/>
            <p:cNvSpPr/>
            <p:nvPr/>
          </p:nvSpPr>
          <p:spPr>
            <a:xfrm>
              <a:off x="2209680" y="4114800"/>
              <a:ext cx="4572000" cy="17524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cremental Specification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Modeling,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 Proof Re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echniqu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934000">
              <a:off x="3428640" y="3200040"/>
              <a:ext cx="1143000" cy="68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7924800">
              <a:off x="4494960" y="3200040"/>
              <a:ext cx="1143000" cy="68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539-349D-4115-8FC5-77096103F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mental modification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fferent kinds. We consid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-typing, substit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constraints parent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Parent is unordered messaging protocol; Child specializes Parent to ordered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terface exten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 specialization allows new behavi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but does not override parent behavior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ub-classing for extension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A5C-5620-4208-86CC-45F7B955A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Inheritance in Spec and Proof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523880"/>
            <a:ext cx="2209680" cy="1067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523880"/>
            <a:ext cx="2209680" cy="1067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1600200"/>
            <a:ext cx="2514600" cy="762120"/>
          </a:xfrm>
          <a:prstGeom prst="leftArrow">
            <a:avLst>
              <a:gd name="adj1" fmla="val 50000"/>
              <a:gd name="adj2" fmla="val 824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47920" y="2666880"/>
            <a:ext cx="2209680" cy="2057400"/>
            <a:chOff x="1447920" y="2666880"/>
            <a:chExt cx="2209680" cy="2057400"/>
          </a:xfrm>
        </p:grpSpPr>
        <p:sp>
          <p:nvSpPr>
            <p:cNvPr id="146" name=""/>
            <p:cNvSpPr/>
            <p:nvPr/>
          </p:nvSpPr>
          <p:spPr>
            <a:xfrm>
              <a:off x="1447920" y="3657600"/>
              <a:ext cx="2209680" cy="1066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2666880"/>
              <a:ext cx="761760" cy="914400"/>
            </a:xfrm>
            <a:prstGeom prst="upArrow">
              <a:avLst>
                <a:gd name="adj1" fmla="val 50000"/>
                <a:gd name="adj2" fmla="val 3000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00800" y="2666880"/>
            <a:ext cx="2209680" cy="2057400"/>
            <a:chOff x="6400800" y="2666880"/>
            <a:chExt cx="2209680" cy="2057400"/>
          </a:xfrm>
        </p:grpSpPr>
        <p:sp>
          <p:nvSpPr>
            <p:cNvPr id="149" name=""/>
            <p:cNvSpPr/>
            <p:nvPr/>
          </p:nvSpPr>
          <p:spPr>
            <a:xfrm>
              <a:off x="6400800" y="3657600"/>
              <a:ext cx="2209680" cy="1066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0280" y="2666880"/>
              <a:ext cx="762120" cy="914400"/>
            </a:xfrm>
            <a:prstGeom prst="upArrow">
              <a:avLst>
                <a:gd name="adj1" fmla="val 50000"/>
                <a:gd name="adj2" fmla="val 2999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33920" y="3809880"/>
            <a:ext cx="2514600" cy="762120"/>
          </a:xfrm>
          <a:prstGeom prst="leftArrow">
            <a:avLst>
              <a:gd name="adj1" fmla="val 50000"/>
              <a:gd name="adj2" fmla="val 824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9518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A’ implements 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lying on proof that A implements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out rep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soning of that p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F30-6275-48D0-836B-4D6A2D6195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05120" y="266256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pecifications and Proo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49B-9084-47C6-BF48-8FE1A014D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2:42:17Z</dcterms:created>
  <dc:creator>MIT</dc:creator>
  <dc:description/>
  <dc:language>en-US</dc:language>
  <cp:lastModifiedBy>idish</cp:lastModifiedBy>
  <cp:lastPrinted>2000-06-05T20:56:01Z</cp:lastPrinted>
  <dcterms:modified xsi:type="dcterms:W3CDTF">2000-09-28T18:03:30Z</dcterms:modified>
  <cp:revision>247</cp:revision>
  <dc:subject/>
  <dc:title>Virtually Synchronous Group Multicast</dc:title>
</cp:coreProperties>
</file>