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AF1-A9BC-4B4A-8EFC-DE98165B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50440"/>
            <a:ext cx="7924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DC4-AE41-4476-81D7-B670DB4D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4840" y="198108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5044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4840" y="415044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3EC-E4E2-4CE0-98F0-F27F331D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551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3520" y="1981080"/>
            <a:ext cx="2551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1981080"/>
            <a:ext cx="2551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50440"/>
            <a:ext cx="2551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3520" y="4150440"/>
            <a:ext cx="2551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150440"/>
            <a:ext cx="2551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123-1871-43AD-883D-747799FF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D6C-55A9-475B-81AC-D4AEA9F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725-6A60-4BF3-AD94-B11EB489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671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4840" y="1981080"/>
            <a:ext cx="38671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4DE-2DCF-4146-96B6-69714AF4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F01-11BF-4FCE-B1EC-89182521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71680"/>
            <a:ext cx="7924680" cy="54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B2B-22AC-464D-AA47-92B4D1CB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981080"/>
            <a:ext cx="38671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5044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194-4E1E-4DE7-94AF-8D3D515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671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4840" y="198108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4840" y="415044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64A-6AC1-4F53-9273-2913AF6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4840" y="1981080"/>
            <a:ext cx="3867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50440"/>
            <a:ext cx="7924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3C2-0106-4529-AAF1-BD4A1E1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0"/>
            <a:ext cx="533520" cy="6834240"/>
            <a:chOff x="228600" y="0"/>
            <a:chExt cx="533520" cy="6834240"/>
          </a:xfrm>
        </p:grpSpPr>
        <p:sp>
          <p:nvSpPr>
            <p:cNvPr id="1" name=""/>
            <p:cNvSpPr/>
            <p:nvPr/>
          </p:nvSpPr>
          <p:spPr>
            <a:xfrm>
              <a:off x="228600" y="0"/>
              <a:ext cx="532440" cy="68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8600" y="0"/>
              <a:ext cx="533520" cy="6834240"/>
            </a:xfrm>
            <a:custGeom>
              <a:avLst/>
              <a:gdLst/>
              <a:ahLst/>
              <a:rect l="l" t="t" r="r" b="b"/>
              <a:pathLst>
                <a:path w="491" h="4305">
                  <a:moveTo>
                    <a:pt x="0" y="0"/>
                  </a:moveTo>
                  <a:lnTo>
                    <a:pt x="0" y="4304"/>
                  </a:lnTo>
                  <a:lnTo>
                    <a:pt x="163" y="4304"/>
                  </a:lnTo>
                  <a:lnTo>
                    <a:pt x="163" y="0"/>
                  </a:lnTo>
                  <a:lnTo>
                    <a:pt x="327" y="0"/>
                  </a:lnTo>
                  <a:lnTo>
                    <a:pt x="327" y="4304"/>
                  </a:lnTo>
                  <a:lnTo>
                    <a:pt x="490" y="4304"/>
                  </a:lnTo>
                  <a:lnTo>
                    <a:pt x="490" y="0"/>
                  </a:lnTo>
                  <a:lnTo>
                    <a:pt x="490" y="148"/>
                  </a:lnTo>
                  <a:lnTo>
                    <a:pt x="0" y="148"/>
                  </a:lnTo>
                  <a:lnTo>
                    <a:pt x="0" y="297"/>
                  </a:lnTo>
                  <a:lnTo>
                    <a:pt x="490" y="297"/>
                  </a:lnTo>
                  <a:lnTo>
                    <a:pt x="490" y="445"/>
                  </a:lnTo>
                  <a:lnTo>
                    <a:pt x="0" y="445"/>
                  </a:lnTo>
                  <a:lnTo>
                    <a:pt x="0" y="594"/>
                  </a:lnTo>
                  <a:lnTo>
                    <a:pt x="490" y="594"/>
                  </a:lnTo>
                  <a:lnTo>
                    <a:pt x="490" y="742"/>
                  </a:lnTo>
                  <a:lnTo>
                    <a:pt x="0" y="742"/>
                  </a:lnTo>
                  <a:lnTo>
                    <a:pt x="0" y="890"/>
                  </a:lnTo>
                  <a:lnTo>
                    <a:pt x="490" y="890"/>
                  </a:lnTo>
                  <a:lnTo>
                    <a:pt x="490" y="1039"/>
                  </a:lnTo>
                  <a:lnTo>
                    <a:pt x="0" y="1039"/>
                  </a:lnTo>
                  <a:lnTo>
                    <a:pt x="0" y="1187"/>
                  </a:lnTo>
                  <a:lnTo>
                    <a:pt x="490" y="1187"/>
                  </a:lnTo>
                  <a:lnTo>
                    <a:pt x="490" y="1336"/>
                  </a:lnTo>
                  <a:lnTo>
                    <a:pt x="0" y="1336"/>
                  </a:lnTo>
                  <a:lnTo>
                    <a:pt x="0" y="1484"/>
                  </a:lnTo>
                  <a:lnTo>
                    <a:pt x="490" y="1484"/>
                  </a:lnTo>
                  <a:lnTo>
                    <a:pt x="490" y="1633"/>
                  </a:lnTo>
                  <a:lnTo>
                    <a:pt x="0" y="1633"/>
                  </a:lnTo>
                  <a:lnTo>
                    <a:pt x="0" y="1781"/>
                  </a:lnTo>
                  <a:lnTo>
                    <a:pt x="490" y="1781"/>
                  </a:lnTo>
                  <a:lnTo>
                    <a:pt x="490" y="1929"/>
                  </a:lnTo>
                  <a:lnTo>
                    <a:pt x="0" y="1929"/>
                  </a:lnTo>
                  <a:lnTo>
                    <a:pt x="0" y="2078"/>
                  </a:lnTo>
                  <a:lnTo>
                    <a:pt x="490" y="2078"/>
                  </a:lnTo>
                  <a:lnTo>
                    <a:pt x="490" y="2226"/>
                  </a:lnTo>
                  <a:lnTo>
                    <a:pt x="0" y="2226"/>
                  </a:lnTo>
                  <a:lnTo>
                    <a:pt x="0" y="2375"/>
                  </a:lnTo>
                  <a:lnTo>
                    <a:pt x="490" y="2375"/>
                  </a:lnTo>
                  <a:lnTo>
                    <a:pt x="490" y="2523"/>
                  </a:lnTo>
                  <a:lnTo>
                    <a:pt x="0" y="2523"/>
                  </a:lnTo>
                  <a:lnTo>
                    <a:pt x="0" y="2671"/>
                  </a:lnTo>
                  <a:lnTo>
                    <a:pt x="490" y="2671"/>
                  </a:lnTo>
                  <a:lnTo>
                    <a:pt x="490" y="2820"/>
                  </a:lnTo>
                  <a:lnTo>
                    <a:pt x="0" y="2820"/>
                  </a:lnTo>
                  <a:lnTo>
                    <a:pt x="0" y="2968"/>
                  </a:lnTo>
                  <a:lnTo>
                    <a:pt x="490" y="2968"/>
                  </a:lnTo>
                  <a:lnTo>
                    <a:pt x="490" y="3117"/>
                  </a:lnTo>
                  <a:lnTo>
                    <a:pt x="0" y="3117"/>
                  </a:lnTo>
                  <a:lnTo>
                    <a:pt x="0" y="3265"/>
                  </a:lnTo>
                  <a:lnTo>
                    <a:pt x="490" y="3265"/>
                  </a:lnTo>
                  <a:lnTo>
                    <a:pt x="490" y="3414"/>
                  </a:lnTo>
                  <a:lnTo>
                    <a:pt x="0" y="3414"/>
                  </a:lnTo>
                  <a:lnTo>
                    <a:pt x="0" y="3562"/>
                  </a:lnTo>
                  <a:lnTo>
                    <a:pt x="490" y="3562"/>
                  </a:lnTo>
                  <a:lnTo>
                    <a:pt x="490" y="3710"/>
                  </a:lnTo>
                  <a:lnTo>
                    <a:pt x="0" y="3710"/>
                  </a:lnTo>
                  <a:lnTo>
                    <a:pt x="0" y="3859"/>
                  </a:lnTo>
                  <a:lnTo>
                    <a:pt x="490" y="3859"/>
                  </a:lnTo>
                  <a:lnTo>
                    <a:pt x="490" y="4007"/>
                  </a:lnTo>
                  <a:lnTo>
                    <a:pt x="0" y="4007"/>
                  </a:lnTo>
                  <a:lnTo>
                    <a:pt x="0" y="4156"/>
                  </a:lnTo>
                  <a:lnTo>
                    <a:pt x="490" y="4156"/>
                  </a:lnTo>
                  <a:lnTo>
                    <a:pt x="490" y="4304"/>
                  </a:lnTo>
                  <a:lnTo>
                    <a:pt x="0" y="4304"/>
                  </a:lnTo>
                  <a:lnTo>
                    <a:pt x="0" y="4304"/>
                  </a:lnTo>
                  <a:lnTo>
                    <a:pt x="490" y="4304"/>
                  </a:lnTo>
                  <a:lnTo>
                    <a:pt x="49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DF19D3-D11D-45DA-A6E8-67582497C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.wmf"/><Relationship Id="rId2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ramework for Highly Available Servic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ed on Group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an Fekete        Idit Kei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Sidney           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E97-AE68-4089-A5DC-A5D889C0C0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Communication (G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rganized in groups, communication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ddress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are dynamic (join, leave, crash,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can partition (“partitionable GC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68400" y="4800600"/>
            <a:ext cx="2551320" cy="1452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8120" y="5602320"/>
          <a:ext cx="42516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5602320"/>
                    <a:ext cx="425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019920" y="4495680"/>
          <a:ext cx="4251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4495680"/>
                    <a:ext cx="425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4723400">
            <a:off x="5105880" y="4278240"/>
            <a:ext cx="182520" cy="1676520"/>
          </a:xfrm>
          <a:prstGeom prst="upArrow">
            <a:avLst>
              <a:gd name="adj1" fmla="val 76917"/>
              <a:gd name="adj2" fmla="val 26765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5450040"/>
            <a:ext cx="38088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25720" y="491508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079000">
            <a:off x="4876920" y="5105160"/>
            <a:ext cx="1066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end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66880" y="4992840"/>
          <a:ext cx="425520" cy="3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4992840"/>
                    <a:ext cx="425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286000" y="5602320"/>
          <a:ext cx="42552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0" y="5602320"/>
                    <a:ext cx="425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2162160" y="4822920"/>
            <a:ext cx="1570680" cy="1540080"/>
            <a:chOff x="2162160" y="4822920"/>
            <a:chExt cx="1570680" cy="1540080"/>
          </a:xfrm>
        </p:grpSpPr>
        <p:grpSp>
          <p:nvGrpSpPr>
            <p:cNvPr id="78" name=""/>
            <p:cNvGrpSpPr/>
            <p:nvPr/>
          </p:nvGrpSpPr>
          <p:grpSpPr>
            <a:xfrm>
              <a:off x="2187360" y="4839840"/>
              <a:ext cx="1545480" cy="1523160"/>
              <a:chOff x="2187360" y="4839840"/>
              <a:chExt cx="1545480" cy="152316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2187360" y="4839840"/>
                <a:ext cx="1545480" cy="1523160"/>
                <a:chOff x="2187360" y="4839840"/>
                <a:chExt cx="1545480" cy="15231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187360" y="4839840"/>
                  <a:ext cx="1311840" cy="880560"/>
                </a:xfrm>
                <a:custGeom>
                  <a:avLst/>
                  <a:gdLst/>
                  <a:ahLst/>
                  <a:rect l="l" t="t" r="r" b="b"/>
                  <a:pathLst>
                    <a:path w="724" h="460">
                      <a:moveTo>
                        <a:pt x="15" y="459"/>
                      </a:moveTo>
                      <a:lnTo>
                        <a:pt x="4" y="405"/>
                      </a:lnTo>
                      <a:lnTo>
                        <a:pt x="0" y="353"/>
                      </a:lnTo>
                      <a:lnTo>
                        <a:pt x="2" y="316"/>
                      </a:lnTo>
                      <a:lnTo>
                        <a:pt x="9" y="284"/>
                      </a:lnTo>
                      <a:lnTo>
                        <a:pt x="20" y="248"/>
                      </a:lnTo>
                      <a:lnTo>
                        <a:pt x="37" y="211"/>
                      </a:lnTo>
                      <a:lnTo>
                        <a:pt x="58" y="173"/>
                      </a:lnTo>
                      <a:lnTo>
                        <a:pt x="80" y="143"/>
                      </a:lnTo>
                      <a:lnTo>
                        <a:pt x="106" y="112"/>
                      </a:lnTo>
                      <a:lnTo>
                        <a:pt x="136" y="87"/>
                      </a:lnTo>
                      <a:lnTo>
                        <a:pt x="166" y="64"/>
                      </a:lnTo>
                      <a:lnTo>
                        <a:pt x="199" y="46"/>
                      </a:lnTo>
                      <a:lnTo>
                        <a:pt x="239" y="30"/>
                      </a:lnTo>
                      <a:lnTo>
                        <a:pt x="284" y="16"/>
                      </a:lnTo>
                      <a:lnTo>
                        <a:pt x="323" y="6"/>
                      </a:lnTo>
                      <a:lnTo>
                        <a:pt x="371" y="0"/>
                      </a:lnTo>
                      <a:lnTo>
                        <a:pt x="431" y="0"/>
                      </a:lnTo>
                      <a:lnTo>
                        <a:pt x="476" y="8"/>
                      </a:lnTo>
                      <a:lnTo>
                        <a:pt x="530" y="20"/>
                      </a:lnTo>
                      <a:lnTo>
                        <a:pt x="584" y="42"/>
                      </a:lnTo>
                      <a:lnTo>
                        <a:pt x="632" y="68"/>
                      </a:lnTo>
                      <a:lnTo>
                        <a:pt x="665" y="95"/>
                      </a:lnTo>
                      <a:lnTo>
                        <a:pt x="697" y="124"/>
                      </a:lnTo>
                      <a:lnTo>
                        <a:pt x="723" y="155"/>
                      </a:lnTo>
                      <a:lnTo>
                        <a:pt x="654" y="107"/>
                      </a:lnTo>
                      <a:lnTo>
                        <a:pt x="617" y="87"/>
                      </a:lnTo>
                      <a:lnTo>
                        <a:pt x="578" y="73"/>
                      </a:lnTo>
                      <a:lnTo>
                        <a:pt x="528" y="58"/>
                      </a:lnTo>
                      <a:lnTo>
                        <a:pt x="481" y="52"/>
                      </a:lnTo>
                      <a:lnTo>
                        <a:pt x="429" y="50"/>
                      </a:lnTo>
                      <a:lnTo>
                        <a:pt x="390" y="52"/>
                      </a:lnTo>
                      <a:lnTo>
                        <a:pt x="349" y="58"/>
                      </a:lnTo>
                      <a:lnTo>
                        <a:pt x="308" y="68"/>
                      </a:lnTo>
                      <a:lnTo>
                        <a:pt x="269" y="80"/>
                      </a:lnTo>
                      <a:lnTo>
                        <a:pt x="226" y="100"/>
                      </a:lnTo>
                      <a:lnTo>
                        <a:pt x="192" y="119"/>
                      </a:lnTo>
                      <a:lnTo>
                        <a:pt x="164" y="141"/>
                      </a:lnTo>
                      <a:lnTo>
                        <a:pt x="132" y="165"/>
                      </a:lnTo>
                      <a:lnTo>
                        <a:pt x="106" y="191"/>
                      </a:lnTo>
                      <a:lnTo>
                        <a:pt x="80" y="227"/>
                      </a:lnTo>
                      <a:lnTo>
                        <a:pt x="56" y="265"/>
                      </a:lnTo>
                      <a:lnTo>
                        <a:pt x="41" y="302"/>
                      </a:lnTo>
                      <a:lnTo>
                        <a:pt x="28" y="345"/>
                      </a:lnTo>
                      <a:lnTo>
                        <a:pt x="20" y="397"/>
                      </a:lnTo>
                      <a:lnTo>
                        <a:pt x="15" y="459"/>
                      </a:lnTo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284920" y="5277960"/>
                  <a:ext cx="1447920" cy="1085040"/>
                </a:xfrm>
                <a:custGeom>
                  <a:avLst/>
                  <a:gdLst/>
                  <a:ahLst/>
                  <a:rect l="l" t="t" r="r" b="b"/>
                  <a:pathLst>
                    <a:path w="799" h="567">
                      <a:moveTo>
                        <a:pt x="0" y="344"/>
                      </a:moveTo>
                      <a:lnTo>
                        <a:pt x="46" y="392"/>
                      </a:lnTo>
                      <a:lnTo>
                        <a:pt x="95" y="435"/>
                      </a:lnTo>
                      <a:lnTo>
                        <a:pt x="141" y="459"/>
                      </a:lnTo>
                      <a:lnTo>
                        <a:pt x="206" y="485"/>
                      </a:lnTo>
                      <a:lnTo>
                        <a:pt x="258" y="499"/>
                      </a:lnTo>
                      <a:lnTo>
                        <a:pt x="306" y="505"/>
                      </a:lnTo>
                      <a:lnTo>
                        <a:pt x="362" y="505"/>
                      </a:lnTo>
                      <a:lnTo>
                        <a:pt x="403" y="501"/>
                      </a:lnTo>
                      <a:lnTo>
                        <a:pt x="453" y="493"/>
                      </a:lnTo>
                      <a:lnTo>
                        <a:pt x="503" y="479"/>
                      </a:lnTo>
                      <a:lnTo>
                        <a:pt x="544" y="459"/>
                      </a:lnTo>
                      <a:lnTo>
                        <a:pt x="583" y="437"/>
                      </a:lnTo>
                      <a:lnTo>
                        <a:pt x="617" y="414"/>
                      </a:lnTo>
                      <a:lnTo>
                        <a:pt x="652" y="382"/>
                      </a:lnTo>
                      <a:lnTo>
                        <a:pt x="687" y="346"/>
                      </a:lnTo>
                      <a:lnTo>
                        <a:pt x="714" y="312"/>
                      </a:lnTo>
                      <a:lnTo>
                        <a:pt x="729" y="277"/>
                      </a:lnTo>
                      <a:lnTo>
                        <a:pt x="748" y="223"/>
                      </a:lnTo>
                      <a:lnTo>
                        <a:pt x="761" y="166"/>
                      </a:lnTo>
                      <a:lnTo>
                        <a:pt x="763" y="116"/>
                      </a:lnTo>
                      <a:lnTo>
                        <a:pt x="755" y="60"/>
                      </a:lnTo>
                      <a:lnTo>
                        <a:pt x="735" y="0"/>
                      </a:lnTo>
                      <a:lnTo>
                        <a:pt x="755" y="32"/>
                      </a:lnTo>
                      <a:lnTo>
                        <a:pt x="776" y="79"/>
                      </a:lnTo>
                      <a:lnTo>
                        <a:pt x="787" y="122"/>
                      </a:lnTo>
                      <a:lnTo>
                        <a:pt x="798" y="162"/>
                      </a:lnTo>
                      <a:lnTo>
                        <a:pt x="796" y="196"/>
                      </a:lnTo>
                      <a:lnTo>
                        <a:pt x="794" y="243"/>
                      </a:lnTo>
                      <a:lnTo>
                        <a:pt x="767" y="331"/>
                      </a:lnTo>
                      <a:lnTo>
                        <a:pt x="742" y="380"/>
                      </a:lnTo>
                      <a:lnTo>
                        <a:pt x="710" y="423"/>
                      </a:lnTo>
                      <a:lnTo>
                        <a:pt x="674" y="459"/>
                      </a:lnTo>
                      <a:lnTo>
                        <a:pt x="639" y="485"/>
                      </a:lnTo>
                      <a:lnTo>
                        <a:pt x="592" y="515"/>
                      </a:lnTo>
                      <a:lnTo>
                        <a:pt x="544" y="536"/>
                      </a:lnTo>
                      <a:lnTo>
                        <a:pt x="498" y="550"/>
                      </a:lnTo>
                      <a:lnTo>
                        <a:pt x="440" y="564"/>
                      </a:lnTo>
                      <a:lnTo>
                        <a:pt x="397" y="566"/>
                      </a:lnTo>
                      <a:lnTo>
                        <a:pt x="349" y="566"/>
                      </a:lnTo>
                      <a:lnTo>
                        <a:pt x="302" y="558"/>
                      </a:lnTo>
                      <a:lnTo>
                        <a:pt x="249" y="548"/>
                      </a:lnTo>
                      <a:lnTo>
                        <a:pt x="215" y="536"/>
                      </a:lnTo>
                      <a:lnTo>
                        <a:pt x="169" y="513"/>
                      </a:lnTo>
                      <a:lnTo>
                        <a:pt x="130" y="493"/>
                      </a:lnTo>
                      <a:lnTo>
                        <a:pt x="93" y="465"/>
                      </a:lnTo>
                      <a:lnTo>
                        <a:pt x="54" y="427"/>
                      </a:lnTo>
                      <a:lnTo>
                        <a:pt x="17" y="378"/>
                      </a:lnTo>
                      <a:lnTo>
                        <a:pt x="0" y="344"/>
                      </a:lnTo>
                    </a:path>
                  </a:pathLst>
                </a:custGeom>
                <a:solidFill>
                  <a:srgbClr val="c0c0c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192400" y="4861080"/>
                <a:ext cx="1536480" cy="1434960"/>
                <a:chOff x="2192400" y="4861080"/>
                <a:chExt cx="1536480" cy="14349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279520" y="5944320"/>
                  <a:ext cx="371520" cy="351720"/>
                </a:xfrm>
                <a:custGeom>
                  <a:avLst/>
                  <a:gdLst/>
                  <a:ahLst/>
                  <a:rect l="l" t="t" r="r" b="b"/>
                  <a:pathLst>
                    <a:path w="205" h="184">
                      <a:moveTo>
                        <a:pt x="0" y="0"/>
                      </a:moveTo>
                      <a:lnTo>
                        <a:pt x="21" y="37"/>
                      </a:lnTo>
                      <a:lnTo>
                        <a:pt x="42" y="65"/>
                      </a:lnTo>
                      <a:lnTo>
                        <a:pt x="64" y="91"/>
                      </a:lnTo>
                      <a:lnTo>
                        <a:pt x="98" y="122"/>
                      </a:lnTo>
                      <a:lnTo>
                        <a:pt x="124" y="141"/>
                      </a:lnTo>
                      <a:lnTo>
                        <a:pt x="157" y="160"/>
                      </a:lnTo>
                      <a:lnTo>
                        <a:pt x="204" y="183"/>
                      </a:lnTo>
                      <a:lnTo>
                        <a:pt x="151" y="116"/>
                      </a:lnTo>
                      <a:lnTo>
                        <a:pt x="121" y="100"/>
                      </a:lnTo>
                      <a:lnTo>
                        <a:pt x="99" y="86"/>
                      </a:lnTo>
                      <a:lnTo>
                        <a:pt x="68" y="67"/>
                      </a:lnTo>
                      <a:lnTo>
                        <a:pt x="44" y="45"/>
                      </a:lnTo>
                      <a:lnTo>
                        <a:pt x="25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597120" y="5266800"/>
                  <a:ext cx="131760" cy="702360"/>
                </a:xfrm>
                <a:custGeom>
                  <a:avLst/>
                  <a:gdLst/>
                  <a:ahLst/>
                  <a:rect l="l" t="t" r="r" b="b"/>
                  <a:pathLst>
                    <a:path w="73" h="367">
                      <a:moveTo>
                        <a:pt x="13" y="0"/>
                      </a:moveTo>
                      <a:lnTo>
                        <a:pt x="27" y="25"/>
                      </a:lnTo>
                      <a:lnTo>
                        <a:pt x="36" y="47"/>
                      </a:lnTo>
                      <a:lnTo>
                        <a:pt x="46" y="69"/>
                      </a:lnTo>
                      <a:lnTo>
                        <a:pt x="53" y="90"/>
                      </a:lnTo>
                      <a:lnTo>
                        <a:pt x="59" y="110"/>
                      </a:lnTo>
                      <a:lnTo>
                        <a:pt x="69" y="146"/>
                      </a:lnTo>
                      <a:lnTo>
                        <a:pt x="72" y="181"/>
                      </a:lnTo>
                      <a:lnTo>
                        <a:pt x="70" y="234"/>
                      </a:lnTo>
                      <a:lnTo>
                        <a:pt x="65" y="270"/>
                      </a:lnTo>
                      <a:lnTo>
                        <a:pt x="57" y="300"/>
                      </a:lnTo>
                      <a:lnTo>
                        <a:pt x="45" y="330"/>
                      </a:lnTo>
                      <a:lnTo>
                        <a:pt x="29" y="366"/>
                      </a:lnTo>
                      <a:lnTo>
                        <a:pt x="0" y="297"/>
                      </a:lnTo>
                      <a:lnTo>
                        <a:pt x="13" y="267"/>
                      </a:lnTo>
                      <a:lnTo>
                        <a:pt x="20" y="251"/>
                      </a:lnTo>
                      <a:lnTo>
                        <a:pt x="27" y="230"/>
                      </a:lnTo>
                      <a:lnTo>
                        <a:pt x="32" y="208"/>
                      </a:lnTo>
                      <a:lnTo>
                        <a:pt x="36" y="176"/>
                      </a:lnTo>
                      <a:lnTo>
                        <a:pt x="38" y="148"/>
                      </a:lnTo>
                      <a:lnTo>
                        <a:pt x="38" y="108"/>
                      </a:lnTo>
                      <a:lnTo>
                        <a:pt x="32" y="71"/>
                      </a:lnTo>
                      <a:lnTo>
                        <a:pt x="25" y="40"/>
                      </a:lnTo>
                      <a:lnTo>
                        <a:pt x="2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890080" y="4861080"/>
                  <a:ext cx="531000" cy="204840"/>
                </a:xfrm>
                <a:custGeom>
                  <a:avLst/>
                  <a:gdLst/>
                  <a:ahLst/>
                  <a:rect l="l" t="t" r="r" b="b"/>
                  <a:pathLst>
                    <a:path w="293" h="107">
                      <a:moveTo>
                        <a:pt x="0" y="0"/>
                      </a:moveTo>
                      <a:lnTo>
                        <a:pt x="23" y="39"/>
                      </a:lnTo>
                      <a:lnTo>
                        <a:pt x="57" y="37"/>
                      </a:lnTo>
                      <a:lnTo>
                        <a:pt x="88" y="39"/>
                      </a:lnTo>
                      <a:lnTo>
                        <a:pt x="118" y="42"/>
                      </a:lnTo>
                      <a:lnTo>
                        <a:pt x="145" y="47"/>
                      </a:lnTo>
                      <a:lnTo>
                        <a:pt x="172" y="53"/>
                      </a:lnTo>
                      <a:lnTo>
                        <a:pt x="190" y="59"/>
                      </a:lnTo>
                      <a:lnTo>
                        <a:pt x="215" y="68"/>
                      </a:lnTo>
                      <a:lnTo>
                        <a:pt x="243" y="80"/>
                      </a:lnTo>
                      <a:lnTo>
                        <a:pt x="292" y="106"/>
                      </a:lnTo>
                      <a:lnTo>
                        <a:pt x="264" y="79"/>
                      </a:lnTo>
                      <a:lnTo>
                        <a:pt x="243" y="66"/>
                      </a:lnTo>
                      <a:lnTo>
                        <a:pt x="217" y="50"/>
                      </a:lnTo>
                      <a:lnTo>
                        <a:pt x="201" y="41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1" y="12"/>
                      </a:lnTo>
                      <a:lnTo>
                        <a:pt x="103" y="8"/>
                      </a:lnTo>
                      <a:lnTo>
                        <a:pt x="75" y="4"/>
                      </a:lnTo>
                      <a:lnTo>
                        <a:pt x="46" y="1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92400" y="5159520"/>
                  <a:ext cx="166680" cy="497160"/>
                </a:xfrm>
                <a:custGeom>
                  <a:avLst/>
                  <a:gdLst/>
                  <a:ahLst/>
                  <a:rect l="l" t="t" r="r" b="b"/>
                  <a:pathLst>
                    <a:path w="92" h="260">
                      <a:moveTo>
                        <a:pt x="0" y="199"/>
                      </a:moveTo>
                      <a:lnTo>
                        <a:pt x="2" y="178"/>
                      </a:lnTo>
                      <a:lnTo>
                        <a:pt x="4" y="156"/>
                      </a:lnTo>
                      <a:lnTo>
                        <a:pt x="10" y="121"/>
                      </a:lnTo>
                      <a:lnTo>
                        <a:pt x="17" y="93"/>
                      </a:lnTo>
                      <a:lnTo>
                        <a:pt x="27" y="68"/>
                      </a:lnTo>
                      <a:lnTo>
                        <a:pt x="39" y="41"/>
                      </a:lnTo>
                      <a:lnTo>
                        <a:pt x="50" y="22"/>
                      </a:lnTo>
                      <a:lnTo>
                        <a:pt x="64" y="0"/>
                      </a:lnTo>
                      <a:lnTo>
                        <a:pt x="91" y="34"/>
                      </a:lnTo>
                      <a:lnTo>
                        <a:pt x="75" y="53"/>
                      </a:lnTo>
                      <a:lnTo>
                        <a:pt x="64" y="71"/>
                      </a:lnTo>
                      <a:lnTo>
                        <a:pt x="55" y="88"/>
                      </a:lnTo>
                      <a:lnTo>
                        <a:pt x="42" y="112"/>
                      </a:lnTo>
                      <a:lnTo>
                        <a:pt x="34" y="132"/>
                      </a:lnTo>
                      <a:lnTo>
                        <a:pt x="29" y="153"/>
                      </a:lnTo>
                      <a:lnTo>
                        <a:pt x="23" y="173"/>
                      </a:lnTo>
                      <a:lnTo>
                        <a:pt x="18" y="195"/>
                      </a:lnTo>
                      <a:lnTo>
                        <a:pt x="15" y="222"/>
                      </a:lnTo>
                      <a:lnTo>
                        <a:pt x="12" y="248"/>
                      </a:lnTo>
                      <a:lnTo>
                        <a:pt x="7" y="259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80808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" name=""/>
            <p:cNvSpPr/>
            <p:nvPr/>
          </p:nvSpPr>
          <p:spPr>
            <a:xfrm>
              <a:off x="2221920" y="4941360"/>
              <a:ext cx="1500840" cy="141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162160" y="4822920"/>
              <a:ext cx="1498680" cy="1416600"/>
              <a:chOff x="2162160" y="4822920"/>
              <a:chExt cx="1498680" cy="1416600"/>
            </a:xfrm>
          </p:grpSpPr>
          <p:sp>
            <p:nvSpPr>
              <p:cNvPr id="89" name=""/>
              <p:cNvSpPr/>
              <p:nvPr/>
            </p:nvSpPr>
            <p:spPr>
              <a:xfrm>
                <a:off x="2191320" y="4857120"/>
                <a:ext cx="1438920" cy="135144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162160" y="4822920"/>
                <a:ext cx="1498680" cy="14166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00320" y="4861080"/>
                <a:ext cx="1420560" cy="1346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 flipV="1">
            <a:off x="2819520" y="5373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55260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71800" y="5525640"/>
            <a:ext cx="0" cy="2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75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514600" y="5068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52680" y="506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486600" y="5863680"/>
            <a:ext cx="1049040" cy="649800"/>
            <a:chOff x="3486600" y="5863680"/>
            <a:chExt cx="1049040" cy="649800"/>
          </a:xfrm>
        </p:grpSpPr>
        <p:sp>
          <p:nvSpPr>
            <p:cNvPr id="99" name=""/>
            <p:cNvSpPr/>
            <p:nvPr/>
          </p:nvSpPr>
          <p:spPr>
            <a:xfrm>
              <a:off x="3563640" y="5908680"/>
              <a:ext cx="863280" cy="555120"/>
            </a:xfrm>
            <a:custGeom>
              <a:avLst/>
              <a:gdLst/>
              <a:ahLst/>
              <a:rect l="l" t="t" r="r" b="b"/>
              <a:pathLst>
                <a:path w="544" h="350">
                  <a:moveTo>
                    <a:pt x="0" y="97"/>
                  </a:moveTo>
                  <a:lnTo>
                    <a:pt x="489" y="349"/>
                  </a:lnTo>
                  <a:lnTo>
                    <a:pt x="543" y="238"/>
                  </a:lnTo>
                  <a:lnTo>
                    <a:pt x="60" y="0"/>
                  </a:lnTo>
                  <a:lnTo>
                    <a:pt x="0" y="97"/>
                  </a:lnTo>
                </a:path>
              </a:pathLst>
            </a:custGeom>
            <a:solidFill>
              <a:srgbClr val="5f3f1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9440000">
              <a:off x="3524760" y="5898960"/>
              <a:ext cx="180720" cy="18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4" y="13619"/>
                  </a:moveTo>
                  <a:arcTo wR="10800" hR="10800" stAng="9892286" swAng="10554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4" y="13619"/>
                  </a:moveTo>
                  <a:arcTo wR="10800" hR="10800" stAng="9892286" swAng="10554012"/>
                </a:path>
              </a:pathLst>
            </a:custGeom>
            <a:solidFill>
              <a:srgbClr val="5f3f1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440000">
              <a:off x="3540600" y="5910840"/>
              <a:ext cx="176760" cy="18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" y="12094"/>
                  </a:moveTo>
                  <a:arcTo wR="10800" hR="10800" stAng="10387096" swAng="10123609"/>
                  <a:lnTo>
                    <a:pt x="10800" y="10800"/>
                  </a:lnTo>
                  <a:close/>
                </a:path>
                <a:path fill="none" w="21600" h="21600">
                  <a:moveTo>
                    <a:pt x="78" y="12094"/>
                  </a:moveTo>
                  <a:arcTo wR="10800" hR="10800" stAng="10387096" swAng="10123609"/>
                </a:path>
              </a:pathLst>
            </a:custGeom>
            <a:solidFill>
              <a:srgbClr val="5f3f1f"/>
            </a:soli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7280" y="5959440"/>
              <a:ext cx="145440" cy="16632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22" y="67"/>
                  </a:moveTo>
                  <a:lnTo>
                    <a:pt x="15" y="61"/>
                  </a:lnTo>
                  <a:lnTo>
                    <a:pt x="10" y="54"/>
                  </a:lnTo>
                  <a:lnTo>
                    <a:pt x="7" y="46"/>
                  </a:lnTo>
                  <a:lnTo>
                    <a:pt x="4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80" y="37"/>
                  </a:lnTo>
                  <a:lnTo>
                    <a:pt x="76" y="44"/>
                  </a:lnTo>
                  <a:lnTo>
                    <a:pt x="76" y="52"/>
                  </a:lnTo>
                  <a:lnTo>
                    <a:pt x="75" y="59"/>
                  </a:lnTo>
                  <a:lnTo>
                    <a:pt x="75" y="67"/>
                  </a:lnTo>
                  <a:lnTo>
                    <a:pt x="77" y="79"/>
                  </a:lnTo>
                  <a:lnTo>
                    <a:pt x="84" y="94"/>
                  </a:lnTo>
                  <a:lnTo>
                    <a:pt x="91" y="104"/>
                  </a:lnTo>
                  <a:lnTo>
                    <a:pt x="22" y="67"/>
                  </a:lnTo>
                </a:path>
              </a:pathLst>
            </a:custGeom>
            <a:solidFill>
              <a:srgbClr val="3f1f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440000">
              <a:off x="3521520" y="5901480"/>
              <a:ext cx="18324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0" y="13640"/>
                  </a:moveTo>
                  <a:arcTo wR="10800" hR="10800" stAng="9885106" swAng="5060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0" y="13640"/>
                  </a:moveTo>
                  <a:arcTo wR="10800" hR="10800" stAng="9885106" swAng="506010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440000">
              <a:off x="3645000" y="5958360"/>
              <a:ext cx="182520" cy="1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13419"/>
                  </a:moveTo>
                  <a:arcTo wR="10800" hR="10800" stAng="9958075" swAng="1059438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13419"/>
                  </a:moveTo>
                  <a:arcTo wR="10800" hR="10800" stAng="9958075" swAng="10594381"/>
                </a:path>
              </a:pathLst>
            </a:custGeom>
            <a:solidFill>
              <a:srgbClr val="7f3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622320" y="5928840"/>
              <a:ext cx="272520" cy="262440"/>
              <a:chOff x="3622320" y="5928840"/>
              <a:chExt cx="272520" cy="2624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622320" y="5928840"/>
                <a:ext cx="251640" cy="251640"/>
                <a:chOff x="3622320" y="5928840"/>
                <a:chExt cx="251640" cy="251640"/>
              </a:xfrm>
            </p:grpSpPr>
            <p:sp>
              <p:nvSpPr>
                <p:cNvPr id="107" name=""/>
                <p:cNvSpPr/>
                <p:nvPr/>
              </p:nvSpPr>
              <p:spPr>
                <a:xfrm rot="19440000">
                  <a:off x="3660480" y="5974200"/>
                  <a:ext cx="17208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5" y="12994"/>
                      </a:moveTo>
                      <a:arcTo wR="10800" hR="10800" stAng="10096611" swAng="105831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5" y="12994"/>
                      </a:moveTo>
                      <a:arcTo wR="10800" hR="10800" stAng="10096611" swAng="10583169"/>
                    </a:path>
                  </a:pathLst>
                </a:custGeom>
                <a:solidFill>
                  <a:srgbClr val="5f3f1f"/>
                </a:solidFill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9440000">
                  <a:off x="3663360" y="5975280"/>
                  <a:ext cx="170280" cy="16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4" y="13034"/>
                      </a:moveTo>
                      <a:arcTo wR="10800" hR="10800" stAng="10083597" swAng="43514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4" y="13034"/>
                      </a:moveTo>
                      <a:arcTo wR="10800" hR="10800" stAng="10083597" swAng="4351467"/>
                    </a:path>
                  </a:pathLst>
                </a:custGeom>
                <a:solidFill>
                  <a:srgbClr val="3f1f00"/>
                </a:solidFill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9440000">
                  <a:off x="3657960" y="5964480"/>
                  <a:ext cx="1800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0" y="13242"/>
                      </a:moveTo>
                      <a:arcTo wR="10800" hR="10800" stAng="10015841" swAng="106688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0" y="13242"/>
                      </a:moveTo>
                      <a:arcTo wR="10800" hR="10800" stAng="10015841" swAng="1066885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 rot="19440000">
                <a:off x="3680280" y="5975280"/>
                <a:ext cx="178560" cy="18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5" y="13222"/>
                    </a:moveTo>
                    <a:arcTo wR="10800" hR="10800" stAng="10022487" swAng="10653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5" y="13222"/>
                    </a:moveTo>
                    <a:arcTo wR="10800" hR="10800" stAng="10022487" swAng="10653848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659760" y="5947560"/>
              <a:ext cx="268200" cy="263160"/>
              <a:chOff x="3659760" y="5947560"/>
              <a:chExt cx="268200" cy="263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659760" y="5947560"/>
                <a:ext cx="251280" cy="251640"/>
                <a:chOff x="3659760" y="5947560"/>
                <a:chExt cx="251280" cy="251640"/>
              </a:xfrm>
            </p:grpSpPr>
            <p:sp>
              <p:nvSpPr>
                <p:cNvPr id="113" name=""/>
                <p:cNvSpPr/>
                <p:nvPr/>
              </p:nvSpPr>
              <p:spPr>
                <a:xfrm rot="19440000">
                  <a:off x="3698280" y="5990040"/>
                  <a:ext cx="17064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5"/>
                      </a:moveTo>
                      <a:arcTo wR="10800" hR="10800" stAng="10034548" swAng="106613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5"/>
                      </a:moveTo>
                      <a:arcTo wR="10800" hR="10800" stAng="10034548" swAng="10661343"/>
                    </a:path>
                  </a:pathLst>
                </a:custGeom>
                <a:solidFill>
                  <a:srgbClr val="5f3f1f"/>
                </a:solidFill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9440000">
                  <a:off x="3697200" y="5990400"/>
                  <a:ext cx="173160" cy="17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1" y="12975"/>
                      </a:moveTo>
                      <a:arcTo wR="10800" hR="10800" stAng="10102947" swAng="43490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1" y="12975"/>
                      </a:moveTo>
                      <a:arcTo wR="10800" hR="10800" stAng="10102947" swAng="4349095"/>
                    </a:path>
                  </a:pathLst>
                </a:custGeom>
                <a:solidFill>
                  <a:srgbClr val="3f1f00"/>
                </a:solidFill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9440000">
                  <a:off x="3695400" y="5983200"/>
                  <a:ext cx="180000" cy="18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6" y="13044"/>
                      </a:moveTo>
                      <a:arcTo wR="10800" hR="10800" stAng="10080441" swAng="10611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6" y="13044"/>
                      </a:moveTo>
                      <a:arcTo wR="10800" hR="10800" stAng="10080441" swAng="106118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 rot="19440000">
                <a:off x="3713760" y="5997240"/>
                <a:ext cx="178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0" y="13063"/>
                    </a:moveTo>
                    <a:arcTo wR="10800" hR="10800" stAng="10074315" swAng="105354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0" y="13063"/>
                    </a:moveTo>
                    <a:arcTo wR="10800" hR="10800" stAng="10074315" swAng="10535424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697560" y="5974200"/>
              <a:ext cx="241560" cy="240840"/>
              <a:chOff x="3697560" y="5974200"/>
              <a:chExt cx="241560" cy="240840"/>
            </a:xfrm>
          </p:grpSpPr>
          <p:sp>
            <p:nvSpPr>
              <p:cNvPr id="118" name=""/>
              <p:cNvSpPr/>
              <p:nvPr/>
            </p:nvSpPr>
            <p:spPr>
              <a:xfrm rot="19440000">
                <a:off x="3730680" y="6009480"/>
                <a:ext cx="174960" cy="17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1" y="12975"/>
                    </a:moveTo>
                    <a:arcTo wR="10800" hR="10800" stAng="10103059" swAng="106479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1" y="12975"/>
                    </a:moveTo>
                    <a:arcTo wR="10800" hR="10800" stAng="10103059" swAng="10647986"/>
                  </a:path>
                </a:pathLst>
              </a:custGeom>
              <a:solidFill>
                <a:srgbClr val="5f3f1f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440000">
                <a:off x="3732120" y="6009840"/>
                <a:ext cx="173160" cy="1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5" y="12994"/>
                    </a:moveTo>
                    <a:arcTo wR="10800" hR="10800" stAng="10096728" swAng="436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5" y="12994"/>
                    </a:moveTo>
                    <a:arcTo wR="10800" hR="10800" stAng="10096728" swAng="4368632"/>
                  </a:path>
                </a:pathLst>
              </a:custGeom>
              <a:solidFill>
                <a:srgbClr val="3f1f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693600" y="5965200"/>
              <a:ext cx="266760" cy="258840"/>
              <a:chOff x="3693600" y="5965200"/>
              <a:chExt cx="266760" cy="258840"/>
            </a:xfrm>
          </p:grpSpPr>
          <p:sp>
            <p:nvSpPr>
              <p:cNvPr id="121" name=""/>
              <p:cNvSpPr/>
              <p:nvPr/>
            </p:nvSpPr>
            <p:spPr>
              <a:xfrm rot="19440000">
                <a:off x="3729240" y="6001200"/>
                <a:ext cx="1810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" y="12864"/>
                    </a:moveTo>
                    <a:arcTo wR="10800" hR="10800" stAng="10139023" swAng="106563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" y="12864"/>
                    </a:moveTo>
                    <a:arcTo wR="10800" hR="10800" stAng="10139023" swAng="1065631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9440000">
                <a:off x="3745080" y="6013440"/>
                <a:ext cx="18108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" y="12917"/>
                    </a:moveTo>
                    <a:arcTo wR="10800" hR="10800" stAng="10121613" swAng="10652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" y="12917"/>
                    </a:moveTo>
                    <a:arcTo wR="10800" hR="10800" stAng="10121613" swAng="10652793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63640" y="5908680"/>
              <a:ext cx="867600" cy="558000"/>
              <a:chOff x="3563640" y="5908680"/>
              <a:chExt cx="867600" cy="558000"/>
            </a:xfrm>
          </p:grpSpPr>
          <p:sp>
            <p:nvSpPr>
              <p:cNvPr id="124" name=""/>
              <p:cNvSpPr/>
              <p:nvPr/>
            </p:nvSpPr>
            <p:spPr>
              <a:xfrm>
                <a:off x="3663360" y="5908680"/>
                <a:ext cx="767880" cy="37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63640" y="6065280"/>
                <a:ext cx="788760" cy="40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727800" y="5981760"/>
              <a:ext cx="260640" cy="251280"/>
              <a:chOff x="3727800" y="5981760"/>
              <a:chExt cx="260640" cy="2512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732480" y="5987160"/>
                <a:ext cx="241560" cy="244800"/>
                <a:chOff x="3732480" y="5987160"/>
                <a:chExt cx="241560" cy="244800"/>
              </a:xfrm>
            </p:grpSpPr>
            <p:sp>
              <p:nvSpPr>
                <p:cNvPr id="128" name=""/>
                <p:cNvSpPr/>
                <p:nvPr/>
              </p:nvSpPr>
              <p:spPr>
                <a:xfrm rot="19440000">
                  <a:off x="3765960" y="6026400"/>
                  <a:ext cx="174600" cy="17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7" y="12802"/>
                      </a:moveTo>
                      <a:arcTo wR="10800" hR="10800" stAng="10159120" swAng="106617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7" y="12802"/>
                      </a:moveTo>
                      <a:arcTo wR="10800" hR="10800" stAng="10159120" swAng="10661730"/>
                    </a:path>
                  </a:pathLst>
                </a:custGeom>
                <a:solidFill>
                  <a:srgbClr val="5f3f1f"/>
                </a:solidFill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9440000">
                  <a:off x="3765600" y="6022080"/>
                  <a:ext cx="173880" cy="169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4" y="12784"/>
                      </a:moveTo>
                      <a:arcTo wR="10800" hR="10800" stAng="10164814" swAng="42872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4" y="12784"/>
                      </a:moveTo>
                      <a:arcTo wR="10800" hR="10800" stAng="10164814" swAng="4287228"/>
                    </a:path>
                  </a:pathLst>
                </a:custGeom>
                <a:solidFill>
                  <a:srgbClr val="3f1f00"/>
                </a:solidFill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 rot="19440000">
                <a:off x="3762360" y="6017760"/>
                <a:ext cx="181440" cy="17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" y="12698"/>
                    </a:moveTo>
                    <a:arcTo wR="10800" hR="10800" stAng="10192612" swAng="10535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" y="12698"/>
                    </a:moveTo>
                    <a:arcTo wR="10800" hR="10800" stAng="10192612" swAng="1053599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440000">
                <a:off x="3780360" y="6029640"/>
                <a:ext cx="175320" cy="16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1" y="13206"/>
                    </a:moveTo>
                    <a:arcTo wR="10800" hR="10800" stAng="10027820" swAng="106444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1" y="13206"/>
                    </a:moveTo>
                    <a:arcTo wR="10800" hR="10800" stAng="10027820" swAng="10644458"/>
                  </a:path>
                </a:pathLst>
              </a:custGeom>
              <a:solidFill>
                <a:srgbClr val="5f3f1f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773160" y="6083280"/>
              <a:ext cx="585360" cy="372600"/>
            </a:xfrm>
            <a:custGeom>
              <a:avLst/>
              <a:gdLst/>
              <a:ahLst/>
              <a:rect l="l" t="t" r="r" b="b"/>
              <a:pathLst>
                <a:path w="369" h="235">
                  <a:moveTo>
                    <a:pt x="7" y="0"/>
                  </a:moveTo>
                  <a:lnTo>
                    <a:pt x="2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3" y="40"/>
                  </a:lnTo>
                  <a:lnTo>
                    <a:pt x="6" y="47"/>
                  </a:lnTo>
                  <a:lnTo>
                    <a:pt x="10" y="54"/>
                  </a:lnTo>
                  <a:lnTo>
                    <a:pt x="17" y="63"/>
                  </a:lnTo>
                  <a:lnTo>
                    <a:pt x="348" y="234"/>
                  </a:lnTo>
                  <a:lnTo>
                    <a:pt x="368" y="173"/>
                  </a:lnTo>
                  <a:lnTo>
                    <a:pt x="7" y="0"/>
                  </a:lnTo>
                </a:path>
              </a:pathLst>
            </a:custGeom>
            <a:solidFill>
              <a:srgbClr val="3f1f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440000">
              <a:off x="4312800" y="6289200"/>
              <a:ext cx="185400" cy="187200"/>
            </a:xfrm>
            <a:prstGeom prst="ellipse">
              <a:avLst/>
            </a:prstGeom>
            <a:solidFill>
              <a:srgbClr val="7f5f3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A81-413B-4837-BDE3-C26773155F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 Service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58672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group, messag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rece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messag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jo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group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ea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group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i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group, members, id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w id is incr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18288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125"/>
                </a:lnTo>
                <a:cubicBezTo>
                  <a:pt x="10800" y="11025"/>
                  <a:pt x="16200" y="11925"/>
                  <a:pt x="21600" y="11925"/>
                </a:cubicBezTo>
                <a:cubicBezTo>
                  <a:pt x="16200" y="11925"/>
                  <a:pt x="10800" y="12825"/>
                  <a:pt x="10800" y="1372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58128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125"/>
                </a:lnTo>
                <a:cubicBezTo>
                  <a:pt x="10800" y="11025"/>
                  <a:pt x="16200" y="11925"/>
                  <a:pt x="21600" y="11925"/>
                </a:cubicBezTo>
                <a:cubicBezTo>
                  <a:pt x="16200" y="11925"/>
                  <a:pt x="10800" y="12825"/>
                  <a:pt x="10800" y="1372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9440" y="22096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61600" y="457200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A9B-7F0E-4E8A-B243-0F3DEC2553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antics: “Virtual Synchrony”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rman et al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87]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members that remain connected see events in same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s: messages, views (totally ordered mca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for “state-machine” replication with fault tolerance, local consis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ed members go through same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members get state trans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o replicated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unit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5C2-67F4-4413-932F-8EED03E85C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ghly-Available Service: Multicast Group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362320" y="2362320"/>
            <a:ext cx="4267080" cy="3429000"/>
            <a:chOff x="2362320" y="2362320"/>
            <a:chExt cx="4267080" cy="3429000"/>
          </a:xfrm>
        </p:grpSpPr>
        <p:sp>
          <p:nvSpPr>
            <p:cNvPr id="144" name=""/>
            <p:cNvSpPr/>
            <p:nvPr/>
          </p:nvSpPr>
          <p:spPr>
            <a:xfrm>
              <a:off x="2362320" y="3048120"/>
              <a:ext cx="2819160" cy="2361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05320" y="2362320"/>
              <a:ext cx="2971800" cy="22096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3429000"/>
              <a:ext cx="2743200" cy="2362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1066680" y="5334120"/>
          <a:ext cx="61920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5334120"/>
                    <a:ext cx="6192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543800" y="5486400"/>
          <a:ext cx="61920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43800" y="5486400"/>
                    <a:ext cx="6192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34320" y="1752480"/>
          <a:ext cx="618840" cy="5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34320" y="1752480"/>
                    <a:ext cx="618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81480" y="2209680"/>
          <a:ext cx="514440" cy="132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220968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971800" y="3657600"/>
          <a:ext cx="514440" cy="1324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365760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791320" y="4267080"/>
          <a:ext cx="514080" cy="132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91320" y="4267080"/>
                    <a:ext cx="5140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495680" y="2209680"/>
          <a:ext cx="514440" cy="1324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95680" y="220968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657600" y="2819520"/>
          <a:ext cx="514440" cy="1323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7600" y="2819520"/>
                    <a:ext cx="514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3352680"/>
          <a:ext cx="514440" cy="1324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81480" y="335268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638680" y="3352680"/>
          <a:ext cx="514440" cy="1324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335268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495680" y="3429000"/>
          <a:ext cx="514440" cy="1324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95680" y="342900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181480" y="4419720"/>
          <a:ext cx="514440" cy="1323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181480" y="4419720"/>
                    <a:ext cx="514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133720" y="2209680"/>
            <a:ext cx="4952880" cy="37339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523880"/>
            <a:ext cx="1524240" cy="990720"/>
          </a:xfrm>
          <a:prstGeom prst="wedgeRoundRectCallout">
            <a:avLst>
              <a:gd name="adj1" fmla="val 89689"/>
              <a:gd name="adj2" fmla="val 31731"/>
              <a:gd name="adj3" fmla="val 16667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38080" y="1905120"/>
            <a:ext cx="8153640" cy="3047760"/>
            <a:chOff x="838080" y="1905120"/>
            <a:chExt cx="8153640" cy="3047760"/>
          </a:xfrm>
        </p:grpSpPr>
        <p:sp>
          <p:nvSpPr>
            <p:cNvPr id="174" name=""/>
            <p:cNvSpPr/>
            <p:nvPr/>
          </p:nvSpPr>
          <p:spPr>
            <a:xfrm>
              <a:off x="7467480" y="2286000"/>
              <a:ext cx="1447920" cy="1219320"/>
            </a:xfrm>
            <a:prstGeom prst="wedgeRoundRectCallout">
              <a:avLst>
                <a:gd name="adj1" fmla="val -116120"/>
                <a:gd name="adj2" fmla="val 50912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rouc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1905120"/>
              <a:ext cx="1600200" cy="1218960"/>
            </a:xfrm>
            <a:prstGeom prst="wedgeRoundRectCallout">
              <a:avLst>
                <a:gd name="adj1" fmla="val 81250"/>
                <a:gd name="adj2" fmla="val 61069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tent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adia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3733920"/>
              <a:ext cx="1447920" cy="1218960"/>
            </a:xfrm>
            <a:prstGeom prst="wedgeRoundRectCallout">
              <a:avLst>
                <a:gd name="adj1" fmla="val -116120"/>
                <a:gd name="adj2" fmla="val 44662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y K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38080" y="1905120"/>
            <a:ext cx="8077320" cy="3793320"/>
            <a:chOff x="838080" y="1905120"/>
            <a:chExt cx="8077320" cy="3793320"/>
          </a:xfrm>
        </p:grpSpPr>
        <p:grpSp>
          <p:nvGrpSpPr>
            <p:cNvPr id="178" name=""/>
            <p:cNvGrpSpPr/>
            <p:nvPr/>
          </p:nvGrpSpPr>
          <p:grpSpPr>
            <a:xfrm>
              <a:off x="2743200" y="2362320"/>
              <a:ext cx="3789000" cy="3336120"/>
              <a:chOff x="2743200" y="2362320"/>
              <a:chExt cx="3789000" cy="333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2743200" y="3809880"/>
                <a:ext cx="838080" cy="114300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43400" y="2362320"/>
                <a:ext cx="1371600" cy="99036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346000">
                <a:off x="5028840" y="4495320"/>
                <a:ext cx="1371600" cy="99072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248520" y="5029200"/>
              <a:ext cx="1218960" cy="609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562720" y="2057040"/>
              <a:ext cx="1218960" cy="609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676520" y="4495680"/>
              <a:ext cx="1218960" cy="990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838080" y="1905120"/>
              <a:ext cx="8077320" cy="2133360"/>
              <a:chOff x="838080" y="1905120"/>
              <a:chExt cx="8077320" cy="2133360"/>
            </a:xfrm>
          </p:grpSpPr>
          <p:sp>
            <p:nvSpPr>
              <p:cNvPr id="186" name=""/>
              <p:cNvSpPr/>
              <p:nvPr/>
            </p:nvSpPr>
            <p:spPr>
              <a:xfrm>
                <a:off x="838080" y="2895480"/>
                <a:ext cx="1371600" cy="914400"/>
              </a:xfrm>
              <a:prstGeom prst="wedgeRoundRectCallout">
                <a:avLst>
                  <a:gd name="adj1" fmla="val 93055"/>
                  <a:gd name="adj2" fmla="val 85763"/>
                  <a:gd name="adj3" fmla="val 16667"/>
                </a:avLst>
              </a:prstGeom>
              <a:noFill/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Ses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Grou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467480" y="3124080"/>
                <a:ext cx="1371600" cy="914400"/>
              </a:xfrm>
              <a:prstGeom prst="wedgeRoundRectCallout">
                <a:avLst>
                  <a:gd name="adj1" fmla="val -131250"/>
                  <a:gd name="adj2" fmla="val 105384"/>
                  <a:gd name="adj3" fmla="val 16667"/>
                </a:avLst>
              </a:prstGeom>
              <a:noFill/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Ses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Grou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543800" y="1905120"/>
                <a:ext cx="1371600" cy="914400"/>
              </a:xfrm>
              <a:prstGeom prst="wedgeRoundRectCallout">
                <a:avLst>
                  <a:gd name="adj1" fmla="val -181250"/>
                  <a:gd name="adj2" fmla="val 56425"/>
                  <a:gd name="adj3" fmla="val 16667"/>
                </a:avLst>
              </a:prstGeom>
              <a:noFill/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Ses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Grou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4F1-BEB5-4C1B-B91C-9C1C7F7A2F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ssages to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2362320"/>
            <a:ext cx="2971800" cy="2209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077320" y="1676520"/>
          <a:ext cx="61884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1676520"/>
                    <a:ext cx="6188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181480" y="2209680"/>
          <a:ext cx="514440" cy="13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20968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971800" y="3657600"/>
          <a:ext cx="514440" cy="132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365760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867280" y="4191120"/>
          <a:ext cx="514440" cy="132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4191120"/>
                    <a:ext cx="514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657600" y="2819520"/>
          <a:ext cx="514440" cy="132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2819520"/>
                    <a:ext cx="514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181480" y="3048120"/>
          <a:ext cx="514440" cy="1323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81480" y="3048120"/>
                    <a:ext cx="514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638680" y="3352680"/>
          <a:ext cx="514440" cy="1324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38680" y="335268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95680" y="3429000"/>
          <a:ext cx="514440" cy="132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95680" y="3429000"/>
                    <a:ext cx="514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029200" y="4648320"/>
          <a:ext cx="514440" cy="1323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29200" y="4648320"/>
                    <a:ext cx="514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133720" y="2209680"/>
            <a:ext cx="4952880" cy="37339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19560" y="1629000"/>
            <a:ext cx="1904760" cy="885600"/>
            <a:chOff x="6019560" y="1629000"/>
            <a:chExt cx="1904760" cy="885600"/>
          </a:xfrm>
        </p:grpSpPr>
        <p:sp>
          <p:nvSpPr>
            <p:cNvPr id="211" name=""/>
            <p:cNvSpPr/>
            <p:nvPr/>
          </p:nvSpPr>
          <p:spPr>
            <a:xfrm flipH="1">
              <a:off x="6019560" y="1828800"/>
              <a:ext cx="1904760" cy="685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529000">
              <a:off x="6397920" y="1810800"/>
              <a:ext cx="12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ntent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95520" y="1860120"/>
            <a:ext cx="1676520" cy="883080"/>
            <a:chOff x="6095520" y="1860120"/>
            <a:chExt cx="1676520" cy="883080"/>
          </a:xfrm>
        </p:grpSpPr>
        <p:sp>
          <p:nvSpPr>
            <p:cNvPr id="214" name=""/>
            <p:cNvSpPr/>
            <p:nvPr/>
          </p:nvSpPr>
          <p:spPr>
            <a:xfrm flipH="1">
              <a:off x="6095520" y="2133720"/>
              <a:ext cx="167652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376600">
              <a:off x="6629400" y="1981080"/>
              <a:ext cx="7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29200" y="2438280"/>
            <a:ext cx="685800" cy="18288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15000" y="1886400"/>
            <a:ext cx="2286000" cy="1161360"/>
            <a:chOff x="5715000" y="1886400"/>
            <a:chExt cx="2286000" cy="1161360"/>
          </a:xfrm>
        </p:grpSpPr>
        <p:sp>
          <p:nvSpPr>
            <p:cNvPr id="218" name=""/>
            <p:cNvSpPr/>
            <p:nvPr/>
          </p:nvSpPr>
          <p:spPr>
            <a:xfrm flipV="1">
              <a:off x="5715000" y="2209680"/>
              <a:ext cx="2286000" cy="8380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0418000">
              <a:off x="6784920" y="20570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93840" y="1904760"/>
            <a:ext cx="1720800" cy="1500840"/>
            <a:chOff x="3993840" y="1904760"/>
            <a:chExt cx="1720800" cy="1500840"/>
          </a:xfrm>
        </p:grpSpPr>
        <p:sp>
          <p:nvSpPr>
            <p:cNvPr id="221" name=""/>
            <p:cNvSpPr/>
            <p:nvPr/>
          </p:nvSpPr>
          <p:spPr>
            <a:xfrm flipH="1" flipV="1">
              <a:off x="4494960" y="190440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-360 h 990360"/>
                <a:gd name="textAreaBottom" fmla="*/ 99036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95" y="15266"/>
                  </a:moveTo>
                  <a:arcTo wR="-10502" hR="-10502" stAng="9290127" swAng="-4343481"/>
                  <a:lnTo>
                    <a:pt x="9380" y="94"/>
                  </a:lnTo>
                  <a:arcTo wR="10800" hR="10800" stAng="-5853354" swAng="4343481"/>
                  <a:lnTo>
                    <a:pt x="23019" y="5060"/>
                  </a:lnTo>
                  <a:lnTo>
                    <a:pt x="21652" y="8850"/>
                  </a:lnTo>
                  <a:lnTo>
                    <a:pt x="17862" y="74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341600">
              <a:off x="4037760" y="2742840"/>
              <a:ext cx="11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5B1-DD65-4A14-A1C7-ECF2F91C05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ver Session Set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tart-se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rives, use local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unit databa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hoose primary and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ck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and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vel backups join session group (thus creating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sends session group name to client, serves content to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9F5-BF0D-46F3-8A6B-BD0D47BCAB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g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ggered by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i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content gro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transfer to new me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cal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unit datab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hoose new primary and backups per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vel backup as primary if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virtual synchrony, same decision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sen primaries and backups join session group, primary sends content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6C7-66F9-473C-8779-3DBDF61DFF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igurable Para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icas per content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vel back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 updates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60A-5883-452A-A3AD-5991BDDC709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ilability Analysis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d 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hip service not live, or does not give servers consistent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t migration decisions not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lead to no service or duplicate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ontent unit replicas cras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ervic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 lost in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depends on configurable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BB5-E56A-4F50-ABC9-F0E035E407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availability by replication of content and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communication facilitates context re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vs. load trade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levels of fres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gurable fres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5B1-B2D3-421A-9D85-EFCF05672F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ghly Available Serv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through re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et of serv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load-balancing, adding new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fault-tolerance, when servers fail / det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connect to ‘abstract’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mptive migration: client can be migrated in on-going session / trans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554-0FAF-41DD-89F8-6A616ED9C7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pired b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ly available Video-on-Demand (Vo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ker, Keidar, Dole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CDCS 99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group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 written in 2500 C++ code lines, including all availability 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group communication not 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B57-EB50-42C3-90F6-34744153A1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s stor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tent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ly replicated among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: no updates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-service interaction in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 is stateful during se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stores changing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ontex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 served according to client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CDF-F436-45DB-9044-6A84CB1E50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 unit = movie, partially replic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: location in movie, transmission rate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ie frames sent to client depend on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can random access -- changes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ve qu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5A2-C517-4AC3-AEFE-A3B1ABFFEB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 request leads to appropriat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in face of fail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replication (can be part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preemptive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for varying number of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vary number of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clients, flexibl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ility is servers’ responsi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470-9E4B-47E2-B26E-1CA88FD980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sible Problems at Mig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t request (sent to dead server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le”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levant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t response (sent by dying ser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plicat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what failure patterns cause problem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s of minimizing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E7A-156B-466C-A810-33B9C994F1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olution: The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, not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ble in several paramet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different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rver assigned to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mptive migration to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ups mirror session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freshness at backup – configu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D52-640A-49CF-AE17-614C77422B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79246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lication of Context Info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ee levels of Fresh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Unit datab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 content un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ed among all servers of content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 updates, frequency configu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 reflecting all client reques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primary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vel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 reflecting server responses to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prim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190-97EF-4B12-9321-5AB67AC683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>Idit Keidar</dc:creator>
  <dc:description/>
  <dc:language>en-US</dc:language>
  <cp:lastModifiedBy>KEIDAR-MX</cp:lastModifiedBy>
  <cp:lastPrinted>2001-04-13T17:45:10Z</cp:lastPrinted>
  <dcterms:modified xsi:type="dcterms:W3CDTF">2001-04-16T16:48:11Z</dcterms:modified>
  <cp:revision>1499</cp:revision>
  <dc:subject/>
  <dc:title>Paradigms for distributed systems: GCS and QoS preserving totally ordered multicast</dc:title>
</cp:coreProperties>
</file>