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76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344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76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344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9200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576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9344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576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9344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9200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604800" cy="6853320"/>
          </a:xfrm>
          <a:custGeom>
            <a:avLst/>
            <a:gdLst/>
            <a:ahLst/>
            <a:rect l="l" t="t" r="r" b="b"/>
            <a:pathLst>
              <a:path w="1686" h="19042">
                <a:moveTo>
                  <a:pt x="0" y="0"/>
                </a:moveTo>
                <a:lnTo>
                  <a:pt x="0" y="19041"/>
                </a:lnTo>
                <a:lnTo>
                  <a:pt x="559" y="19041"/>
                </a:lnTo>
                <a:lnTo>
                  <a:pt x="559" y="0"/>
                </a:lnTo>
                <a:lnTo>
                  <a:pt x="1124" y="0"/>
                </a:lnTo>
                <a:lnTo>
                  <a:pt x="1124" y="19041"/>
                </a:lnTo>
                <a:lnTo>
                  <a:pt x="1685" y="19041"/>
                </a:lnTo>
                <a:lnTo>
                  <a:pt x="1685" y="0"/>
                </a:lnTo>
                <a:lnTo>
                  <a:pt x="1685" y="653"/>
                </a:lnTo>
                <a:lnTo>
                  <a:pt x="0" y="653"/>
                </a:lnTo>
                <a:lnTo>
                  <a:pt x="0" y="1312"/>
                </a:lnTo>
                <a:lnTo>
                  <a:pt x="1685" y="1312"/>
                </a:lnTo>
                <a:lnTo>
                  <a:pt x="1685" y="1967"/>
                </a:lnTo>
                <a:lnTo>
                  <a:pt x="0" y="1967"/>
                </a:lnTo>
                <a:lnTo>
                  <a:pt x="0" y="2626"/>
                </a:lnTo>
                <a:lnTo>
                  <a:pt x="1685" y="2626"/>
                </a:lnTo>
                <a:lnTo>
                  <a:pt x="1685" y="3282"/>
                </a:lnTo>
                <a:lnTo>
                  <a:pt x="0" y="3282"/>
                </a:lnTo>
                <a:lnTo>
                  <a:pt x="0" y="3936"/>
                </a:lnTo>
                <a:lnTo>
                  <a:pt x="1685" y="3936"/>
                </a:lnTo>
                <a:lnTo>
                  <a:pt x="1685" y="4596"/>
                </a:lnTo>
                <a:lnTo>
                  <a:pt x="0" y="4596"/>
                </a:lnTo>
                <a:lnTo>
                  <a:pt x="0" y="5250"/>
                </a:lnTo>
                <a:lnTo>
                  <a:pt x="1685" y="5250"/>
                </a:lnTo>
                <a:lnTo>
                  <a:pt x="1685" y="5910"/>
                </a:lnTo>
                <a:lnTo>
                  <a:pt x="0" y="5910"/>
                </a:lnTo>
                <a:lnTo>
                  <a:pt x="0" y="6565"/>
                </a:lnTo>
                <a:lnTo>
                  <a:pt x="1685" y="6565"/>
                </a:lnTo>
                <a:lnTo>
                  <a:pt x="1685" y="7224"/>
                </a:lnTo>
                <a:lnTo>
                  <a:pt x="0" y="7224"/>
                </a:lnTo>
                <a:lnTo>
                  <a:pt x="0" y="7880"/>
                </a:lnTo>
                <a:lnTo>
                  <a:pt x="1685" y="7880"/>
                </a:lnTo>
                <a:lnTo>
                  <a:pt x="1685" y="8533"/>
                </a:lnTo>
                <a:lnTo>
                  <a:pt x="0" y="8533"/>
                </a:lnTo>
                <a:lnTo>
                  <a:pt x="0" y="9192"/>
                </a:lnTo>
                <a:lnTo>
                  <a:pt x="1685" y="9192"/>
                </a:lnTo>
                <a:lnTo>
                  <a:pt x="1685" y="9847"/>
                </a:lnTo>
                <a:lnTo>
                  <a:pt x="0" y="9847"/>
                </a:lnTo>
                <a:lnTo>
                  <a:pt x="0" y="10507"/>
                </a:lnTo>
                <a:lnTo>
                  <a:pt x="1685" y="10507"/>
                </a:lnTo>
                <a:lnTo>
                  <a:pt x="1685" y="11162"/>
                </a:lnTo>
                <a:lnTo>
                  <a:pt x="0" y="11162"/>
                </a:lnTo>
                <a:lnTo>
                  <a:pt x="0" y="11817"/>
                </a:lnTo>
                <a:lnTo>
                  <a:pt x="1685" y="11817"/>
                </a:lnTo>
                <a:lnTo>
                  <a:pt x="1685" y="12476"/>
                </a:lnTo>
                <a:lnTo>
                  <a:pt x="0" y="12476"/>
                </a:lnTo>
                <a:lnTo>
                  <a:pt x="0" y="13130"/>
                </a:lnTo>
                <a:lnTo>
                  <a:pt x="1685" y="13130"/>
                </a:lnTo>
                <a:lnTo>
                  <a:pt x="1685" y="13790"/>
                </a:lnTo>
                <a:lnTo>
                  <a:pt x="0" y="13790"/>
                </a:lnTo>
                <a:lnTo>
                  <a:pt x="0" y="14445"/>
                </a:lnTo>
                <a:lnTo>
                  <a:pt x="1685" y="14445"/>
                </a:lnTo>
                <a:lnTo>
                  <a:pt x="1685" y="15105"/>
                </a:lnTo>
                <a:lnTo>
                  <a:pt x="0" y="15105"/>
                </a:lnTo>
                <a:lnTo>
                  <a:pt x="0" y="15759"/>
                </a:lnTo>
                <a:lnTo>
                  <a:pt x="1685" y="15759"/>
                </a:lnTo>
                <a:lnTo>
                  <a:pt x="1685" y="16415"/>
                </a:lnTo>
                <a:lnTo>
                  <a:pt x="0" y="16415"/>
                </a:lnTo>
                <a:lnTo>
                  <a:pt x="0" y="17073"/>
                </a:lnTo>
                <a:lnTo>
                  <a:pt x="1685" y="17073"/>
                </a:lnTo>
                <a:lnTo>
                  <a:pt x="1685" y="17729"/>
                </a:lnTo>
                <a:lnTo>
                  <a:pt x="0" y="17729"/>
                </a:lnTo>
                <a:lnTo>
                  <a:pt x="0" y="18387"/>
                </a:lnTo>
                <a:lnTo>
                  <a:pt x="1685" y="18387"/>
                </a:lnTo>
                <a:lnTo>
                  <a:pt x="1685" y="19041"/>
                </a:lnTo>
                <a:lnTo>
                  <a:pt x="0" y="19041"/>
                </a:lnTo>
                <a:lnTo>
                  <a:pt x="0" y="19041"/>
                </a:lnTo>
                <a:lnTo>
                  <a:pt x="1685" y="19041"/>
                </a:lnTo>
                <a:lnTo>
                  <a:pt x="1685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553080"/>
            <a:ext cx="388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Omar Bakr and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dit Keidar; PODC Jul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2280" y="0"/>
            <a:ext cx="604800" cy="6829560"/>
          </a:xfrm>
          <a:custGeom>
            <a:avLst/>
            <a:gdLst/>
            <a:ahLst/>
            <a:rect l="l" t="t" r="r" b="b"/>
            <a:pathLst>
              <a:path w="1686" h="18976">
                <a:moveTo>
                  <a:pt x="0" y="0"/>
                </a:moveTo>
                <a:lnTo>
                  <a:pt x="0" y="18975"/>
                </a:lnTo>
                <a:lnTo>
                  <a:pt x="559" y="18975"/>
                </a:lnTo>
                <a:lnTo>
                  <a:pt x="559" y="0"/>
                </a:lnTo>
                <a:lnTo>
                  <a:pt x="1124" y="0"/>
                </a:lnTo>
                <a:lnTo>
                  <a:pt x="1124" y="18975"/>
                </a:lnTo>
                <a:lnTo>
                  <a:pt x="1685" y="18975"/>
                </a:lnTo>
                <a:lnTo>
                  <a:pt x="1685" y="0"/>
                </a:lnTo>
                <a:lnTo>
                  <a:pt x="1685" y="651"/>
                </a:lnTo>
                <a:lnTo>
                  <a:pt x="0" y="651"/>
                </a:lnTo>
                <a:lnTo>
                  <a:pt x="0" y="1308"/>
                </a:lnTo>
                <a:lnTo>
                  <a:pt x="1685" y="1308"/>
                </a:lnTo>
                <a:lnTo>
                  <a:pt x="1685" y="1960"/>
                </a:lnTo>
                <a:lnTo>
                  <a:pt x="0" y="1960"/>
                </a:lnTo>
                <a:lnTo>
                  <a:pt x="0" y="2617"/>
                </a:lnTo>
                <a:lnTo>
                  <a:pt x="1685" y="2617"/>
                </a:lnTo>
                <a:lnTo>
                  <a:pt x="1685" y="3270"/>
                </a:lnTo>
                <a:lnTo>
                  <a:pt x="0" y="3270"/>
                </a:lnTo>
                <a:lnTo>
                  <a:pt x="0" y="3924"/>
                </a:lnTo>
                <a:lnTo>
                  <a:pt x="1685" y="3924"/>
                </a:lnTo>
                <a:lnTo>
                  <a:pt x="1685" y="4581"/>
                </a:lnTo>
                <a:lnTo>
                  <a:pt x="0" y="4581"/>
                </a:lnTo>
                <a:lnTo>
                  <a:pt x="0" y="5233"/>
                </a:lnTo>
                <a:lnTo>
                  <a:pt x="1685" y="5233"/>
                </a:lnTo>
                <a:lnTo>
                  <a:pt x="1685" y="5888"/>
                </a:lnTo>
                <a:lnTo>
                  <a:pt x="0" y="5888"/>
                </a:lnTo>
                <a:lnTo>
                  <a:pt x="0" y="6541"/>
                </a:lnTo>
                <a:lnTo>
                  <a:pt x="1685" y="6541"/>
                </a:lnTo>
                <a:lnTo>
                  <a:pt x="1685" y="7198"/>
                </a:lnTo>
                <a:lnTo>
                  <a:pt x="0" y="7198"/>
                </a:lnTo>
                <a:lnTo>
                  <a:pt x="0" y="7852"/>
                </a:lnTo>
                <a:lnTo>
                  <a:pt x="1685" y="7852"/>
                </a:lnTo>
                <a:lnTo>
                  <a:pt x="1685" y="8504"/>
                </a:lnTo>
                <a:lnTo>
                  <a:pt x="0" y="8504"/>
                </a:lnTo>
                <a:lnTo>
                  <a:pt x="0" y="9161"/>
                </a:lnTo>
                <a:lnTo>
                  <a:pt x="1685" y="9161"/>
                </a:lnTo>
                <a:lnTo>
                  <a:pt x="1685" y="9814"/>
                </a:lnTo>
                <a:lnTo>
                  <a:pt x="0" y="9814"/>
                </a:lnTo>
                <a:lnTo>
                  <a:pt x="0" y="10471"/>
                </a:lnTo>
                <a:lnTo>
                  <a:pt x="1685" y="10471"/>
                </a:lnTo>
                <a:lnTo>
                  <a:pt x="1685" y="11123"/>
                </a:lnTo>
                <a:lnTo>
                  <a:pt x="0" y="11123"/>
                </a:lnTo>
                <a:lnTo>
                  <a:pt x="0" y="11776"/>
                </a:lnTo>
                <a:lnTo>
                  <a:pt x="1685" y="11776"/>
                </a:lnTo>
                <a:lnTo>
                  <a:pt x="1685" y="12432"/>
                </a:lnTo>
                <a:lnTo>
                  <a:pt x="0" y="12432"/>
                </a:lnTo>
                <a:lnTo>
                  <a:pt x="0" y="13085"/>
                </a:lnTo>
                <a:lnTo>
                  <a:pt x="1685" y="13085"/>
                </a:lnTo>
                <a:lnTo>
                  <a:pt x="1685" y="13742"/>
                </a:lnTo>
                <a:lnTo>
                  <a:pt x="0" y="13742"/>
                </a:lnTo>
                <a:lnTo>
                  <a:pt x="0" y="14395"/>
                </a:lnTo>
                <a:lnTo>
                  <a:pt x="1685" y="14395"/>
                </a:lnTo>
                <a:lnTo>
                  <a:pt x="1685" y="15052"/>
                </a:lnTo>
                <a:lnTo>
                  <a:pt x="0" y="15052"/>
                </a:lnTo>
                <a:lnTo>
                  <a:pt x="0" y="15705"/>
                </a:lnTo>
                <a:lnTo>
                  <a:pt x="1685" y="15705"/>
                </a:lnTo>
                <a:lnTo>
                  <a:pt x="1685" y="16358"/>
                </a:lnTo>
                <a:lnTo>
                  <a:pt x="0" y="16358"/>
                </a:lnTo>
                <a:lnTo>
                  <a:pt x="0" y="17015"/>
                </a:lnTo>
                <a:lnTo>
                  <a:pt x="1685" y="17015"/>
                </a:lnTo>
                <a:lnTo>
                  <a:pt x="1685" y="17667"/>
                </a:lnTo>
                <a:lnTo>
                  <a:pt x="0" y="17667"/>
                </a:lnTo>
                <a:lnTo>
                  <a:pt x="0" y="18323"/>
                </a:lnTo>
                <a:lnTo>
                  <a:pt x="1685" y="18323"/>
                </a:lnTo>
                <a:lnTo>
                  <a:pt x="1685" y="18975"/>
                </a:lnTo>
                <a:lnTo>
                  <a:pt x="0" y="18975"/>
                </a:lnTo>
                <a:lnTo>
                  <a:pt x="0" y="18975"/>
                </a:lnTo>
                <a:lnTo>
                  <a:pt x="1685" y="18975"/>
                </a:lnTo>
                <a:lnTo>
                  <a:pt x="1685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79200"/>
            <a:ext cx="776772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the Running 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 Communication R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572000"/>
            <a:ext cx="6396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mar Bakr       Idit Kei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T          MIT/Tech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DC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easer: Comparing Performance Based on Number of Step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66680" y="1828800"/>
            <a:ext cx="1900080" cy="2496960"/>
            <a:chOff x="1066680" y="1828800"/>
            <a:chExt cx="1900080" cy="2496960"/>
          </a:xfrm>
        </p:grpSpPr>
        <p:sp>
          <p:nvSpPr>
            <p:cNvPr id="163" name=""/>
            <p:cNvSpPr/>
            <p:nvPr/>
          </p:nvSpPr>
          <p:spPr>
            <a:xfrm>
              <a:off x="1687320" y="2361960"/>
              <a:ext cx="21600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87320" y="1828800"/>
              <a:ext cx="21600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87320" y="3427200"/>
              <a:ext cx="21600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160" y="2970000"/>
              <a:ext cx="216000" cy="37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9320" y="2438280"/>
              <a:ext cx="21744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49320" y="1904760"/>
              <a:ext cx="21744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49320" y="3503520"/>
              <a:ext cx="217440" cy="3758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9320" y="2970000"/>
              <a:ext cx="217440" cy="37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8000" y="2133360"/>
              <a:ext cx="85248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8000" y="2133360"/>
              <a:ext cx="852480" cy="98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8000" y="2133360"/>
              <a:ext cx="852480" cy="152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8000" y="2666880"/>
              <a:ext cx="85248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8000" y="2666880"/>
              <a:ext cx="852480" cy="98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908000" y="2209320"/>
              <a:ext cx="85248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908000" y="2285280"/>
              <a:ext cx="885600" cy="144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908000" y="2664720"/>
              <a:ext cx="85248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08000" y="3274560"/>
              <a:ext cx="852480" cy="45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81400" y="3958920"/>
              <a:ext cx="126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l-to-all: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218960" y="2133000"/>
              <a:ext cx="468360" cy="83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3198600"/>
              <a:ext cx="43632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295280" y="2590200"/>
              <a:ext cx="39204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6680" y="2970000"/>
              <a:ext cx="217440" cy="37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76720" y="2819520"/>
            <a:ext cx="2260440" cy="2499120"/>
            <a:chOff x="3276720" y="2819520"/>
            <a:chExt cx="2260440" cy="2499120"/>
          </a:xfrm>
        </p:grpSpPr>
        <p:sp>
          <p:nvSpPr>
            <p:cNvPr id="186" name=""/>
            <p:cNvSpPr/>
            <p:nvPr/>
          </p:nvSpPr>
          <p:spPr>
            <a:xfrm>
              <a:off x="3873960" y="4951800"/>
              <a:ext cx="114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der: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7120" y="3048120"/>
              <a:ext cx="58716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37120" y="3581640"/>
              <a:ext cx="511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137120" y="4115160"/>
              <a:ext cx="511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5040" y="335304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15040" y="281952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15040" y="441972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5040" y="388656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800600" y="3124080"/>
              <a:ext cx="51444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6920" y="4115160"/>
              <a:ext cx="484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876920" y="3657960"/>
              <a:ext cx="457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388656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11760" y="335304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11760" y="281952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1760" y="441972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1760" y="388656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29000" y="3124080"/>
              <a:ext cx="482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05320" y="4191120"/>
              <a:ext cx="4507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429000" y="3581640"/>
              <a:ext cx="48276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720" y="388656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19920" y="4114800"/>
            <a:ext cx="2793960" cy="2498040"/>
            <a:chOff x="6019920" y="4114800"/>
            <a:chExt cx="2793960" cy="2498040"/>
          </a:xfrm>
        </p:grpSpPr>
        <p:sp>
          <p:nvSpPr>
            <p:cNvPr id="207" name=""/>
            <p:cNvSpPr/>
            <p:nvPr/>
          </p:nvSpPr>
          <p:spPr>
            <a:xfrm>
              <a:off x="6122880" y="6246000"/>
              <a:ext cx="230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ary Leader: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24840" y="4343400"/>
              <a:ext cx="6998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224840" y="5408280"/>
              <a:ext cx="62388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6152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61520" y="41148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61520" y="57150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61520" y="51814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001000" y="4419720"/>
              <a:ext cx="5605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7320" y="5410080"/>
              <a:ext cx="53496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077320" y="4876920"/>
              <a:ext cx="484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48720" y="51814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67440" y="41148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67440" y="57150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67440" y="51814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629400" y="4419720"/>
              <a:ext cx="38088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9400" y="5486400"/>
              <a:ext cx="39060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77120" y="51814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992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4952880"/>
              <a:ext cx="3049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edicting Overall Runnig Times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rom MI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20000" cy="15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-measured latencies (IP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539"/>
              </a:spcBef>
              <a:buClr>
                <a:srgbClr val="ffffff"/>
              </a:buClr>
              <a:buSzPct val="99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link latency 240 milli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539"/>
              </a:spcBef>
              <a:buClr>
                <a:srgbClr val="ffffff"/>
              </a:buClr>
              <a:buSzPct val="99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link to MIT 150 millisec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57800" y="3429000"/>
            <a:ext cx="1995120" cy="2654640"/>
            <a:chOff x="1657800" y="3429000"/>
            <a:chExt cx="1995120" cy="2654640"/>
          </a:xfrm>
        </p:grpSpPr>
        <p:grpSp>
          <p:nvGrpSpPr>
            <p:cNvPr id="230" name=""/>
            <p:cNvGrpSpPr/>
            <p:nvPr/>
          </p:nvGrpSpPr>
          <p:grpSpPr>
            <a:xfrm>
              <a:off x="1746360" y="3429000"/>
              <a:ext cx="1906560" cy="2494080"/>
              <a:chOff x="1746360" y="3429000"/>
              <a:chExt cx="1906560" cy="24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2368440" y="407844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68440" y="342900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68440" y="537228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57280" y="4816440"/>
                <a:ext cx="21780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3680" y="417024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33680" y="352260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33680" y="546408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433680" y="4816440"/>
                <a:ext cx="21924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589120" y="3800520"/>
                <a:ext cx="85572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89120" y="3800520"/>
                <a:ext cx="855720" cy="12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89120" y="3800520"/>
                <a:ext cx="855720" cy="184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89120" y="4448160"/>
                <a:ext cx="85572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89120" y="4448160"/>
                <a:ext cx="855720" cy="12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589120" y="3892320"/>
                <a:ext cx="855720" cy="55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2589120" y="3984480"/>
                <a:ext cx="889200" cy="175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2589120" y="4448160"/>
                <a:ext cx="855720" cy="129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589120" y="5186160"/>
                <a:ext cx="855720" cy="55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1898640" y="3800520"/>
                <a:ext cx="469800" cy="101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74960" y="5094360"/>
                <a:ext cx="438120" cy="36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1974960" y="4354200"/>
                <a:ext cx="39348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46360" y="4816440"/>
                <a:ext cx="21744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657800" y="5686200"/>
              <a:ext cx="1899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0+240 = 3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554440" y="3429000"/>
            <a:ext cx="2473920" cy="2664000"/>
            <a:chOff x="5554440" y="3429000"/>
            <a:chExt cx="2473920" cy="2664000"/>
          </a:xfrm>
        </p:grpSpPr>
        <p:grpSp>
          <p:nvGrpSpPr>
            <p:cNvPr id="254" name=""/>
            <p:cNvGrpSpPr/>
            <p:nvPr/>
          </p:nvGrpSpPr>
          <p:grpSpPr>
            <a:xfrm>
              <a:off x="5695920" y="3429000"/>
              <a:ext cx="2301480" cy="2493360"/>
              <a:chOff x="5695920" y="3429000"/>
              <a:chExt cx="2301480" cy="2493360"/>
            </a:xfrm>
          </p:grpSpPr>
          <p:sp>
            <p:nvSpPr>
              <p:cNvPr id="255" name=""/>
              <p:cNvSpPr/>
              <p:nvPr/>
            </p:nvSpPr>
            <p:spPr>
              <a:xfrm>
                <a:off x="6571080" y="3717720"/>
                <a:ext cx="597240" cy="10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71080" y="4390200"/>
                <a:ext cx="520920" cy="48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571080" y="5062320"/>
                <a:ext cx="520920" cy="47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70600" y="4101480"/>
                <a:ext cx="22680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70600" y="3429000"/>
                <a:ext cx="22680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70600" y="5446440"/>
                <a:ext cx="22680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70600" y="4773960"/>
                <a:ext cx="226800" cy="4759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246080" y="3814200"/>
                <a:ext cx="524160" cy="95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323840" y="5062680"/>
                <a:ext cx="492120" cy="48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323840" y="4484880"/>
                <a:ext cx="465480" cy="48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92360" y="4773960"/>
                <a:ext cx="225360" cy="4759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42480" y="4101480"/>
                <a:ext cx="22536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42480" y="3429000"/>
                <a:ext cx="22536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42480" y="5446440"/>
                <a:ext cx="225360" cy="4759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42480" y="4773960"/>
                <a:ext cx="225360" cy="4759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850000" y="3814200"/>
                <a:ext cx="492120" cy="95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27760" y="5158080"/>
                <a:ext cx="459000" cy="38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850000" y="4389840"/>
                <a:ext cx="492120" cy="48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95920" y="4773960"/>
                <a:ext cx="227160" cy="4759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5554440" y="5695560"/>
              <a:ext cx="247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0+150+150 = 4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Measured Running Times </a:t>
            </a:r>
            <a:br>
              <a:rPr sz="40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ns Initiated at MI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1828800"/>
          <a:ext cx="7696440" cy="3306600"/>
        </p:xfrm>
        <a:graphic>
          <a:graphicData uri="http://schemas.openxmlformats.org/drawingml/2006/table">
            <a:tbl>
              <a:tblPr/>
              <a:tblGrid>
                <a:gridCol w="1703520"/>
                <a:gridCol w="1482840"/>
                <a:gridCol w="1431720"/>
                <a:gridCol w="1536840"/>
                <a:gridCol w="154152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-to-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(runs under 2 s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runs ov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seco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2514600" y="5486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unning times in milli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Go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rates on two links are very hi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2% and 3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wan to two ISPs in the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rates on other links up to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loss, TCP’s timeout is 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round-trip-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-to-all sends messages on lossy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delayed by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Running Tim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 to 1.3 sec. at 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295280" y="2133720"/>
          <a:ext cx="7012080" cy="334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7012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403200"/>
            <a:ext cx="79200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unning Times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uns Initiated at Taiw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066680" y="2666880"/>
            <a:ext cx="7604280" cy="2452680"/>
            <a:chOff x="1066680" y="2666880"/>
            <a:chExt cx="7604280" cy="2452680"/>
          </a:xfrm>
        </p:grpSpPr>
        <p:grpSp>
          <p:nvGrpSpPr>
            <p:cNvPr id="285" name=""/>
            <p:cNvGrpSpPr/>
            <p:nvPr/>
          </p:nvGrpSpPr>
          <p:grpSpPr>
            <a:xfrm>
              <a:off x="1066680" y="4319640"/>
              <a:ext cx="1735200" cy="795240"/>
              <a:chOff x="1066680" y="4319640"/>
              <a:chExt cx="1735200" cy="795240"/>
            </a:xfrm>
          </p:grpSpPr>
          <p:sp>
            <p:nvSpPr>
              <p:cNvPr id="286" name=""/>
              <p:cNvSpPr/>
              <p:nvPr/>
            </p:nvSpPr>
            <p:spPr>
              <a:xfrm>
                <a:off x="1066680" y="4319640"/>
                <a:ext cx="173520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66680" y="4319640"/>
                <a:ext cx="173520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% runs ove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 seco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66680" y="3560760"/>
              <a:ext cx="1735200" cy="755640"/>
              <a:chOff x="1066680" y="3560760"/>
              <a:chExt cx="1735200" cy="755640"/>
            </a:xfrm>
          </p:grpSpPr>
          <p:sp>
            <p:nvSpPr>
              <p:cNvPr id="289" name=""/>
              <p:cNvSpPr/>
              <p:nvPr/>
            </p:nvSpPr>
            <p:spPr>
              <a:xfrm>
                <a:off x="1066680" y="3560760"/>
                <a:ext cx="173520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66680" y="3560760"/>
                <a:ext cx="17352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verage (runs under 2 sec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066680" y="2666880"/>
              <a:ext cx="1735200" cy="889200"/>
            </a:xfrm>
            <a:prstGeom prst="roundRect">
              <a:avLst>
                <a:gd name="adj" fmla="val 17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715080" y="2666880"/>
              <a:ext cx="1951200" cy="892440"/>
              <a:chOff x="6715080" y="2666880"/>
              <a:chExt cx="1951200" cy="892440"/>
            </a:xfrm>
          </p:grpSpPr>
          <p:sp>
            <p:nvSpPr>
              <p:cNvPr id="293" name=""/>
              <p:cNvSpPr/>
              <p:nvPr/>
            </p:nvSpPr>
            <p:spPr>
              <a:xfrm>
                <a:off x="6715080" y="2666880"/>
                <a:ext cx="1951200" cy="8892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15080" y="2666880"/>
                <a:ext cx="195120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ec. L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762440" y="2666880"/>
              <a:ext cx="1951200" cy="892440"/>
              <a:chOff x="4762440" y="2666880"/>
              <a:chExt cx="1951200" cy="892440"/>
            </a:xfrm>
          </p:grpSpPr>
          <p:sp>
            <p:nvSpPr>
              <p:cNvPr id="296" name=""/>
              <p:cNvSpPr/>
              <p:nvPr/>
            </p:nvSpPr>
            <p:spPr>
              <a:xfrm>
                <a:off x="4762440" y="2666880"/>
                <a:ext cx="1951200" cy="8892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62440" y="2666880"/>
                <a:ext cx="195120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806560" y="2666880"/>
              <a:ext cx="1951200" cy="892440"/>
              <a:chOff x="2806560" y="2666880"/>
              <a:chExt cx="1951200" cy="892440"/>
            </a:xfrm>
          </p:grpSpPr>
          <p:sp>
            <p:nvSpPr>
              <p:cNvPr id="299" name=""/>
              <p:cNvSpPr/>
              <p:nvPr/>
            </p:nvSpPr>
            <p:spPr>
              <a:xfrm>
                <a:off x="2806560" y="2666880"/>
                <a:ext cx="1951200" cy="88920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06560" y="2666880"/>
                <a:ext cx="195120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ll-to-a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693200" y="4319640"/>
              <a:ext cx="973080" cy="795240"/>
              <a:chOff x="7693200" y="4319640"/>
              <a:chExt cx="973080" cy="795240"/>
            </a:xfrm>
          </p:grpSpPr>
          <p:sp>
            <p:nvSpPr>
              <p:cNvPr id="302" name=""/>
              <p:cNvSpPr/>
              <p:nvPr/>
            </p:nvSpPr>
            <p:spPr>
              <a:xfrm>
                <a:off x="7693200" y="4319640"/>
                <a:ext cx="97308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93200" y="43196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715080" y="4319640"/>
              <a:ext cx="973080" cy="795240"/>
              <a:chOff x="6715080" y="4319640"/>
              <a:chExt cx="973080" cy="795240"/>
            </a:xfrm>
          </p:grpSpPr>
          <p:sp>
            <p:nvSpPr>
              <p:cNvPr id="305" name=""/>
              <p:cNvSpPr/>
              <p:nvPr/>
            </p:nvSpPr>
            <p:spPr>
              <a:xfrm>
                <a:off x="6715080" y="4319640"/>
                <a:ext cx="97308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15080" y="43196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738760" y="4319640"/>
              <a:ext cx="973080" cy="795240"/>
              <a:chOff x="5738760" y="4319640"/>
              <a:chExt cx="973080" cy="795240"/>
            </a:xfrm>
          </p:grpSpPr>
          <p:sp>
            <p:nvSpPr>
              <p:cNvPr id="308" name=""/>
              <p:cNvSpPr/>
              <p:nvPr/>
            </p:nvSpPr>
            <p:spPr>
              <a:xfrm>
                <a:off x="5738760" y="4319640"/>
                <a:ext cx="97308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38760" y="43196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762440" y="4319640"/>
              <a:ext cx="973080" cy="795240"/>
              <a:chOff x="4762440" y="4319640"/>
              <a:chExt cx="973080" cy="795240"/>
            </a:xfrm>
          </p:grpSpPr>
          <p:sp>
            <p:nvSpPr>
              <p:cNvPr id="311" name=""/>
              <p:cNvSpPr/>
              <p:nvPr/>
            </p:nvSpPr>
            <p:spPr>
              <a:xfrm>
                <a:off x="4762440" y="4319640"/>
                <a:ext cx="97308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2440" y="43196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6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784680" y="4319640"/>
              <a:ext cx="973080" cy="795240"/>
              <a:chOff x="3784680" y="4319640"/>
              <a:chExt cx="973080" cy="795240"/>
            </a:xfrm>
          </p:grpSpPr>
          <p:sp>
            <p:nvSpPr>
              <p:cNvPr id="314" name=""/>
              <p:cNvSpPr/>
              <p:nvPr/>
            </p:nvSpPr>
            <p:spPr>
              <a:xfrm>
                <a:off x="3784680" y="4319640"/>
                <a:ext cx="97308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84680" y="43196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806560" y="4319640"/>
              <a:ext cx="973440" cy="795240"/>
              <a:chOff x="2806560" y="4319640"/>
              <a:chExt cx="973440" cy="795240"/>
            </a:xfrm>
          </p:grpSpPr>
          <p:sp>
            <p:nvSpPr>
              <p:cNvPr id="317" name=""/>
              <p:cNvSpPr/>
              <p:nvPr/>
            </p:nvSpPr>
            <p:spPr>
              <a:xfrm>
                <a:off x="2806560" y="4319640"/>
                <a:ext cx="973440" cy="79524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06560" y="4319640"/>
                <a:ext cx="973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5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7693200" y="3560760"/>
              <a:ext cx="973080" cy="755640"/>
              <a:chOff x="7693200" y="3560760"/>
              <a:chExt cx="973080" cy="755640"/>
            </a:xfrm>
          </p:grpSpPr>
          <p:sp>
            <p:nvSpPr>
              <p:cNvPr id="320" name=""/>
              <p:cNvSpPr/>
              <p:nvPr/>
            </p:nvSpPr>
            <p:spPr>
              <a:xfrm>
                <a:off x="7693200" y="3560760"/>
                <a:ext cx="97308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693200" y="35607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715080" y="3560760"/>
              <a:ext cx="973080" cy="755640"/>
              <a:chOff x="6715080" y="3560760"/>
              <a:chExt cx="973080" cy="755640"/>
            </a:xfrm>
          </p:grpSpPr>
          <p:sp>
            <p:nvSpPr>
              <p:cNvPr id="323" name=""/>
              <p:cNvSpPr/>
              <p:nvPr/>
            </p:nvSpPr>
            <p:spPr>
              <a:xfrm>
                <a:off x="6715080" y="3560760"/>
                <a:ext cx="97308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15080" y="35607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67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738760" y="3560760"/>
              <a:ext cx="973080" cy="755640"/>
              <a:chOff x="5738760" y="3560760"/>
              <a:chExt cx="973080" cy="755640"/>
            </a:xfrm>
          </p:grpSpPr>
          <p:sp>
            <p:nvSpPr>
              <p:cNvPr id="326" name=""/>
              <p:cNvSpPr/>
              <p:nvPr/>
            </p:nvSpPr>
            <p:spPr>
              <a:xfrm>
                <a:off x="5738760" y="3560760"/>
                <a:ext cx="97308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38760" y="35607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8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762440" y="3560760"/>
              <a:ext cx="973080" cy="755640"/>
              <a:chOff x="4762440" y="3560760"/>
              <a:chExt cx="973080" cy="755640"/>
            </a:xfrm>
          </p:grpSpPr>
          <p:sp>
            <p:nvSpPr>
              <p:cNvPr id="329" name=""/>
              <p:cNvSpPr/>
              <p:nvPr/>
            </p:nvSpPr>
            <p:spPr>
              <a:xfrm>
                <a:off x="4762440" y="3560760"/>
                <a:ext cx="97308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2440" y="35607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784680" y="3560760"/>
              <a:ext cx="973080" cy="755640"/>
              <a:chOff x="3784680" y="3560760"/>
              <a:chExt cx="973080" cy="755640"/>
            </a:xfrm>
          </p:grpSpPr>
          <p:sp>
            <p:nvSpPr>
              <p:cNvPr id="332" name=""/>
              <p:cNvSpPr/>
              <p:nvPr/>
            </p:nvSpPr>
            <p:spPr>
              <a:xfrm>
                <a:off x="3784680" y="3560760"/>
                <a:ext cx="97308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84680" y="35607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4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806560" y="3560760"/>
              <a:ext cx="973440" cy="755640"/>
              <a:chOff x="2806560" y="3560760"/>
              <a:chExt cx="973440" cy="755640"/>
            </a:xfrm>
          </p:grpSpPr>
          <p:sp>
            <p:nvSpPr>
              <p:cNvPr id="335" name=""/>
              <p:cNvSpPr/>
              <p:nvPr/>
            </p:nvSpPr>
            <p:spPr>
              <a:xfrm>
                <a:off x="2806560" y="3560760"/>
                <a:ext cx="973440" cy="75564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806560" y="3560760"/>
                <a:ext cx="973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86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066680" y="2666880"/>
              <a:ext cx="760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66680" y="4319640"/>
              <a:ext cx="760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5119560"/>
              <a:ext cx="7604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6680" y="2666880"/>
              <a:ext cx="0" cy="245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62440" y="2666880"/>
              <a:ext cx="0" cy="24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715080" y="2666880"/>
              <a:ext cx="0" cy="24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70960" y="2666880"/>
              <a:ext cx="0" cy="245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66680" y="3560760"/>
              <a:ext cx="7604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84680" y="3560760"/>
              <a:ext cx="0" cy="155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38760" y="3560760"/>
              <a:ext cx="0" cy="155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3200" y="3560760"/>
              <a:ext cx="0" cy="155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06560" y="2666880"/>
              <a:ext cx="0" cy="245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673720" y="5560560"/>
            <a:ext cx="419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times in milli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Running Tim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Taiw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95280" y="2133720"/>
          <a:ext cx="6864480" cy="32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86448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Go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32520" y="616896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-to-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90720" y="4038480"/>
            <a:ext cx="1900080" cy="2051280"/>
            <a:chOff x="990720" y="4038480"/>
            <a:chExt cx="1900080" cy="2051280"/>
          </a:xfrm>
        </p:grpSpPr>
        <p:sp>
          <p:nvSpPr>
            <p:cNvPr id="356" name=""/>
            <p:cNvSpPr/>
            <p:nvPr/>
          </p:nvSpPr>
          <p:spPr>
            <a:xfrm>
              <a:off x="1611360" y="4572000"/>
              <a:ext cx="21600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11360" y="4038480"/>
              <a:ext cx="21600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11360" y="5637240"/>
              <a:ext cx="21600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0200" y="5180040"/>
              <a:ext cx="21600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73360" y="4648320"/>
              <a:ext cx="21744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73360" y="4114800"/>
              <a:ext cx="21744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713560"/>
              <a:ext cx="21744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73360" y="5180040"/>
              <a:ext cx="21744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32040" y="4343400"/>
              <a:ext cx="852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32040" y="4343400"/>
              <a:ext cx="852480" cy="9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32040" y="4343400"/>
              <a:ext cx="852480" cy="152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32040" y="4876920"/>
              <a:ext cx="852480" cy="455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32040" y="4876920"/>
              <a:ext cx="852480" cy="9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832040" y="4419720"/>
              <a:ext cx="852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832040" y="4495680"/>
              <a:ext cx="885600" cy="14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832040" y="4875120"/>
              <a:ext cx="85248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832040" y="5484960"/>
              <a:ext cx="8524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143000" y="4343400"/>
              <a:ext cx="468360" cy="83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9320" y="5408640"/>
              <a:ext cx="43632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219320" y="4800600"/>
              <a:ext cx="392040" cy="45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90720" y="5180040"/>
              <a:ext cx="21744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429000" y="4114800"/>
            <a:ext cx="2260440" cy="2498760"/>
            <a:chOff x="3429000" y="4114800"/>
            <a:chExt cx="2260440" cy="2498760"/>
          </a:xfrm>
        </p:grpSpPr>
        <p:sp>
          <p:nvSpPr>
            <p:cNvPr id="378" name=""/>
            <p:cNvSpPr/>
            <p:nvPr/>
          </p:nvSpPr>
          <p:spPr>
            <a:xfrm>
              <a:off x="4153680" y="6246720"/>
              <a:ext cx="8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89400" y="4343400"/>
              <a:ext cx="58716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89400" y="4876560"/>
              <a:ext cx="511200" cy="38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289400" y="5410080"/>
              <a:ext cx="51120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67320" y="4647960"/>
              <a:ext cx="22212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67320" y="411480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67320" y="5715000"/>
              <a:ext cx="22212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67320" y="518148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952880" y="4419000"/>
              <a:ext cx="51444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9200" y="5410080"/>
              <a:ext cx="48420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029200" y="4952880"/>
              <a:ext cx="45720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00600" y="518148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64040" y="4647960"/>
              <a:ext cx="22068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64040" y="411480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64040" y="5715000"/>
              <a:ext cx="220680" cy="376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64040" y="518148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581280" y="4419000"/>
              <a:ext cx="482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57600" y="5486400"/>
              <a:ext cx="450720" cy="304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581280" y="4876200"/>
              <a:ext cx="482760" cy="38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9000" y="518148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019920" y="4114800"/>
            <a:ext cx="2793960" cy="2498760"/>
            <a:chOff x="6019920" y="4114800"/>
            <a:chExt cx="2793960" cy="2498760"/>
          </a:xfrm>
        </p:grpSpPr>
        <p:sp>
          <p:nvSpPr>
            <p:cNvPr id="399" name=""/>
            <p:cNvSpPr/>
            <p:nvPr/>
          </p:nvSpPr>
          <p:spPr>
            <a:xfrm>
              <a:off x="6250320" y="6246720"/>
              <a:ext cx="204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ary L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24840" y="4343400"/>
              <a:ext cx="6998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7224840" y="5408280"/>
              <a:ext cx="62388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6152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561520" y="41148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561520" y="57150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561520" y="5181480"/>
              <a:ext cx="252360" cy="376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8001000" y="4419720"/>
              <a:ext cx="5605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77320" y="5410080"/>
              <a:ext cx="53496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8077320" y="4876920"/>
              <a:ext cx="484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48720" y="5181480"/>
              <a:ext cx="252360" cy="376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6744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67440" y="41148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7440" y="57150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67440" y="5181480"/>
              <a:ext cx="252360" cy="376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6629400" y="4419720"/>
              <a:ext cx="38088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29400" y="5486400"/>
              <a:ext cx="39060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77120" y="5181480"/>
              <a:ext cx="252360" cy="376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19920" y="46483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4952880"/>
              <a:ext cx="3049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143000" y="1676520"/>
            <a:ext cx="1752480" cy="459720"/>
            <a:chOff x="1143000" y="1676520"/>
            <a:chExt cx="1752480" cy="459720"/>
          </a:xfrm>
        </p:grpSpPr>
        <p:sp>
          <p:nvSpPr>
            <p:cNvPr id="420" name=""/>
            <p:cNvSpPr/>
            <p:nvPr/>
          </p:nvSpPr>
          <p:spPr>
            <a:xfrm>
              <a:off x="1143000" y="1752480"/>
              <a:ext cx="30492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1676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ai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143000" y="2209680"/>
            <a:ext cx="1752480" cy="459720"/>
            <a:chOff x="1143000" y="2209680"/>
            <a:chExt cx="1752480" cy="459720"/>
          </a:xfrm>
        </p:grpSpPr>
        <p:sp>
          <p:nvSpPr>
            <p:cNvPr id="423" name=""/>
            <p:cNvSpPr/>
            <p:nvPr/>
          </p:nvSpPr>
          <p:spPr>
            <a:xfrm>
              <a:off x="1143000" y="22860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0020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143000" y="2743200"/>
            <a:ext cx="4800600" cy="459720"/>
            <a:chOff x="1143000" y="2743200"/>
            <a:chExt cx="4800600" cy="459720"/>
          </a:xfrm>
        </p:grpSpPr>
        <p:sp>
          <p:nvSpPr>
            <p:cNvPr id="426" name=""/>
            <p:cNvSpPr/>
            <p:nvPr/>
          </p:nvSpPr>
          <p:spPr>
            <a:xfrm>
              <a:off x="1143000" y="2819520"/>
              <a:ext cx="304920" cy="3045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0200" y="27432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osts with bad links to Tai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143000" y="33526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3276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1905120"/>
            <a:ext cx="620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2362320"/>
            <a:ext cx="620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87680" y="1676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86600" y="21337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y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II: Removing Taiw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5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running times much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very initiator and algorithm, less than 10% over 2 second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 opposed to 55% previous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-to-all overall still worse than oth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ther Leader or Secondary Leader best, depending on initi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ates of 2% - 8% are not neglig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to-all sends O(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essages; suff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all-to-all has best local running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ability of Delay due to Lo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ll links would have same la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1% loss on all links; 10 hosts (n=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sends 3(n-1) = 27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at least one loss: 1 -.9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4%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2-all sends n(n-1) = 90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at least one loss: 1 -.9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0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ality, links don’t have same la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loss on long links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hange of information from all hosts to all h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of many distributed algorithms,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, atomic commit, replication,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sage loss causes high variation in TCP link lat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ncy distribution has high variance, heavy t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cy distribution determines expected time for receiving O(n) concurrent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ary leader hel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riangle inequality, especially for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erent for overall vs. local running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rounds/steps not sufficient me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-to-all and all-to-all have different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tting a Clock Difference S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38833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ume </a:t>
            </a:r>
            <a:r>
              <a:rPr b="0" i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 baseline="-33000">
                <a:solidFill>
                  <a:srgbClr val="ffffff"/>
                </a:solidFill>
                <a:latin typeface="Symbol"/>
                <a:ea typeface="Symbol"/>
              </a:rPr>
              <a:t>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half of RTT between A and 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n be estimated by sending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utes clock differences a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 baseline="-33000">
                <a:solidFill>
                  <a:srgbClr val="ffffff"/>
                </a:solidFill>
                <a:latin typeface="Symbol"/>
                <a:ea typeface="Symbol"/>
              </a:rPr>
              <a:t>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- t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45200" y="2300400"/>
            <a:ext cx="0" cy="304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945560" y="2322360"/>
            <a:ext cx="0" cy="304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45200" y="3159000"/>
            <a:ext cx="1800360" cy="86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94720" y="1893960"/>
            <a:ext cx="25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7840" y="18702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2905200"/>
            <a:ext cx="55548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GB" sz="2400" spc="-1" strike="noStrike" baseline="-33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046000" y="3740040"/>
            <a:ext cx="1944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n-GB" sz="2400" spc="-1" strike="noStrike" baseline="-33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664920"/>
            <a:ext cx="7920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38040" indent="-3380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timating the clock dif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4280" indent="-31428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ver multiple samples during a time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4280" indent="-31428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must be long enough to contain enough sam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4280" indent="-31428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must be short enough to minimize effect of clock dri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4280" indent="-31428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hose a period length of 1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6520" indent="-2613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roughly 50 samples between every pair of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425160"/>
            <a:ext cx="792000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ing Overall Running Ti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host (MIT)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ach period, adjust all clocks to M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if computed difference from Utah to MIT is 15 ms., subtract 15 ms. from all logged start and termination times at Ut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second host (Corn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re th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mitations of our Method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TTs between different hosts in the Internet vary over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symmetries in lin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tency is not the same in both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ce all messages are exchanged over TCP, latencies vary substant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sitive to packet loss (TCP's exponential backoff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we do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host with reliable links to all other hosts as baseline for computing differences (M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the process with another host that also has reliable links to every other host  (Cornell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consistency of the resu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running times of “good samples” (under 2 seconds) were within 20ms. (90% within 10ms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mon Metric for Evaluating Algorith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rounds (or steps) they requi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est way to implement a communication round over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tralized vs. central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long is a communication round over the Inter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 is H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is unpredictable, diverse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answers for different topologies,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performance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local ru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host is engaged in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overall run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when first host starts to when last host finis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Round” Primi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5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ed by some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tes data from every host to every other host  connected t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6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xample Implemen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43000" y="1752480"/>
            <a:ext cx="2966760" cy="2184480"/>
            <a:chOff x="1143000" y="1752480"/>
            <a:chExt cx="2966760" cy="2184480"/>
          </a:xfrm>
        </p:grpSpPr>
        <p:sp>
          <p:nvSpPr>
            <p:cNvPr id="93" name=""/>
            <p:cNvSpPr/>
            <p:nvPr/>
          </p:nvSpPr>
          <p:spPr>
            <a:xfrm>
              <a:off x="2109600" y="2208240"/>
              <a:ext cx="341280" cy="318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09600" y="175248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9600" y="311616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9600" y="2662200"/>
              <a:ext cx="341280" cy="320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68480" y="2273040"/>
              <a:ext cx="341280" cy="319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8480" y="181764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68480" y="318132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8480" y="2725560"/>
              <a:ext cx="341280" cy="320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55920" y="2012760"/>
              <a:ext cx="1330200" cy="39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55920" y="2012760"/>
              <a:ext cx="1330200" cy="84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55920" y="2012760"/>
              <a:ext cx="1330200" cy="12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55920" y="2468520"/>
              <a:ext cx="1330200" cy="38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55920" y="2468520"/>
              <a:ext cx="1330200" cy="84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455920" y="2077920"/>
              <a:ext cx="1330200" cy="38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455920" y="2143080"/>
              <a:ext cx="1382400" cy="12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455920" y="2466360"/>
              <a:ext cx="1330200" cy="90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455920" y="2985480"/>
              <a:ext cx="1330200" cy="39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72320" y="357012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l-to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47560" y="1981080"/>
              <a:ext cx="685800" cy="76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47560" y="2894040"/>
              <a:ext cx="73188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523880" y="2403000"/>
              <a:ext cx="58572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43000" y="2665440"/>
              <a:ext cx="341280" cy="318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2000" y="1752480"/>
            <a:ext cx="3499920" cy="2318040"/>
            <a:chOff x="4572000" y="1752480"/>
            <a:chExt cx="3499920" cy="2318040"/>
          </a:xfrm>
        </p:grpSpPr>
        <p:sp>
          <p:nvSpPr>
            <p:cNvPr id="116" name=""/>
            <p:cNvSpPr/>
            <p:nvPr/>
          </p:nvSpPr>
          <p:spPr>
            <a:xfrm>
              <a:off x="5937480" y="3703680"/>
              <a:ext cx="8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1905120"/>
              <a:ext cx="99000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03640" y="2449440"/>
              <a:ext cx="80136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903640" y="2971800"/>
              <a:ext cx="80136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25960" y="2239920"/>
              <a:ext cx="345960" cy="344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25960" y="1752480"/>
              <a:ext cx="345960" cy="343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25960" y="3216240"/>
              <a:ext cx="345960" cy="343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25960" y="2725560"/>
              <a:ext cx="345960" cy="344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010280" y="2031480"/>
              <a:ext cx="715320" cy="78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0280" y="2971800"/>
              <a:ext cx="761400" cy="37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10280" y="2447640"/>
              <a:ext cx="715320" cy="44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53000" y="2239920"/>
              <a:ext cx="345600" cy="3445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53000" y="1752480"/>
              <a:ext cx="345600" cy="343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3000" y="3216240"/>
              <a:ext cx="345600" cy="343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800240" y="2031840"/>
              <a:ext cx="752400" cy="71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76560" y="2971800"/>
              <a:ext cx="74592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876560" y="2449080"/>
              <a:ext cx="6760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2743200"/>
              <a:ext cx="340920" cy="318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360" y="2743200"/>
              <a:ext cx="340920" cy="318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360" y="2743200"/>
              <a:ext cx="340920" cy="318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352680" y="4038480"/>
            <a:ext cx="3860280" cy="2498760"/>
            <a:chOff x="3352680" y="4038480"/>
            <a:chExt cx="3860280" cy="2498760"/>
          </a:xfrm>
        </p:grpSpPr>
        <p:sp>
          <p:nvSpPr>
            <p:cNvPr id="137" name=""/>
            <p:cNvSpPr/>
            <p:nvPr/>
          </p:nvSpPr>
          <p:spPr>
            <a:xfrm>
              <a:off x="4060800" y="6170400"/>
              <a:ext cx="204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ary L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17680" y="4267080"/>
              <a:ext cx="96696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017680" y="5331960"/>
              <a:ext cx="86184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4480" y="4572000"/>
              <a:ext cx="3484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4480" y="403848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64480" y="563868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4480" y="510516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090120" y="4343400"/>
              <a:ext cx="77436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5600" y="5333760"/>
              <a:ext cx="73908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95600" y="4800600"/>
              <a:ext cx="66888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79520" y="510516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62000" y="4572000"/>
              <a:ext cx="3484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2000" y="403848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62000" y="563868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2000" y="510516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194720" y="4343400"/>
              <a:ext cx="5263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4720" y="5410080"/>
              <a:ext cx="53964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84120" y="5105160"/>
              <a:ext cx="3484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52680" y="4572000"/>
              <a:ext cx="3484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2920" y="4876560"/>
              <a:ext cx="42120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79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hosts: Taiwan, Korea, US academia, IS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(connections always 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to-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(initia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leader (not initia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ally initiated at each h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650 times over 3.5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uting Overall Running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psed time from initiation (at initiator) unti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sts term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estimating clock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cks not synchronized, 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ompute difference over short inter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3 different way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hieve accuracy within 20 ms. on 90% of r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/>
  <dc:description/>
  <dc:language>en-US</dc:language>
  <cp:lastModifiedBy>Idit Keidar</cp:lastModifiedBy>
  <cp:lastPrinted>2002-03-22T18:28:28Z</cp:lastPrinted>
  <dcterms:modified xsi:type="dcterms:W3CDTF">2002-07-23T20:56:46Z</dcterms:modified>
  <cp:revision>76</cp:revision>
  <dc:subject/>
  <dc:title>On the Performance  of Consensus Algorithms:  Theory and Practi</dc:title>
</cp:coreProperties>
</file>