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9186863" cy="7037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13712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36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576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344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576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344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92000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36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13712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36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576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9344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576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9344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125-0C4D-4E0D-8A63-C6029585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9E3A-15FA-4526-9377-CBBC6136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CDE-01C8-47E8-8076-3EC86F23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55F-E171-4EC6-883D-E249190D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BD2-3955-45F4-ACE2-7DA25927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92000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E58-EB2F-435D-874D-3A9DE825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FDA-7C80-4CCA-8C76-AFF9E479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9636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D3E-78D4-4AAA-A8FF-7CA29838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47B-B48D-4FE9-A144-50A3E1B1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13712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B47-1B00-43A6-9CCF-32ED49C5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9636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2D7-8B95-4540-9278-C7B083FC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576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93440" y="182844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576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93440" y="4137120"/>
            <a:ext cx="25498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575-A517-4DA1-9209-85964029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457200"/>
            <a:ext cx="792000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360" y="413712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360" y="1828440"/>
            <a:ext cx="38646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137120"/>
            <a:ext cx="79200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604800" cy="6853320"/>
          </a:xfrm>
          <a:custGeom>
            <a:avLst/>
            <a:gdLst/>
            <a:ahLst/>
            <a:rect l="l" t="t" r="r" b="b"/>
            <a:pathLst>
              <a:path w="1686" h="19042">
                <a:moveTo>
                  <a:pt x="0" y="0"/>
                </a:moveTo>
                <a:lnTo>
                  <a:pt x="0" y="19041"/>
                </a:lnTo>
                <a:lnTo>
                  <a:pt x="559" y="19041"/>
                </a:lnTo>
                <a:lnTo>
                  <a:pt x="559" y="0"/>
                </a:lnTo>
                <a:lnTo>
                  <a:pt x="1124" y="0"/>
                </a:lnTo>
                <a:lnTo>
                  <a:pt x="1124" y="19041"/>
                </a:lnTo>
                <a:lnTo>
                  <a:pt x="1685" y="19041"/>
                </a:lnTo>
                <a:lnTo>
                  <a:pt x="1685" y="0"/>
                </a:lnTo>
                <a:lnTo>
                  <a:pt x="1685" y="653"/>
                </a:lnTo>
                <a:lnTo>
                  <a:pt x="0" y="653"/>
                </a:lnTo>
                <a:lnTo>
                  <a:pt x="0" y="1312"/>
                </a:lnTo>
                <a:lnTo>
                  <a:pt x="1685" y="1312"/>
                </a:lnTo>
                <a:lnTo>
                  <a:pt x="1685" y="1967"/>
                </a:lnTo>
                <a:lnTo>
                  <a:pt x="0" y="1967"/>
                </a:lnTo>
                <a:lnTo>
                  <a:pt x="0" y="2626"/>
                </a:lnTo>
                <a:lnTo>
                  <a:pt x="1685" y="2626"/>
                </a:lnTo>
                <a:lnTo>
                  <a:pt x="1685" y="3282"/>
                </a:lnTo>
                <a:lnTo>
                  <a:pt x="0" y="3282"/>
                </a:lnTo>
                <a:lnTo>
                  <a:pt x="0" y="3936"/>
                </a:lnTo>
                <a:lnTo>
                  <a:pt x="1685" y="3936"/>
                </a:lnTo>
                <a:lnTo>
                  <a:pt x="1685" y="4596"/>
                </a:lnTo>
                <a:lnTo>
                  <a:pt x="0" y="4596"/>
                </a:lnTo>
                <a:lnTo>
                  <a:pt x="0" y="5250"/>
                </a:lnTo>
                <a:lnTo>
                  <a:pt x="1685" y="5250"/>
                </a:lnTo>
                <a:lnTo>
                  <a:pt x="1685" y="5910"/>
                </a:lnTo>
                <a:lnTo>
                  <a:pt x="0" y="5910"/>
                </a:lnTo>
                <a:lnTo>
                  <a:pt x="0" y="6565"/>
                </a:lnTo>
                <a:lnTo>
                  <a:pt x="1685" y="6565"/>
                </a:lnTo>
                <a:lnTo>
                  <a:pt x="1685" y="7224"/>
                </a:lnTo>
                <a:lnTo>
                  <a:pt x="0" y="7224"/>
                </a:lnTo>
                <a:lnTo>
                  <a:pt x="0" y="7880"/>
                </a:lnTo>
                <a:lnTo>
                  <a:pt x="1685" y="7880"/>
                </a:lnTo>
                <a:lnTo>
                  <a:pt x="1685" y="8533"/>
                </a:lnTo>
                <a:lnTo>
                  <a:pt x="0" y="8533"/>
                </a:lnTo>
                <a:lnTo>
                  <a:pt x="0" y="9192"/>
                </a:lnTo>
                <a:lnTo>
                  <a:pt x="1685" y="9192"/>
                </a:lnTo>
                <a:lnTo>
                  <a:pt x="1685" y="9847"/>
                </a:lnTo>
                <a:lnTo>
                  <a:pt x="0" y="9847"/>
                </a:lnTo>
                <a:lnTo>
                  <a:pt x="0" y="10507"/>
                </a:lnTo>
                <a:lnTo>
                  <a:pt x="1685" y="10507"/>
                </a:lnTo>
                <a:lnTo>
                  <a:pt x="1685" y="11162"/>
                </a:lnTo>
                <a:lnTo>
                  <a:pt x="0" y="11162"/>
                </a:lnTo>
                <a:lnTo>
                  <a:pt x="0" y="11817"/>
                </a:lnTo>
                <a:lnTo>
                  <a:pt x="1685" y="11817"/>
                </a:lnTo>
                <a:lnTo>
                  <a:pt x="1685" y="12476"/>
                </a:lnTo>
                <a:lnTo>
                  <a:pt x="0" y="12476"/>
                </a:lnTo>
                <a:lnTo>
                  <a:pt x="0" y="13130"/>
                </a:lnTo>
                <a:lnTo>
                  <a:pt x="1685" y="13130"/>
                </a:lnTo>
                <a:lnTo>
                  <a:pt x="1685" y="13790"/>
                </a:lnTo>
                <a:lnTo>
                  <a:pt x="0" y="13790"/>
                </a:lnTo>
                <a:lnTo>
                  <a:pt x="0" y="14445"/>
                </a:lnTo>
                <a:lnTo>
                  <a:pt x="1685" y="14445"/>
                </a:lnTo>
                <a:lnTo>
                  <a:pt x="1685" y="15105"/>
                </a:lnTo>
                <a:lnTo>
                  <a:pt x="0" y="15105"/>
                </a:lnTo>
                <a:lnTo>
                  <a:pt x="0" y="15759"/>
                </a:lnTo>
                <a:lnTo>
                  <a:pt x="1685" y="15759"/>
                </a:lnTo>
                <a:lnTo>
                  <a:pt x="1685" y="16415"/>
                </a:lnTo>
                <a:lnTo>
                  <a:pt x="0" y="16415"/>
                </a:lnTo>
                <a:lnTo>
                  <a:pt x="0" y="17073"/>
                </a:lnTo>
                <a:lnTo>
                  <a:pt x="1685" y="17073"/>
                </a:lnTo>
                <a:lnTo>
                  <a:pt x="1685" y="17729"/>
                </a:lnTo>
                <a:lnTo>
                  <a:pt x="0" y="17729"/>
                </a:lnTo>
                <a:lnTo>
                  <a:pt x="0" y="18387"/>
                </a:lnTo>
                <a:lnTo>
                  <a:pt x="1685" y="18387"/>
                </a:lnTo>
                <a:lnTo>
                  <a:pt x="1685" y="19041"/>
                </a:lnTo>
                <a:lnTo>
                  <a:pt x="0" y="19041"/>
                </a:lnTo>
                <a:lnTo>
                  <a:pt x="0" y="19041"/>
                </a:lnTo>
                <a:lnTo>
                  <a:pt x="1685" y="19041"/>
                </a:lnTo>
                <a:lnTo>
                  <a:pt x="1685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4852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Idit Keidar; FuDiCO June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52280" y="0"/>
            <a:ext cx="604800" cy="6829560"/>
          </a:xfrm>
          <a:custGeom>
            <a:avLst/>
            <a:gdLst/>
            <a:ahLst/>
            <a:rect l="l" t="t" r="r" b="b"/>
            <a:pathLst>
              <a:path w="1686" h="18976">
                <a:moveTo>
                  <a:pt x="0" y="0"/>
                </a:moveTo>
                <a:lnTo>
                  <a:pt x="0" y="18975"/>
                </a:lnTo>
                <a:lnTo>
                  <a:pt x="559" y="18975"/>
                </a:lnTo>
                <a:lnTo>
                  <a:pt x="559" y="0"/>
                </a:lnTo>
                <a:lnTo>
                  <a:pt x="1124" y="0"/>
                </a:lnTo>
                <a:lnTo>
                  <a:pt x="1124" y="18975"/>
                </a:lnTo>
                <a:lnTo>
                  <a:pt x="1685" y="18975"/>
                </a:lnTo>
                <a:lnTo>
                  <a:pt x="1685" y="0"/>
                </a:lnTo>
                <a:lnTo>
                  <a:pt x="1685" y="651"/>
                </a:lnTo>
                <a:lnTo>
                  <a:pt x="0" y="651"/>
                </a:lnTo>
                <a:lnTo>
                  <a:pt x="0" y="1308"/>
                </a:lnTo>
                <a:lnTo>
                  <a:pt x="1685" y="1308"/>
                </a:lnTo>
                <a:lnTo>
                  <a:pt x="1685" y="1960"/>
                </a:lnTo>
                <a:lnTo>
                  <a:pt x="0" y="1960"/>
                </a:lnTo>
                <a:lnTo>
                  <a:pt x="0" y="2617"/>
                </a:lnTo>
                <a:lnTo>
                  <a:pt x="1685" y="2617"/>
                </a:lnTo>
                <a:lnTo>
                  <a:pt x="1685" y="3270"/>
                </a:lnTo>
                <a:lnTo>
                  <a:pt x="0" y="3270"/>
                </a:lnTo>
                <a:lnTo>
                  <a:pt x="0" y="3924"/>
                </a:lnTo>
                <a:lnTo>
                  <a:pt x="1685" y="3924"/>
                </a:lnTo>
                <a:lnTo>
                  <a:pt x="1685" y="4581"/>
                </a:lnTo>
                <a:lnTo>
                  <a:pt x="0" y="4581"/>
                </a:lnTo>
                <a:lnTo>
                  <a:pt x="0" y="5233"/>
                </a:lnTo>
                <a:lnTo>
                  <a:pt x="1685" y="5233"/>
                </a:lnTo>
                <a:lnTo>
                  <a:pt x="1685" y="5888"/>
                </a:lnTo>
                <a:lnTo>
                  <a:pt x="0" y="5888"/>
                </a:lnTo>
                <a:lnTo>
                  <a:pt x="0" y="6541"/>
                </a:lnTo>
                <a:lnTo>
                  <a:pt x="1685" y="6541"/>
                </a:lnTo>
                <a:lnTo>
                  <a:pt x="1685" y="7198"/>
                </a:lnTo>
                <a:lnTo>
                  <a:pt x="0" y="7198"/>
                </a:lnTo>
                <a:lnTo>
                  <a:pt x="0" y="7852"/>
                </a:lnTo>
                <a:lnTo>
                  <a:pt x="1685" y="7852"/>
                </a:lnTo>
                <a:lnTo>
                  <a:pt x="1685" y="8504"/>
                </a:lnTo>
                <a:lnTo>
                  <a:pt x="0" y="8504"/>
                </a:lnTo>
                <a:lnTo>
                  <a:pt x="0" y="9161"/>
                </a:lnTo>
                <a:lnTo>
                  <a:pt x="1685" y="9161"/>
                </a:lnTo>
                <a:lnTo>
                  <a:pt x="1685" y="9814"/>
                </a:lnTo>
                <a:lnTo>
                  <a:pt x="0" y="9814"/>
                </a:lnTo>
                <a:lnTo>
                  <a:pt x="0" y="10471"/>
                </a:lnTo>
                <a:lnTo>
                  <a:pt x="1685" y="10471"/>
                </a:lnTo>
                <a:lnTo>
                  <a:pt x="1685" y="11123"/>
                </a:lnTo>
                <a:lnTo>
                  <a:pt x="0" y="11123"/>
                </a:lnTo>
                <a:lnTo>
                  <a:pt x="0" y="11776"/>
                </a:lnTo>
                <a:lnTo>
                  <a:pt x="1685" y="11776"/>
                </a:lnTo>
                <a:lnTo>
                  <a:pt x="1685" y="12432"/>
                </a:lnTo>
                <a:lnTo>
                  <a:pt x="0" y="12432"/>
                </a:lnTo>
                <a:lnTo>
                  <a:pt x="0" y="13085"/>
                </a:lnTo>
                <a:lnTo>
                  <a:pt x="1685" y="13085"/>
                </a:lnTo>
                <a:lnTo>
                  <a:pt x="1685" y="13742"/>
                </a:lnTo>
                <a:lnTo>
                  <a:pt x="0" y="13742"/>
                </a:lnTo>
                <a:lnTo>
                  <a:pt x="0" y="14395"/>
                </a:lnTo>
                <a:lnTo>
                  <a:pt x="1685" y="14395"/>
                </a:lnTo>
                <a:lnTo>
                  <a:pt x="1685" y="15052"/>
                </a:lnTo>
                <a:lnTo>
                  <a:pt x="0" y="15052"/>
                </a:lnTo>
                <a:lnTo>
                  <a:pt x="0" y="15705"/>
                </a:lnTo>
                <a:lnTo>
                  <a:pt x="1685" y="15705"/>
                </a:lnTo>
                <a:lnTo>
                  <a:pt x="1685" y="16358"/>
                </a:lnTo>
                <a:lnTo>
                  <a:pt x="0" y="16358"/>
                </a:lnTo>
                <a:lnTo>
                  <a:pt x="0" y="17015"/>
                </a:lnTo>
                <a:lnTo>
                  <a:pt x="1685" y="17015"/>
                </a:lnTo>
                <a:lnTo>
                  <a:pt x="1685" y="17667"/>
                </a:lnTo>
                <a:lnTo>
                  <a:pt x="0" y="17667"/>
                </a:lnTo>
                <a:lnTo>
                  <a:pt x="0" y="18323"/>
                </a:lnTo>
                <a:lnTo>
                  <a:pt x="1685" y="18323"/>
                </a:lnTo>
                <a:lnTo>
                  <a:pt x="1685" y="18975"/>
                </a:lnTo>
                <a:lnTo>
                  <a:pt x="0" y="18975"/>
                </a:lnTo>
                <a:lnTo>
                  <a:pt x="0" y="18975"/>
                </a:lnTo>
                <a:lnTo>
                  <a:pt x="1685" y="18975"/>
                </a:lnTo>
                <a:lnTo>
                  <a:pt x="1685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it Keidar; FuDiCO June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284B-746C-4912-A19C-FD2699566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879200"/>
            <a:ext cx="7767720" cy="195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s in Evaluating Distribut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4114800"/>
            <a:ext cx="6396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t Kei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chnion &amp; 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FuDiCo, Bertinoro, Jun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Round” Primi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258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624"/>
              </a:spcBef>
              <a:buClr>
                <a:srgbClr val="ffff00"/>
              </a:buClr>
              <a:buSzPct val="87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ed by some h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ffff00"/>
              </a:buClr>
              <a:buSzPct val="87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agates data from every host to every other host  connected to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ffff00"/>
              </a:buClr>
              <a:buSzPct val="87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implementa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19320" y="4038480"/>
            <a:ext cx="2966760" cy="2184480"/>
            <a:chOff x="1219320" y="4038480"/>
            <a:chExt cx="2966760" cy="2184480"/>
          </a:xfrm>
        </p:grpSpPr>
        <p:sp>
          <p:nvSpPr>
            <p:cNvPr id="141" name=""/>
            <p:cNvSpPr/>
            <p:nvPr/>
          </p:nvSpPr>
          <p:spPr>
            <a:xfrm>
              <a:off x="2185920" y="4494240"/>
              <a:ext cx="341280" cy="318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85920" y="4038480"/>
              <a:ext cx="341280" cy="3207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85920" y="5402160"/>
              <a:ext cx="341280" cy="3207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85920" y="4948200"/>
              <a:ext cx="341280" cy="320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44800" y="4559040"/>
              <a:ext cx="341280" cy="319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44800" y="4103640"/>
              <a:ext cx="341280" cy="3207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44800" y="5467320"/>
              <a:ext cx="341280" cy="3207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44800" y="5011560"/>
              <a:ext cx="341280" cy="320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32240" y="4298760"/>
              <a:ext cx="1330200" cy="39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32240" y="4298760"/>
              <a:ext cx="1330200" cy="84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32240" y="4298760"/>
              <a:ext cx="1330200" cy="129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32240" y="4754520"/>
              <a:ext cx="1330200" cy="38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32240" y="4754520"/>
              <a:ext cx="1330200" cy="84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532240" y="4363920"/>
              <a:ext cx="1330200" cy="38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532240" y="4429080"/>
              <a:ext cx="1382400" cy="12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532240" y="4752360"/>
              <a:ext cx="1330200" cy="90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532240" y="5271480"/>
              <a:ext cx="1330200" cy="39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8640" y="5856120"/>
              <a:ext cx="100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l-to-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523880" y="4267080"/>
              <a:ext cx="685800" cy="76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5180040"/>
              <a:ext cx="731880" cy="28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600200" y="4689000"/>
              <a:ext cx="58572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19320" y="4951440"/>
              <a:ext cx="341280" cy="318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181480" y="3962520"/>
            <a:ext cx="3500640" cy="2317680"/>
            <a:chOff x="5181480" y="3962520"/>
            <a:chExt cx="3500640" cy="2317680"/>
          </a:xfrm>
        </p:grpSpPr>
        <p:sp>
          <p:nvSpPr>
            <p:cNvPr id="164" name=""/>
            <p:cNvSpPr/>
            <p:nvPr/>
          </p:nvSpPr>
          <p:spPr>
            <a:xfrm>
              <a:off x="6547680" y="5913360"/>
              <a:ext cx="89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4114800"/>
              <a:ext cx="990360" cy="83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3480" y="4659120"/>
              <a:ext cx="801720" cy="44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513480" y="5181120"/>
              <a:ext cx="801720" cy="31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35800" y="4449600"/>
              <a:ext cx="346320" cy="344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35800" y="3962520"/>
              <a:ext cx="346320" cy="342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35800" y="5425920"/>
              <a:ext cx="346320" cy="342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35800" y="4935240"/>
              <a:ext cx="346320" cy="344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620120" y="4241520"/>
              <a:ext cx="715680" cy="78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0120" y="5181480"/>
              <a:ext cx="761760" cy="37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620120" y="4657680"/>
              <a:ext cx="715680" cy="44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62840" y="4449600"/>
              <a:ext cx="345960" cy="344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62840" y="3962520"/>
              <a:ext cx="345960" cy="342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62840" y="5425920"/>
              <a:ext cx="345960" cy="3427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410080" y="4241160"/>
              <a:ext cx="752760" cy="71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86400" y="5181480"/>
              <a:ext cx="746280" cy="31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486400" y="4659120"/>
              <a:ext cx="676440" cy="36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4952880"/>
              <a:ext cx="341280" cy="318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72200" y="4952880"/>
              <a:ext cx="341280" cy="318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15200" y="4952880"/>
              <a:ext cx="341280" cy="318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ment 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0000" cy="479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hosts: Taiwan, Korea, US academia, IS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-to-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(initia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ary leader (not initia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ically initiated at each ho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650 times over 3.5 d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all Running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psed time from initiation (at initiator) unti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osts term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estimating clock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cks not synchronized, 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ompute difference over short interv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 3 different way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hieve accuracy within 20 ms. on 90% of ru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0">
              <a:spcBef>
                <a:spcPts val="6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ser: Counting Rou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90720" y="1295280"/>
            <a:ext cx="1900080" cy="2497320"/>
            <a:chOff x="990720" y="1295280"/>
            <a:chExt cx="1900080" cy="2497320"/>
          </a:xfrm>
        </p:grpSpPr>
        <p:sp>
          <p:nvSpPr>
            <p:cNvPr id="190" name=""/>
            <p:cNvSpPr/>
            <p:nvPr/>
          </p:nvSpPr>
          <p:spPr>
            <a:xfrm>
              <a:off x="1611360" y="1828800"/>
              <a:ext cx="21600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11360" y="1295280"/>
              <a:ext cx="21600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11360" y="2894040"/>
              <a:ext cx="21600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2436840"/>
              <a:ext cx="21600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73360" y="1905120"/>
              <a:ext cx="21744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73360" y="1371600"/>
              <a:ext cx="21744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3360" y="2970360"/>
              <a:ext cx="21744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73360" y="2436840"/>
              <a:ext cx="21744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32040" y="1600200"/>
              <a:ext cx="8524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32040" y="1600200"/>
              <a:ext cx="852480" cy="9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32040" y="1600200"/>
              <a:ext cx="852480" cy="152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32040" y="2133720"/>
              <a:ext cx="852480" cy="45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2040" y="2133720"/>
              <a:ext cx="852480" cy="9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832040" y="1676520"/>
              <a:ext cx="8524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832040" y="1752480"/>
              <a:ext cx="885600" cy="14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832040" y="2131920"/>
              <a:ext cx="85248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832040" y="2741760"/>
              <a:ext cx="8524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06160" y="3425760"/>
              <a:ext cx="126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l-to-all: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143000" y="1600200"/>
              <a:ext cx="468360" cy="83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19320" y="2665440"/>
              <a:ext cx="4363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219320" y="2057400"/>
              <a:ext cx="392040" cy="45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2436840"/>
              <a:ext cx="21744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76720" y="2666880"/>
            <a:ext cx="2260440" cy="2498040"/>
            <a:chOff x="3276720" y="2666880"/>
            <a:chExt cx="2260440" cy="2498040"/>
          </a:xfrm>
        </p:grpSpPr>
        <p:sp>
          <p:nvSpPr>
            <p:cNvPr id="213" name=""/>
            <p:cNvSpPr/>
            <p:nvPr/>
          </p:nvSpPr>
          <p:spPr>
            <a:xfrm>
              <a:off x="3873960" y="4798080"/>
              <a:ext cx="1148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der: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37120" y="2895480"/>
              <a:ext cx="58716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37120" y="3429000"/>
              <a:ext cx="511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137120" y="3962520"/>
              <a:ext cx="511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15040" y="3200400"/>
              <a:ext cx="22212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15040" y="2666880"/>
              <a:ext cx="22212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15040" y="4267080"/>
              <a:ext cx="22212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15040" y="3733920"/>
              <a:ext cx="22212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800600" y="2971440"/>
              <a:ext cx="51444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76920" y="3962520"/>
              <a:ext cx="484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876920" y="3505320"/>
              <a:ext cx="457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8320" y="3733920"/>
              <a:ext cx="22068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11760" y="3200400"/>
              <a:ext cx="2206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11760" y="2666880"/>
              <a:ext cx="2206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11760" y="4267080"/>
              <a:ext cx="22068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11760" y="3733920"/>
              <a:ext cx="22068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29000" y="2971440"/>
              <a:ext cx="482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038480"/>
              <a:ext cx="45072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429000" y="3429000"/>
              <a:ext cx="48276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76720" y="3733920"/>
              <a:ext cx="22212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019920" y="3886200"/>
            <a:ext cx="2793960" cy="2498760"/>
            <a:chOff x="6019920" y="3886200"/>
            <a:chExt cx="2793960" cy="2498760"/>
          </a:xfrm>
        </p:grpSpPr>
        <p:sp>
          <p:nvSpPr>
            <p:cNvPr id="234" name=""/>
            <p:cNvSpPr/>
            <p:nvPr/>
          </p:nvSpPr>
          <p:spPr>
            <a:xfrm>
              <a:off x="6122880" y="6018120"/>
              <a:ext cx="2301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condary Leader: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24840" y="4114800"/>
              <a:ext cx="6998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224840" y="5179680"/>
              <a:ext cx="623880" cy="38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61520" y="4419720"/>
              <a:ext cx="25236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561520" y="38862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61520" y="54864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61520" y="495288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8001000" y="4191120"/>
              <a:ext cx="56052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77320" y="5181480"/>
              <a:ext cx="53496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077320" y="4648320"/>
              <a:ext cx="4842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48720" y="495288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67440" y="4419720"/>
              <a:ext cx="25236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67440" y="38862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67440" y="548640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67440" y="495288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629400" y="4191120"/>
              <a:ext cx="38088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29400" y="5257800"/>
              <a:ext cx="39060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4952880"/>
              <a:ext cx="252360" cy="376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9920" y="4419720"/>
              <a:ext cx="252360" cy="376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72200" y="4724280"/>
              <a:ext cx="30492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unting Overall Running Time</a:t>
            </a:r>
            <a:br>
              <a:rPr sz="4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rom MI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920000" cy="150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SzPct val="87000"/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g-measured latencies (IP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539"/>
              </a:spcBef>
              <a:buClr>
                <a:srgbClr val="ffffff"/>
              </a:buClr>
              <a:buSzPct val="99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est link latency 240 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539"/>
              </a:spcBef>
              <a:buClr>
                <a:srgbClr val="ffffff"/>
              </a:buClr>
              <a:buSzPct val="99000"/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est link to MIT 150 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657800" y="3429000"/>
            <a:ext cx="1995120" cy="2806920"/>
            <a:chOff x="1657800" y="3429000"/>
            <a:chExt cx="1995120" cy="2806920"/>
          </a:xfrm>
        </p:grpSpPr>
        <p:grpSp>
          <p:nvGrpSpPr>
            <p:cNvPr id="257" name=""/>
            <p:cNvGrpSpPr/>
            <p:nvPr/>
          </p:nvGrpSpPr>
          <p:grpSpPr>
            <a:xfrm>
              <a:off x="1746360" y="3429000"/>
              <a:ext cx="1906560" cy="2494080"/>
              <a:chOff x="1746360" y="3429000"/>
              <a:chExt cx="1906560" cy="2494080"/>
            </a:xfrm>
          </p:grpSpPr>
          <p:sp>
            <p:nvSpPr>
              <p:cNvPr id="258" name=""/>
              <p:cNvSpPr/>
              <p:nvPr/>
            </p:nvSpPr>
            <p:spPr>
              <a:xfrm>
                <a:off x="2368440" y="4078440"/>
                <a:ext cx="217440" cy="4586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368440" y="3429000"/>
                <a:ext cx="217440" cy="4586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368440" y="5372280"/>
                <a:ext cx="217440" cy="4586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357280" y="4816440"/>
                <a:ext cx="217800" cy="459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33680" y="4170240"/>
                <a:ext cx="219240" cy="45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33680" y="3522600"/>
                <a:ext cx="219240" cy="45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33680" y="5464080"/>
                <a:ext cx="219240" cy="45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33680" y="4816440"/>
                <a:ext cx="219240" cy="459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89120" y="3800520"/>
                <a:ext cx="855720" cy="554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589120" y="3800520"/>
                <a:ext cx="855720" cy="120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89120" y="3800520"/>
                <a:ext cx="855720" cy="184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89120" y="4448160"/>
                <a:ext cx="855720" cy="554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589120" y="4448160"/>
                <a:ext cx="855720" cy="1201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589120" y="3892320"/>
                <a:ext cx="855720" cy="55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589120" y="3984480"/>
                <a:ext cx="889200" cy="1757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2589120" y="4448160"/>
                <a:ext cx="855720" cy="1293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2589120" y="5186160"/>
                <a:ext cx="855720" cy="55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898640" y="3800520"/>
                <a:ext cx="469800" cy="1015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74960" y="5094360"/>
                <a:ext cx="438120" cy="36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74960" y="4354200"/>
                <a:ext cx="393480" cy="554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746360" y="4816440"/>
                <a:ext cx="217440" cy="4590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657800" y="5533560"/>
              <a:ext cx="18997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50+240 = 3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555160" y="3429000"/>
            <a:ext cx="2473920" cy="2818080"/>
            <a:chOff x="5555160" y="3429000"/>
            <a:chExt cx="2473920" cy="2818080"/>
          </a:xfrm>
        </p:grpSpPr>
        <p:grpSp>
          <p:nvGrpSpPr>
            <p:cNvPr id="281" name=""/>
            <p:cNvGrpSpPr/>
            <p:nvPr/>
          </p:nvGrpSpPr>
          <p:grpSpPr>
            <a:xfrm>
              <a:off x="5695920" y="3429000"/>
              <a:ext cx="2301480" cy="2495520"/>
              <a:chOff x="5695920" y="3429000"/>
              <a:chExt cx="2301480" cy="2495520"/>
            </a:xfrm>
          </p:grpSpPr>
          <p:sp>
            <p:nvSpPr>
              <p:cNvPr id="282" name=""/>
              <p:cNvSpPr/>
              <p:nvPr/>
            </p:nvSpPr>
            <p:spPr>
              <a:xfrm>
                <a:off x="6571080" y="3718080"/>
                <a:ext cx="597240" cy="10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571080" y="4390920"/>
                <a:ext cx="520920" cy="48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6571080" y="5064120"/>
                <a:ext cx="520920" cy="479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770600" y="4102200"/>
                <a:ext cx="226800" cy="4762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70600" y="3429000"/>
                <a:ext cx="226800" cy="4762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70600" y="5448240"/>
                <a:ext cx="226800" cy="4762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70600" y="4775040"/>
                <a:ext cx="226800" cy="4762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7246080" y="3814560"/>
                <a:ext cx="524160" cy="95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23840" y="5064120"/>
                <a:ext cx="492120" cy="48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7323840" y="4486320"/>
                <a:ext cx="465480" cy="48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92360" y="4775040"/>
                <a:ext cx="225360" cy="4762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42480" y="4102200"/>
                <a:ext cx="225360" cy="4762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342480" y="3429000"/>
                <a:ext cx="225360" cy="4762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42480" y="5448240"/>
                <a:ext cx="225360" cy="4762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42480" y="4775040"/>
                <a:ext cx="225360" cy="4762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850000" y="3814560"/>
                <a:ext cx="492120" cy="958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927760" y="5159520"/>
                <a:ext cx="459000" cy="38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850000" y="4390920"/>
                <a:ext cx="492120" cy="480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95920" y="4775040"/>
                <a:ext cx="227160" cy="4762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555160" y="5544720"/>
              <a:ext cx="2473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50+150+150 = 4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403200"/>
            <a:ext cx="79200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d Running Times </a:t>
            </a: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uns Initiated at MI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066680" y="2895480"/>
            <a:ext cx="7602480" cy="2969280"/>
            <a:chOff x="1066680" y="2895480"/>
            <a:chExt cx="7602480" cy="2969280"/>
          </a:xfrm>
        </p:grpSpPr>
        <p:grpSp>
          <p:nvGrpSpPr>
            <p:cNvPr id="304" name=""/>
            <p:cNvGrpSpPr/>
            <p:nvPr/>
          </p:nvGrpSpPr>
          <p:grpSpPr>
            <a:xfrm>
              <a:off x="1066680" y="2895480"/>
              <a:ext cx="7602480" cy="2449800"/>
              <a:chOff x="1066680" y="2895480"/>
              <a:chExt cx="7602480" cy="24498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1066680" y="4545360"/>
                <a:ext cx="1734480" cy="793080"/>
                <a:chOff x="1066680" y="4545360"/>
                <a:chExt cx="1734480" cy="7930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066680" y="4545360"/>
                  <a:ext cx="1734480" cy="793080"/>
                </a:xfrm>
                <a:prstGeom prst="roundRect">
                  <a:avLst>
                    <a:gd name="adj" fmla="val 19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066680" y="4545360"/>
                  <a:ext cx="173448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% runs over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2 secon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066680" y="3787200"/>
                <a:ext cx="1734480" cy="753120"/>
                <a:chOff x="1066680" y="3787200"/>
                <a:chExt cx="1734480" cy="7531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066680" y="3787200"/>
                  <a:ext cx="1734480" cy="753120"/>
                </a:xfrm>
                <a:prstGeom prst="roundRect">
                  <a:avLst>
                    <a:gd name="adj" fmla="val 20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066680" y="3787200"/>
                  <a:ext cx="1734480" cy="70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37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Average (runs under 2 sec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1066680" y="2895480"/>
                <a:ext cx="1734480" cy="88848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6713640" y="2895480"/>
                <a:ext cx="1950480" cy="892440"/>
                <a:chOff x="6713640" y="2895480"/>
                <a:chExt cx="1950480" cy="892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713640" y="2895480"/>
                  <a:ext cx="1950480" cy="886680"/>
                </a:xfrm>
                <a:prstGeom prst="roundRect">
                  <a:avLst>
                    <a:gd name="adj" fmla="val 17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713640" y="2895480"/>
                  <a:ext cx="1950480" cy="89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Sec. Lead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overall    loc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360" y="2895480"/>
                <a:ext cx="1950480" cy="892440"/>
                <a:chOff x="4761360" y="2895480"/>
                <a:chExt cx="1950480" cy="8924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761360" y="2895480"/>
                  <a:ext cx="1950480" cy="886680"/>
                </a:xfrm>
                <a:prstGeom prst="roundRect">
                  <a:avLst>
                    <a:gd name="adj" fmla="val 17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360" y="2895480"/>
                  <a:ext cx="1950480" cy="89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   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Lead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overall    loc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805840" y="2895480"/>
                <a:ext cx="1950480" cy="892440"/>
                <a:chOff x="2805840" y="2895480"/>
                <a:chExt cx="1950480" cy="8924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805840" y="2895480"/>
                  <a:ext cx="1950480" cy="886680"/>
                </a:xfrm>
                <a:prstGeom prst="roundRect">
                  <a:avLst>
                    <a:gd name="adj" fmla="val 176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05840" y="2895480"/>
                  <a:ext cx="1950480" cy="89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All-to-a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overall    loc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7691400" y="4545360"/>
                <a:ext cx="972720" cy="793080"/>
                <a:chOff x="7691400" y="4545360"/>
                <a:chExt cx="972720" cy="793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691400" y="4545360"/>
                  <a:ext cx="972720" cy="793080"/>
                </a:xfrm>
                <a:prstGeom prst="roundRect">
                  <a:avLst>
                    <a:gd name="adj" fmla="val 19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691400" y="4545360"/>
                  <a:ext cx="972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713640" y="4545360"/>
                <a:ext cx="972720" cy="793080"/>
                <a:chOff x="6713640" y="4545360"/>
                <a:chExt cx="972720" cy="7930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713640" y="4545360"/>
                  <a:ext cx="972720" cy="793080"/>
                </a:xfrm>
                <a:prstGeom prst="roundRect">
                  <a:avLst>
                    <a:gd name="adj" fmla="val 19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13640" y="4545360"/>
                  <a:ext cx="972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9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737320" y="4545360"/>
                <a:ext cx="972720" cy="793080"/>
                <a:chOff x="5737320" y="4545360"/>
                <a:chExt cx="972720" cy="7930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737320" y="4545360"/>
                  <a:ext cx="972720" cy="793080"/>
                </a:xfrm>
                <a:prstGeom prst="roundRect">
                  <a:avLst>
                    <a:gd name="adj" fmla="val 19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737320" y="4545360"/>
                  <a:ext cx="972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6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761360" y="4545360"/>
                <a:ext cx="972720" cy="793080"/>
                <a:chOff x="4761360" y="4545360"/>
                <a:chExt cx="972720" cy="7930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761360" y="4545360"/>
                  <a:ext cx="972720" cy="793080"/>
                </a:xfrm>
                <a:prstGeom prst="roundRect">
                  <a:avLst>
                    <a:gd name="adj" fmla="val 19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761360" y="4545360"/>
                  <a:ext cx="972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13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3783960" y="4545360"/>
                <a:ext cx="972720" cy="793080"/>
                <a:chOff x="3783960" y="4545360"/>
                <a:chExt cx="972720" cy="7930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783960" y="4545360"/>
                  <a:ext cx="972720" cy="793080"/>
                </a:xfrm>
                <a:prstGeom prst="roundRect">
                  <a:avLst>
                    <a:gd name="adj" fmla="val 19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783960" y="4545360"/>
                  <a:ext cx="972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805840" y="4545360"/>
                <a:ext cx="973080" cy="793080"/>
                <a:chOff x="2805840" y="4545360"/>
                <a:chExt cx="973080" cy="793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805840" y="4545360"/>
                  <a:ext cx="973080" cy="793080"/>
                </a:xfrm>
                <a:prstGeom prst="roundRect">
                  <a:avLst>
                    <a:gd name="adj" fmla="val 19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805840" y="4545360"/>
                  <a:ext cx="973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55%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7691400" y="3787200"/>
                <a:ext cx="972720" cy="753120"/>
                <a:chOff x="7691400" y="3787200"/>
                <a:chExt cx="972720" cy="753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7691400" y="3787200"/>
                  <a:ext cx="972720" cy="753120"/>
                </a:xfrm>
                <a:prstGeom prst="roundRect">
                  <a:avLst>
                    <a:gd name="adj" fmla="val 20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691400" y="3787200"/>
                  <a:ext cx="972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40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713640" y="3787200"/>
                <a:ext cx="972720" cy="753120"/>
                <a:chOff x="6713640" y="3787200"/>
                <a:chExt cx="972720" cy="753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713640" y="3787200"/>
                  <a:ext cx="972720" cy="753120"/>
                </a:xfrm>
                <a:prstGeom prst="roundRect">
                  <a:avLst>
                    <a:gd name="adj" fmla="val 20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713640" y="3787200"/>
                  <a:ext cx="972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58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737320" y="3787200"/>
                <a:ext cx="972720" cy="753120"/>
                <a:chOff x="5737320" y="3787200"/>
                <a:chExt cx="972720" cy="753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737320" y="3787200"/>
                  <a:ext cx="972720" cy="753120"/>
                </a:xfrm>
                <a:prstGeom prst="roundRect">
                  <a:avLst>
                    <a:gd name="adj" fmla="val 20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737320" y="3787200"/>
                  <a:ext cx="972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33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4761360" y="3787200"/>
                <a:ext cx="972720" cy="753120"/>
                <a:chOff x="4761360" y="3787200"/>
                <a:chExt cx="972720" cy="753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761360" y="3787200"/>
                  <a:ext cx="972720" cy="753120"/>
                </a:xfrm>
                <a:prstGeom prst="roundRect">
                  <a:avLst>
                    <a:gd name="adj" fmla="val 20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761360" y="3787200"/>
                  <a:ext cx="972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54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783960" y="3787200"/>
                <a:ext cx="972720" cy="753120"/>
                <a:chOff x="3783960" y="3787200"/>
                <a:chExt cx="972720" cy="753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783960" y="3787200"/>
                  <a:ext cx="972720" cy="753120"/>
                </a:xfrm>
                <a:prstGeom prst="roundRect">
                  <a:avLst>
                    <a:gd name="adj" fmla="val 20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783960" y="3787200"/>
                  <a:ext cx="97272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29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805840" y="3787200"/>
                <a:ext cx="973080" cy="753120"/>
                <a:chOff x="2805840" y="3787200"/>
                <a:chExt cx="973080" cy="753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805840" y="3787200"/>
                  <a:ext cx="973080" cy="753120"/>
                </a:xfrm>
                <a:prstGeom prst="roundRect">
                  <a:avLst>
                    <a:gd name="adj" fmla="val 208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805840" y="3787200"/>
                  <a:ext cx="973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39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8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1066680" y="2895480"/>
                <a:ext cx="7602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066680" y="4545360"/>
                <a:ext cx="7602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66680" y="5345280"/>
                <a:ext cx="7602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66680" y="2895480"/>
                <a:ext cx="0" cy="2449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61360" y="2895480"/>
                <a:ext cx="0" cy="244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713640" y="2895480"/>
                <a:ext cx="0" cy="244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669160" y="2895480"/>
                <a:ext cx="0" cy="2449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66680" y="3787200"/>
                <a:ext cx="7602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83960" y="3787200"/>
                <a:ext cx="0" cy="1557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37320" y="3787200"/>
                <a:ext cx="0" cy="1557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691400" y="3787200"/>
                <a:ext cx="0" cy="1557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05840" y="2895480"/>
                <a:ext cx="0" cy="2449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671560" y="5406480"/>
              <a:ext cx="4194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unning times in millisec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Going O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high  loss rates on two lin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2% and 3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iwan to two US IS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rates on other links up to 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on loss, TCP’s timeout is 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round-trip-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-to-all sends messages on lossy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delayed by l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ion of Running Time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p to 1.3 sec. at M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295280" y="2133720"/>
          <a:ext cx="7012080" cy="334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133720"/>
                    <a:ext cx="7012080" cy="33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403200"/>
            <a:ext cx="79200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d Running Times </a:t>
            </a:r>
            <a:br>
              <a:rPr sz="44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uns Initiated at Taiw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066680" y="2666880"/>
            <a:ext cx="7602480" cy="2451240"/>
            <a:chOff x="1066680" y="2666880"/>
            <a:chExt cx="7602480" cy="2451240"/>
          </a:xfrm>
        </p:grpSpPr>
        <p:grpSp>
          <p:nvGrpSpPr>
            <p:cNvPr id="377" name=""/>
            <p:cNvGrpSpPr/>
            <p:nvPr/>
          </p:nvGrpSpPr>
          <p:grpSpPr>
            <a:xfrm>
              <a:off x="1066680" y="4318560"/>
              <a:ext cx="1734480" cy="794520"/>
              <a:chOff x="1066680" y="4318560"/>
              <a:chExt cx="1734480" cy="794520"/>
            </a:xfrm>
          </p:grpSpPr>
          <p:sp>
            <p:nvSpPr>
              <p:cNvPr id="378" name=""/>
              <p:cNvSpPr/>
              <p:nvPr/>
            </p:nvSpPr>
            <p:spPr>
              <a:xfrm>
                <a:off x="1066680" y="4318560"/>
                <a:ext cx="1734480" cy="79452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66680" y="4318560"/>
                <a:ext cx="173448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% runs ove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2 secon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066680" y="3560040"/>
              <a:ext cx="1734480" cy="754920"/>
              <a:chOff x="1066680" y="3560040"/>
              <a:chExt cx="1734480" cy="754920"/>
            </a:xfrm>
          </p:grpSpPr>
          <p:sp>
            <p:nvSpPr>
              <p:cNvPr id="381" name=""/>
              <p:cNvSpPr/>
              <p:nvPr/>
            </p:nvSpPr>
            <p:spPr>
              <a:xfrm>
                <a:off x="1066680" y="3560040"/>
                <a:ext cx="1734480" cy="7549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066680" y="3560040"/>
                <a:ext cx="17344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Average (runs over 2 sec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1066680" y="2666880"/>
              <a:ext cx="1734480" cy="888480"/>
            </a:xfrm>
            <a:prstGeom prst="roundRect">
              <a:avLst>
                <a:gd name="adj" fmla="val 17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6713640" y="2666880"/>
              <a:ext cx="1950480" cy="892440"/>
              <a:chOff x="6713640" y="2666880"/>
              <a:chExt cx="1950480" cy="892440"/>
            </a:xfrm>
          </p:grpSpPr>
          <p:sp>
            <p:nvSpPr>
              <p:cNvPr id="385" name=""/>
              <p:cNvSpPr/>
              <p:nvPr/>
            </p:nvSpPr>
            <p:spPr>
              <a:xfrm>
                <a:off x="6713640" y="2666880"/>
                <a:ext cx="1950480" cy="88848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13640" y="2666880"/>
                <a:ext cx="1950480" cy="89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ec. L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overall    l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4761360" y="2666880"/>
              <a:ext cx="1950480" cy="892440"/>
              <a:chOff x="4761360" y="2666880"/>
              <a:chExt cx="1950480" cy="892440"/>
            </a:xfrm>
          </p:grpSpPr>
          <p:sp>
            <p:nvSpPr>
              <p:cNvPr id="388" name=""/>
              <p:cNvSpPr/>
              <p:nvPr/>
            </p:nvSpPr>
            <p:spPr>
              <a:xfrm>
                <a:off x="4761360" y="2666880"/>
                <a:ext cx="1950480" cy="88848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61360" y="2666880"/>
                <a:ext cx="1950480" cy="89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L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overall    l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2805840" y="2666880"/>
              <a:ext cx="1950480" cy="892440"/>
              <a:chOff x="2805840" y="2666880"/>
              <a:chExt cx="1950480" cy="892440"/>
            </a:xfrm>
          </p:grpSpPr>
          <p:sp>
            <p:nvSpPr>
              <p:cNvPr id="391" name=""/>
              <p:cNvSpPr/>
              <p:nvPr/>
            </p:nvSpPr>
            <p:spPr>
              <a:xfrm>
                <a:off x="2805840" y="2666880"/>
                <a:ext cx="1950480" cy="888480"/>
              </a:xfrm>
              <a:prstGeom prst="roundRect">
                <a:avLst>
                  <a:gd name="adj" fmla="val 17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05840" y="2666880"/>
                <a:ext cx="1950480" cy="89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All-to-a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overall    l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691400" y="4318560"/>
              <a:ext cx="972720" cy="794520"/>
              <a:chOff x="7691400" y="4318560"/>
              <a:chExt cx="972720" cy="794520"/>
            </a:xfrm>
          </p:grpSpPr>
          <p:sp>
            <p:nvSpPr>
              <p:cNvPr id="394" name=""/>
              <p:cNvSpPr/>
              <p:nvPr/>
            </p:nvSpPr>
            <p:spPr>
              <a:xfrm>
                <a:off x="7691400" y="4318560"/>
                <a:ext cx="972720" cy="79452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91400" y="4318560"/>
                <a:ext cx="972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7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713640" y="4318560"/>
              <a:ext cx="972720" cy="794520"/>
              <a:chOff x="6713640" y="4318560"/>
              <a:chExt cx="972720" cy="794520"/>
            </a:xfrm>
          </p:grpSpPr>
          <p:sp>
            <p:nvSpPr>
              <p:cNvPr id="397" name=""/>
              <p:cNvSpPr/>
              <p:nvPr/>
            </p:nvSpPr>
            <p:spPr>
              <a:xfrm>
                <a:off x="6713640" y="4318560"/>
                <a:ext cx="972720" cy="79452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13640" y="4318560"/>
                <a:ext cx="972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13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737320" y="4318560"/>
              <a:ext cx="972720" cy="794520"/>
              <a:chOff x="5737320" y="4318560"/>
              <a:chExt cx="972720" cy="794520"/>
            </a:xfrm>
          </p:grpSpPr>
          <p:sp>
            <p:nvSpPr>
              <p:cNvPr id="400" name=""/>
              <p:cNvSpPr/>
              <p:nvPr/>
            </p:nvSpPr>
            <p:spPr>
              <a:xfrm>
                <a:off x="5737320" y="4318560"/>
                <a:ext cx="972720" cy="79452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37320" y="4318560"/>
                <a:ext cx="972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43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761360" y="4318560"/>
              <a:ext cx="972720" cy="794520"/>
              <a:chOff x="4761360" y="4318560"/>
              <a:chExt cx="972720" cy="794520"/>
            </a:xfrm>
          </p:grpSpPr>
          <p:sp>
            <p:nvSpPr>
              <p:cNvPr id="403" name=""/>
              <p:cNvSpPr/>
              <p:nvPr/>
            </p:nvSpPr>
            <p:spPr>
              <a:xfrm>
                <a:off x="4761360" y="4318560"/>
                <a:ext cx="972720" cy="79452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61360" y="4318560"/>
                <a:ext cx="972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6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783960" y="4318560"/>
              <a:ext cx="972720" cy="794520"/>
              <a:chOff x="3783960" y="4318560"/>
              <a:chExt cx="972720" cy="794520"/>
            </a:xfrm>
          </p:grpSpPr>
          <p:sp>
            <p:nvSpPr>
              <p:cNvPr id="406" name=""/>
              <p:cNvSpPr/>
              <p:nvPr/>
            </p:nvSpPr>
            <p:spPr>
              <a:xfrm>
                <a:off x="3783960" y="4318560"/>
                <a:ext cx="972720" cy="79452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83960" y="4318560"/>
                <a:ext cx="972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805840" y="4318560"/>
              <a:ext cx="973080" cy="794520"/>
              <a:chOff x="2805840" y="4318560"/>
              <a:chExt cx="973080" cy="794520"/>
            </a:xfrm>
          </p:grpSpPr>
          <p:sp>
            <p:nvSpPr>
              <p:cNvPr id="409" name=""/>
              <p:cNvSpPr/>
              <p:nvPr/>
            </p:nvSpPr>
            <p:spPr>
              <a:xfrm>
                <a:off x="2805840" y="4318560"/>
                <a:ext cx="973080" cy="794520"/>
              </a:xfrm>
              <a:prstGeom prst="roundRect">
                <a:avLst>
                  <a:gd name="adj" fmla="val 19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05840" y="431856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54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691400" y="3560040"/>
              <a:ext cx="972720" cy="754920"/>
              <a:chOff x="7691400" y="3560040"/>
              <a:chExt cx="972720" cy="754920"/>
            </a:xfrm>
          </p:grpSpPr>
          <p:sp>
            <p:nvSpPr>
              <p:cNvPr id="412" name=""/>
              <p:cNvSpPr/>
              <p:nvPr/>
            </p:nvSpPr>
            <p:spPr>
              <a:xfrm>
                <a:off x="7691400" y="3560040"/>
                <a:ext cx="972720" cy="7549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691400" y="3560040"/>
                <a:ext cx="972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0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6713640" y="3560040"/>
              <a:ext cx="972720" cy="754920"/>
              <a:chOff x="6713640" y="3560040"/>
              <a:chExt cx="972720" cy="754920"/>
            </a:xfrm>
          </p:grpSpPr>
          <p:sp>
            <p:nvSpPr>
              <p:cNvPr id="415" name=""/>
              <p:cNvSpPr/>
              <p:nvPr/>
            </p:nvSpPr>
            <p:spPr>
              <a:xfrm>
                <a:off x="6713640" y="3560040"/>
                <a:ext cx="972720" cy="7549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13640" y="3560040"/>
                <a:ext cx="972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67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37320" y="3560040"/>
              <a:ext cx="972720" cy="754920"/>
              <a:chOff x="5737320" y="3560040"/>
              <a:chExt cx="972720" cy="754920"/>
            </a:xfrm>
          </p:grpSpPr>
          <p:sp>
            <p:nvSpPr>
              <p:cNvPr id="418" name=""/>
              <p:cNvSpPr/>
              <p:nvPr/>
            </p:nvSpPr>
            <p:spPr>
              <a:xfrm>
                <a:off x="5737320" y="3560040"/>
                <a:ext cx="972720" cy="7549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737320" y="3560040"/>
                <a:ext cx="972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84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761360" y="3560040"/>
              <a:ext cx="972720" cy="754920"/>
              <a:chOff x="4761360" y="3560040"/>
              <a:chExt cx="972720" cy="754920"/>
            </a:xfrm>
          </p:grpSpPr>
          <p:sp>
            <p:nvSpPr>
              <p:cNvPr id="421" name=""/>
              <p:cNvSpPr/>
              <p:nvPr/>
            </p:nvSpPr>
            <p:spPr>
              <a:xfrm>
                <a:off x="4761360" y="3560040"/>
                <a:ext cx="972720" cy="7549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61360" y="3560040"/>
                <a:ext cx="972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11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783960" y="3560040"/>
              <a:ext cx="972720" cy="754920"/>
              <a:chOff x="3783960" y="3560040"/>
              <a:chExt cx="972720" cy="754920"/>
            </a:xfrm>
          </p:grpSpPr>
          <p:sp>
            <p:nvSpPr>
              <p:cNvPr id="424" name=""/>
              <p:cNvSpPr/>
              <p:nvPr/>
            </p:nvSpPr>
            <p:spPr>
              <a:xfrm>
                <a:off x="3783960" y="3560040"/>
                <a:ext cx="972720" cy="7549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83960" y="3560040"/>
                <a:ext cx="972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4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805840" y="3560040"/>
              <a:ext cx="973080" cy="754920"/>
              <a:chOff x="2805840" y="3560040"/>
              <a:chExt cx="973080" cy="754920"/>
            </a:xfrm>
          </p:grpSpPr>
          <p:sp>
            <p:nvSpPr>
              <p:cNvPr id="427" name=""/>
              <p:cNvSpPr/>
              <p:nvPr/>
            </p:nvSpPr>
            <p:spPr>
              <a:xfrm>
                <a:off x="2805840" y="3560040"/>
                <a:ext cx="973080" cy="7549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05840" y="3560040"/>
                <a:ext cx="973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3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86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1066680" y="2666880"/>
              <a:ext cx="760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66680" y="4318560"/>
              <a:ext cx="760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66680" y="5118120"/>
              <a:ext cx="7602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66680" y="2666880"/>
              <a:ext cx="0" cy="245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61360" y="2666880"/>
              <a:ext cx="0" cy="245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3640" y="2666880"/>
              <a:ext cx="0" cy="245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669160" y="2666880"/>
              <a:ext cx="0" cy="245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66680" y="3560040"/>
              <a:ext cx="760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83960" y="3560040"/>
              <a:ext cx="0" cy="155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37320" y="3560040"/>
              <a:ext cx="0" cy="155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91400" y="3560040"/>
              <a:ext cx="0" cy="155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05840" y="2666880"/>
              <a:ext cx="0" cy="245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701440" y="5788440"/>
            <a:ext cx="4194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times in milli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ion of Running Tim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Taiw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295280" y="2133720"/>
          <a:ext cx="6864480" cy="3282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133720"/>
                    <a:ext cx="686448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Algorithm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pects: Performance, reliability, availability,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ory: define models, metr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ulations: define model, metr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mental: choose environment, patterns, metrics,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ment II: Removing Taiw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0000" cy="45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1200" indent="-3312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 running times much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240" indent="-2754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very initiator and algorithm, less than 10% over 2 secon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-to-all overall still worse than oth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240" indent="-2754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ther Leader or Secondary Leader best, depending on initi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240" indent="-2754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s rates of 2% - 8% are not neglig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240" indent="-27540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-to-all sends O(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messages; suff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200" indent="-33120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, all-to-all has best local running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ability of Delay due to Lo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000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ll links would have same lat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 1% loss on all links; 10 hosts (n=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sends 3(n-1) = 27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ability of at least one loss: 1 -.9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7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4%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-2-all sends n(n-1) = 90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ability of at least one loss: 1 -.9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90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reality, links don’t have same lat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loss on long links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0">
              <a:spcBef>
                <a:spcPts val="6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periment 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0000"/>
              </a:lnSpc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ssage loss causes high variation in TCP link lat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atency distribution has high variance, heavy 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tency distribution determines expected cost of sending O(n) concurrent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stant distribution -&gt; con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ponential distribution -&gt; Log(n) [RS9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orse for heavier ta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ondary leader help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triangle ine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fferent for overall vs. local running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 Now, Back to Theory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umber of rounds not sufficient met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.g., One-to-all and all-to-all have different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fine metric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ay which “kind” of roun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bound for asynchronous consensus – 2 rounds, but of which kin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xos does it i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 transmission from one to quorum +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539"/>
              </a:spcBef>
              <a:buClr>
                <a:srgbClr val="ffffff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 transmission from quorum to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Dalgeval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tributed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alg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thm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eva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920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: Develop realistic ways to evaluate distributed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 data on failures, performance in various 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data to create models for pred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retical analysis and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ment to validate pred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algorithms to optimize for correct metr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gnificance of Metrics/Mod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s depend on choice of  model/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gorithms designed to optimize specific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s should be simple to work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make simplifying assumption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amples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mplifying Assump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complex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essages take equal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a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unded potential number of failures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independent of system life s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D mode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failures (e.g., message lo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failures equally lik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0">
              <a:spcBef>
                <a:spcPts val="6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Time Complexity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 metric: # synchronous r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asynchronous “step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lying assumption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rounds / steps cost the s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0">
              <a:spcBef>
                <a:spcPts val="6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879200"/>
            <a:ext cx="7767720" cy="195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formance Evaluatio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a Communication Round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572000"/>
            <a:ext cx="6396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mar Bakr &amp; Idit Kei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ppear in PODC 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of many distributed algorithms,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nsus, atomic commit, replication, group membership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ts send data to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ly to all connected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metric for evaluating algorithms: number of r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est way to implement a communication round over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entralized vs. central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long is a communication round over the Intern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all communication rounds the s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0000" cy="11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 is Ha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is unpredictable, diverse,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answers for different topologies, differen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spcBef>
                <a:spcPts val="726"/>
              </a:spcBef>
              <a:buClr>
                <a:srgbClr val="ffff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performance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 running time at a h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all running time from first start to last fin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0">
              <a:spcBef>
                <a:spcPts val="72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8:50:00Z</dcterms:created>
  <dc:creator/>
  <dc:description/>
  <dc:language>en-US</dc:language>
  <cp:lastModifiedBy>Idit Keidar</cp:lastModifiedBy>
  <cp:lastPrinted>2002-03-22T18:28:28Z</cp:lastPrinted>
  <dcterms:modified xsi:type="dcterms:W3CDTF">2002-06-07T19:13:05Z</dcterms:modified>
  <cp:revision>130</cp:revision>
  <dc:subject/>
  <dc:title>On the Performance  of Consensus Algorithms:  Theory and Practi</dc:title>
</cp:coreProperties>
</file>